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8519-2485-4019-95BD-EA53FD2C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A989-6F8D-4695-8E95-A3974A64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4760-8D13-4489-954A-DACE2B7C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7356-9118-4001-9899-2D7FC703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F57-0935-4F0D-8965-AE2130FC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3E72-9982-409A-B61C-2117D7D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404-51D6-4919-BACA-41BCBD9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4E6-98D7-4967-9457-24A3B91A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A40D-1051-46F6-AB69-1476D7B8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7BD-C811-4990-860A-04119DD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702A-4A3E-46EA-8AF4-BE384A8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A603-A2C7-4B52-B771-611898F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77B-7AD2-4E33-AC45-BA21E28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326-02F4-45D9-A261-D27D2F3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F442-2230-4674-B05F-3576512C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C824-2A31-454E-9D5E-8C877A0C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1F5B-2501-4145-A0A3-79DDCB10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66EA-4E9D-4BA8-841B-A606AB2C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D35B-E21B-471F-B2CB-7561E999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A9C5-FA51-4893-92EC-401CE1C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1F82-9F52-46F8-8F2E-247E3CC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150E-86E7-4577-B917-6F670B0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A344-A3D3-4B9C-9FE5-453BD3D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E575-9478-4190-9474-1DC274D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EC22-FBB8-4A0B-A8A8-1C887327B1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2D8C-B2A5-4BAC-840A-C0A303062C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835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32000" y="1989000"/>
            <a:ext cx="6562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RMINOS MAS USUAL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Carrera de la Rata 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421000"/>
            <a:ext cx="64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 de vida que nos tiene prisioneros de nuestros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gresos Activ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ormalmente en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Relación de Dependenc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y sin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Capacidad de Ahor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55640" y="69228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Libertad Financier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421000"/>
            <a:ext cx="64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ando el total de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gresos Pasiv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pera el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otal de Gast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 persona y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 necesi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inuar trabajando en Relación de Depend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135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a Carrera de la Rat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o Trabaja por el Diner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sos ACTIVO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Libertad Financier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Dinero trabaja para U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sos PA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1356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ACTIVO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que genera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ngresos Pasiv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(Flujo Positivo de Fondos).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quileres, Dividendos, Participación 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resa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PASIV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 que genera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lujo Negativ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on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a propia!!!, auto particular!!!, etc.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4:23:42Z</dcterms:created>
  <dc:creator>Bj</dc:creator>
  <dc:description/>
  <dc:language>en-US</dc:language>
  <cp:lastModifiedBy>Bj</cp:lastModifiedBy>
  <dcterms:modified xsi:type="dcterms:W3CDTF">2007-03-31T11:30:38Z</dcterms:modified>
  <cp:revision>28</cp:revision>
  <dc:subject/>
  <dc:title>CA$HFLOW</dc:title>
</cp:coreProperties>
</file>