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wmf" ContentType="image/x-wm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AA07-AA81-425E-8883-CD1B083D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524E-0BC8-4C7D-8089-2DF2D277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2FEA-4DF7-42DE-8C01-24959972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C303-C093-40F5-BD24-8D6EC519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173B-362F-4391-9F1B-305CEEE7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65AF-A250-4EB2-8F99-9543C456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17A9-F976-4AF8-AADF-20E5B06C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0134-1F98-4545-8AE6-44151934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3DF9-C6C9-4E9F-BBE1-377D5768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FF3C-4BAA-45F0-AAAD-73428911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9619-C1D0-4A14-9E9B-F393E001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346E-3EC7-4739-BC1E-BFA5ED5B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E625-6C9B-4D1C-B4A5-E8CB27D2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DF48-EC6A-4A57-8795-3CDF632D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6C27-7D3C-47A2-870D-A0A100B2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112C-5368-4F7D-933F-39715E94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31E0-62B2-4C93-91C8-6A3D5BEB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096E-C0F0-485C-AFAD-E48106B4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3364-276F-4750-9BF3-A5648CCC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9A9C-178C-46C1-B753-3DFCCFDB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224C-F486-4907-85D3-C7B12189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EB48-F90E-484F-B165-A402FB1F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65B3-6360-46F4-A8C1-D55BB248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8B6-8812-4935-A1AE-9C83D083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DBD6-5542-4244-BFA1-D97D166B528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F2F8-5A6B-4F43-9F7F-9EFCA29C620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¡¡¡ Como salir de l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rrera de la Rata 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340000" y="1341360"/>
            <a:ext cx="5256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A$HFLO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Parte 1: La Carrera de La Rata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bjetiv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sar lo antes posible a la Vía Rápid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ómo lo logro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erando un 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INGRESO PASIVO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ayor que el TOTAL DE GAST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Parte 2: La Vìa Ràpida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mo ganar el juego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OPCION 1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omprar el SUEÑO elegido al comienz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Còmo lo logro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Generando suficiente EFECTIVO para pagar de contado el valor del SUEÑ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Parte 2: La Vìa Ràpida</a:t>
            </a:r>
            <a:br>
              <a:rPr sz="4000"/>
            </a:b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mo ganar el juego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OPCION 2: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Obtener un </a:t>
            </a:r>
            <a:r>
              <a:rPr b="0" lang="es-ES_tradnl" sz="2400" spc="-1" strike="noStrike">
                <a:solidFill>
                  <a:srgbClr val="ffff99"/>
                </a:solidFill>
                <a:latin typeface="Verdana"/>
              </a:rPr>
              <a:t>INGRESO FINAL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igual a:  (Ingreso Pasivo CDLR x 100) + $ 50.0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Còmo lo logro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omprando </a:t>
            </a:r>
            <a:r>
              <a:rPr b="1" lang="es-ES_tradnl" sz="2400" spc="-1" strike="noStrike">
                <a:solidFill>
                  <a:srgbClr val="33cc33"/>
                </a:solidFill>
                <a:latin typeface="Verdana"/>
              </a:rPr>
              <a:t>NEGOCIOS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(casillas verdes) que generen Flujo de Efectivo Positiv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SILLAS DEL JUEG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SUELDO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Cada vez que pase o caiga en esta casilla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Debe pedir su SUELDO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l Banco le entregarà su “Flujo de Efectivo Mensual”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Se suma a su EFECTIVO (Ahorro) disponibl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SILLAS DEL JUEG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427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99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OPORTUNIDAD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ompra de Activos para inversió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OPCIO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Tarjetas “Pequeños Negocios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Màximo Ingreso Pasivo:  $ 5.0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Tarjetas “Grandes Negocios”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Mìnimo Ingreso Pasivo: $ 6.0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SILLAS DEL JUEG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MERCADO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OPCIONAL u OBLIGATORI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Tarjeta “Mercado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Venta de Activos a otros jugado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Acontecimientos de Mercado que afectan su posiciòn financie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SILLAS DEL JUEG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PRICHOS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LIGATORI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rjeta “Caprichos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ementos en los que gasta su diner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previsto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uchas veces  innecesari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SILLAS DEL JUEG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RIDAD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CIONA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 decido donar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go 10% Ingresos Mensuales para Caridad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or única vez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edo usar 2 dados en los 3 próximos tiro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SILLAS DEL JUEG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EBÈ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LIGATORI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menta el número de hijo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máximo 3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jan el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Flujo de Efectivo Mensua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SILLAS DEL JUEG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DUCCION DE PERSONAL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LIGATORI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érdida temporal del Trabaj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ga al BANCO el Total de sus Gastos 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ierde 2 turn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42560" y="184428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00000" y="1916280"/>
            <a:ext cx="748836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eaeaea"/>
                </a:solidFill>
                <a:latin typeface="Impact"/>
              </a:rPr>
              <a:t>Elementos del Juego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eaeaea"/>
              </a:solidFill>
              <a:latin typeface="Impact"/>
              <a:ea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OTRAS POSIBIL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ESTAMOS BANCARIO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CIONA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rés de $ 100 por cada  $ 1.000 de préstamo (10%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últiplos de $ 1000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OTRAS POSIBIL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QUIDACION DE DEUD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CION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ducción de Gast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gos Totales para mayor simplicidad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cepto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éstamos Bancarios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astos Permanent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-3808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Impuestos, Gastos por Hijos, Otros Gasto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OTRAS POSIBIL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ANCARROT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BLIGATORI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 el “Flujo de Efectivo Mensual” es NEGATIVO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 No tiene EFECTIVO para pagar sus Deuda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843280" y="5589720"/>
            <a:ext cx="396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ANCARROTA 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771640" y="2708280"/>
            <a:ext cx="3830760" cy="3747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2050920" y="476280"/>
            <a:ext cx="5256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¡¡¡ A jugar !!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21844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El Tablero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560" y="232704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202520" cy="54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Las Tarjetas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2560" y="232704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76360" y="1440000"/>
            <a:ext cx="67676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940000" y="691920"/>
            <a:ext cx="2963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 Planilla de Juego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 Hoja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e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érdidas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y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anancias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+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alance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eneral 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Los Jugadores 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42560" y="232704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34544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El Banco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411280" y="1916280"/>
            <a:ext cx="3816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El Auditor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843280" y="1844640"/>
            <a:ext cx="31575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artes del Jueg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7488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 Carrera de La R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írculo Interior del Table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 Vía Rápid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írculo Exterior del Table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4:23:42Z</dcterms:created>
  <dc:creator>Bj</dc:creator>
  <dc:description/>
  <dc:language>en-US</dc:language>
  <cp:lastModifiedBy>Bj</cp:lastModifiedBy>
  <dcterms:modified xsi:type="dcterms:W3CDTF">2007-03-31T12:12:22Z</dcterms:modified>
  <cp:revision>41</cp:revision>
  <dc:subject/>
  <dc:title>CA$HFLOW</dc:title>
</cp:coreProperties>
</file>