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png" ContentType="image/png"/>
  <Override PartName="/ppt/media/image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0000" y="677520"/>
            <a:ext cx="451944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292640"/>
            <a:ext cx="5029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0FA2-F96E-4971-952B-3AF5DB1337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A61F-7635-4284-971C-F02A93EB02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8F1B-72B6-4909-8A99-7AA2EFAEDA6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A26B-2543-4813-9A18-1410BAF654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99520" y="4294080"/>
            <a:ext cx="6296040" cy="40658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ent behavior of U.S. bond yields has been a puzzle to everyone.  The question is why do 10-year Treasury bond yields remain unusually low despite (1) the progressive decline in economic slack as evidenced by sustained reduction in the unemployment rate [and the significant rise in the Fed’s capacity utilization index] and (2) the risk of inflation associated with it, in the light of which the Fed has raised the fed funds rate cumulatively by 275 basis point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1A5-B3ED-456F-80E6-070772E3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1E3-C06D-41EE-B208-37333F99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029-37DB-4F8D-A712-55048AB3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7B2-C56D-47B6-A49C-8841A739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FED8-BDD1-455E-A45B-CDF5A83F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E390-9E8A-4F37-8BB3-361E7353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5A6-9C5C-4526-A2D5-DE4374C3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B443-51DF-4EBF-B39B-D5834F30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929D-21BA-40D3-9382-475093EA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B4AC-6AA0-4C05-9C2A-B4A78B87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4B4A-2E57-41D4-82E2-08A11EDE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DED-38C0-4D59-807A-64C4B21B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AAA3-5254-4ABD-A41C-76C1F30A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09D8-165C-45C9-82B9-8C219B7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EC37-A4AC-4618-8C72-31110600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A208-1846-4A5F-80F6-760DBE55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E082-DEA8-498A-94C1-EF4B15AE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D12-6887-4815-99CF-8A17A12C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D9B-E475-440E-A216-88BCCDDC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881-111D-435C-87F1-2133A1E0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C8D-5FF4-4769-B544-15200754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AA9-54A7-468C-ACC7-B5CCC349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96E-685D-4BE0-904C-3583E2CE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5AA-F6B3-4989-BC06-88905CE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E473-126D-41A4-8811-8EA27BE5396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E949-05B2-4365-B8D8-24E021B6045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Alternativas de Inversión por medio del Mercado de Capitales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laudio Zuchovic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82296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6699"/>
                </a:solidFill>
                <a:latin typeface="Frutiger 45 Light"/>
              </a:rPr>
              <a:t>EEUU: Una “pausa” en el camino. ¿Definitiva o transitoria?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561080" cy="3876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12000" y="2637000"/>
            <a:ext cx="1265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Frutiger 45 Light"/>
              </a:rPr>
              <a:t>Fuente:</a:t>
            </a:r>
            <a:r>
              <a:rPr b="0" lang="es-AR" sz="12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s-AR" sz="1000" spc="-1" strike="noStrike">
                <a:solidFill>
                  <a:srgbClr val="000000"/>
                </a:solidFill>
                <a:latin typeface="Frutiger 45 Light"/>
              </a:rPr>
              <a:t>Bloom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47760" y="1157400"/>
            <a:ext cx="66484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Valores rela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47720" y="1881360"/>
          <a:ext cx="5848560" cy="396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1881360"/>
                    <a:ext cx="5848560" cy="39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EN INTER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tidad de contratos abier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Posiciones nue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posiciones que se cierr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un mercado vend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un mercado comprado.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1280" y="189000"/>
            <a:ext cx="7921440" cy="576000"/>
          </a:xfrm>
          <a:prstGeom prst="rect">
            <a:avLst/>
          </a:prstGeom>
          <a:solidFill>
            <a:srgbClr val="c2dad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aíses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IMPORTADORE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de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518680" cy="5361120"/>
          </a:xfrm>
          <a:prstGeom prst="rect">
            <a:avLst/>
          </a:prstGeom>
          <a:ln w="9360">
            <a:solidFill>
              <a:srgbClr val="3b812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676520" y="914400"/>
            <a:ext cx="7596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914400"/>
            <a:ext cx="6629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70cc7"/>
                </a:solidFill>
                <a:uFillTx/>
                <a:latin typeface="Arial"/>
              </a:rPr>
              <a:t>Relación Precio</a:t>
            </a:r>
            <a:r>
              <a:rPr b="1" lang="en-GB" sz="1800" spc="-1" strike="noStrike" u="sng">
                <a:solidFill>
                  <a:srgbClr val="070cc7"/>
                </a:solidFill>
                <a:uFillTx/>
                <a:latin typeface="Arial"/>
              </a:rPr>
              <a:t> </a:t>
            </a:r>
            <a:r>
              <a:rPr b="1" lang="es-AR" sz="1800" spc="-1" strike="noStrike" u="sng">
                <a:solidFill>
                  <a:srgbClr val="070cc7"/>
                </a:solidFill>
                <a:uFillTx/>
                <a:latin typeface="Arial"/>
              </a:rPr>
              <a:t>de las Commodities y Tasa de Crecimiento en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752480"/>
            <a:ext cx="763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75248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hina GDP Grow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08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Particularmente América Lat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74640" y="1701720"/>
          <a:ext cx="60962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70172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284120" y="1693800"/>
            <a:ext cx="350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4d4d4d"/>
                </a:solidFill>
                <a:latin typeface="Trebuchet MS"/>
              </a:rPr>
              <a:t>En porcentaje del total mund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9040" y="5581800"/>
            <a:ext cx="678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4d4d4d"/>
                </a:solidFill>
                <a:latin typeface="Trebuchet MS"/>
              </a:rPr>
              <a:t>Fuente: Diario Cronista Comercial, 15 de Junio de 2006. En base a datos de CEPAL (División Comercio Internacional e Integració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00880" y="1733400"/>
            <a:ext cx="17053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4d4d4d"/>
                </a:solidFill>
                <a:latin typeface="Trebuchet MS"/>
              </a:rPr>
              <a:t>Ran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208116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6720" y="24829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5280" y="36781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77360" y="28735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5280" y="32716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3200" y="44704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1400" y="48592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5280" y="406404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3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9960" y="5805360"/>
            <a:ext cx="834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4d4d4d"/>
                </a:solidFill>
                <a:latin typeface="Trebuchet MS"/>
              </a:rPr>
              <a:t>Las exportaciones de América Latina a China, pasaron de U$S 1.500 MM en 199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4d4d4d"/>
                </a:solidFill>
                <a:latin typeface="Trebuchet MS"/>
              </a:rPr>
              <a:t>a U$S 24.400 MM en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82360"/>
            <a:ext cx="7925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onsumo chino en algunos productos bás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El comercio mundial es el gran ganad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654480" y="5694480"/>
            <a:ext cx="2115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d4d4d"/>
                </a:solidFill>
                <a:latin typeface="Trebuchet MS"/>
              </a:rPr>
              <a:t>Fuente: The World Factbook, enero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5320" y="822240"/>
            <a:ext cx="7909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rebuchet MS"/>
              </a:rPr>
              <a:t>Creció 7.3% en 2005. Se espera 9.1% y 9.2% en 2006/7  </a:t>
            </a:r>
            <a:r>
              <a:rPr b="0" i="1" lang="es-AR" sz="1600" spc="-1" strike="noStrike">
                <a:solidFill>
                  <a:srgbClr val="000000"/>
                </a:solidFill>
                <a:latin typeface="Trebuchet MS"/>
              </a:rPr>
              <a:t>(OECD Economic Outlook-Dic 2005-Santander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4115"/>
          <a:stretch/>
        </p:blipFill>
        <p:spPr>
          <a:xfrm>
            <a:off x="1171440" y="1500120"/>
            <a:ext cx="6834240" cy="4068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96880" y="5747040"/>
            <a:ext cx="7924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d4d4d"/>
                </a:solidFill>
                <a:latin typeface="Arial"/>
              </a:rPr>
              <a:t>Europa: campeón de la Globaliz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Riesgo Paí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777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748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09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TAMAÑO DEL MERCADO DE CAPIT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5989680"/>
            <a:ext cx="815976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cado Mundial de Bonos: US$ 32.9 trillions 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cado Mundial de Acciones: US$ 35.0 trill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920" y="1677960"/>
            <a:ext cx="8499240" cy="4299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El Eclipse Cuantitativo del FMI</a:t>
            </a:r>
            <a:br>
              <a:rPr sz="3400"/>
            </a:br>
            <a:r>
              <a:rPr b="0" lang="en-GB" sz="2500" spc="-1" strike="noStrike" u="sng">
                <a:solidFill>
                  <a:srgbClr val="0d108b"/>
                </a:solidFill>
                <a:uFillTx/>
                <a:latin typeface="Garamond"/>
              </a:rPr>
              <a:t>Reservas Internacionales y Cuota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55640" y="1413000"/>
          <a:ext cx="7920000" cy="49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920000" cy="49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340000" y="4724280"/>
            <a:ext cx="28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s Cuotas del F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8280"/>
            <a:ext cx="35272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ervas Internacionale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3141720"/>
            <a:ext cx="792360" cy="503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66960" y="1971720"/>
            <a:ext cx="5346720" cy="3552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Más reserv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38160" y="977760"/>
            <a:ext cx="9067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rebuchet MS"/>
              </a:rPr>
              <a:t>Las reservas monetarias mundiales crecieron casi $ 500 billones en e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5160" y="5594400"/>
            <a:ext cx="58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4d4d4d"/>
                </a:solidFill>
                <a:latin typeface="Trebuchet MS"/>
              </a:rPr>
              <a:t>Fuente: Bloomberg,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Invers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Que hacemos con es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CER vs. Nomi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2296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06633"/>
                </a:solidFill>
                <a:latin typeface="Garamond"/>
              </a:rPr>
              <a:t>Revisemos algunos mit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ols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China vs. Bras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00360" y="1844640"/>
          <a:ext cx="5543280" cy="36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1844640"/>
                    <a:ext cx="554328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Mercado en Euros. Burbu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47640" y="1268280"/>
          <a:ext cx="619308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619308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EN LA BOLSA SON TODOS TIMBEROS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71640" y="1773360"/>
          <a:ext cx="734544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734544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las acciones no son seguras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14520" y="1484280"/>
          <a:ext cx="791496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484280"/>
                    <a:ext cx="79149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Índice general de la bol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844640"/>
          <a:ext cx="81356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1356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Volumen diar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2924280"/>
            <a:ext cx="2162160" cy="2162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1484280"/>
            <a:ext cx="2609640" cy="26100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7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La bolsa es negocio de largo plazo”</a:t>
            </a:r>
            <a:br>
              <a:rPr sz="3800"/>
            </a:b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Agosto 1945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248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Fortaleza Financier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38320"/>
            <a:ext cx="9144000" cy="0"/>
          </a:xfrm>
          <a:prstGeom prst="line">
            <a:avLst/>
          </a:prstGeom>
          <a:ln w="64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24000" y="1484280"/>
          <a:ext cx="80406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0406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03920" y="5875200"/>
            <a:ext cx="226728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Verdana"/>
              </a:rPr>
              <a:t>Fuente: Banco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838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ffffff"/>
                </a:solidFill>
                <a:latin typeface="Frutiger45-Light"/>
              </a:rPr>
              <a:t>El Sector en Latinoamér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4876920"/>
            <a:ext cx="8915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utiger45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Mala noticia: intermediación financiera rezagada en comparación a otras economías latinoamerica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utiger45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Buena noticia: alto potencial de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12716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Frutiger45-Light"/>
              </a:rPr>
              <a:t>Préstamos al Sector Privado sobre PBI en Latinoamérica –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7920" y="1600200"/>
          <a:ext cx="601956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0195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Quienes prestan pl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197000"/>
          <a:ext cx="914400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El mercado del lado del invers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uan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Don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En que instrume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ua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Garamond"/>
              </a:rPr>
              <a:t>Contexto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Tasa de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CRECIMIENTO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Global alta y sostenid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a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INFLACIÓN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a nivel mund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as tasas de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INTER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Precios altos de las materias prima, energia y otras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COMMO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o riesgo </a:t>
            </a:r>
            <a:r>
              <a:rPr b="1" i="1" lang="es-AR" sz="3000" spc="-1" strike="noStrike">
                <a:solidFill>
                  <a:srgbClr val="000000"/>
                </a:solidFill>
                <a:latin typeface="Arial"/>
              </a:rPr>
              <a:t>sistémico 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en los países emergentes y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BAJO RIESGO PAÍS</a:t>
            </a:r>
            <a:r>
              <a:rPr b="1" i="1" lang="es-A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domesticación de la deu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Tasa de interés</a:t>
            </a:r>
            <a:br>
              <a:rPr sz="3800"/>
            </a:b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       Bonos del Tesoro a 10 Añ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413000"/>
          <a:ext cx="89154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915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8317080" y="4653000"/>
            <a:ext cx="142560" cy="28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2060640"/>
            <a:ext cx="4033800" cy="1873080"/>
          </a:xfrm>
          <a:prstGeom prst="line">
            <a:avLst/>
          </a:prstGeom>
          <a:ln w="7632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371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94836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84720" y="328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1200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4360" y="28735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ct. Neg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06720" y="337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equ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8160" y="3736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sia-Ru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0T14:53:55Z</dcterms:created>
  <dc:creator>Usuario de Acer</dc:creator>
  <dc:description/>
  <dc:language>en-US</dc:language>
  <cp:lastModifiedBy>C.P.C.E.C.A.B.A.</cp:lastModifiedBy>
  <dcterms:modified xsi:type="dcterms:W3CDTF">2006-09-01T20:33:33Z</dcterms:modified>
  <cp:revision>118</cp:revision>
  <dc:subject/>
  <dc:title>Sin título de diapositiva</dc:title>
</cp:coreProperties>
</file>