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9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4.png" ContentType="image/png"/>
  <Override PartName="/ppt/media/image2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0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70000" y="677520"/>
            <a:ext cx="4519440" cy="33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292640"/>
            <a:ext cx="50292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6C3C-D82C-44CC-B1E2-09C2610E86B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88584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0EBE-CEAB-41FA-9F70-5CAD6B5035D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1440" y="679320"/>
            <a:ext cx="4521240" cy="3391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2600" y="4290840"/>
            <a:ext cx="503388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8584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4D98-5F42-4D74-8B30-88143809C99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3240" y="679320"/>
            <a:ext cx="4521240" cy="3391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2600" y="4290840"/>
            <a:ext cx="503388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88584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A973-A860-415B-9753-DF7E7CF4144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858492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71440" y="679320"/>
            <a:ext cx="4521240" cy="33912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2600" y="4290840"/>
            <a:ext cx="503388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99520" y="4294080"/>
            <a:ext cx="6296040" cy="406584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cent behavior of U.S. bond yields has been a puzzle to everyone.  The question is why do 10-year Treasury bond yields remain unusually low despite (1) the progressive decline in economic slack as evidenced by sustained reduction in the unemployment rate [and the significant rise in the Fed’s capacity utilization index] and (2) the risk of inflation associated with it, in the light of which the Fed has raised the fed funds rate cumulatively by 275 basis point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A5C3-54A6-4E4C-9FCA-33DA76D2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0734-77C0-444B-AB4A-C9C65A07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35EA-06F3-47E6-BED2-BB64A782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11B2-FCA3-4897-A2DF-094B3355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E2F5-2A70-4A49-BFF2-E5CD7699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10FD-9749-4440-8B22-912F4343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BA2F-BA4A-4049-A169-A3477CF6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5285-8843-4674-A94A-0713E580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FA42-9B76-4FE9-BD20-711FEBE3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8BE1-CED8-48BB-87E7-C64B7BB9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6871-3597-4461-B64F-5A25F798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9AD3-5ACA-4699-A9FD-C8F7A188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DC1A-87CF-499B-8CDB-52A9483B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3B93-55CE-44CD-B401-F867E46E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C975-369E-4770-B85A-2CF200B8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020E-E289-4C62-8E05-B024DDCA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1CDC-2575-45A0-93D5-C5CD37725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D7EE-689B-4FDE-BA69-742CA035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CD9A-C10D-47DB-8F34-213F0228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6383-E225-4BC0-A42F-4DA2192D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AC91-F696-48CE-A6D9-BB705972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5721-7AEF-4944-9692-86BFA3C4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63A5-7095-49E2-839E-2EF3D723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92AF-B167-4C60-940E-52204085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5A98-DBDC-4D05-8AAF-DF2EED004009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38A8-E426-4975-9832-2F855DDD3ACE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6633"/>
                </a:solidFill>
                <a:latin typeface="Garamond"/>
              </a:rPr>
              <a:t>Alternativas de Inversión por medio del Mercado de Capitales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Claudio Zuchovick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822960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6699"/>
                </a:solidFill>
                <a:latin typeface="Frutiger 45 Light"/>
              </a:rPr>
              <a:t>EEUU: Una “pausa” en el camino. ¿Definitiva o transitoria?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561080" cy="3876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012000" y="2637000"/>
            <a:ext cx="1265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Frutiger 45 Light"/>
              </a:rPr>
              <a:t>Fuente:</a:t>
            </a:r>
            <a:r>
              <a:rPr b="0" lang="es-AR" sz="1200" spc="-1" strike="noStrike">
                <a:solidFill>
                  <a:srgbClr val="000000"/>
                </a:solidFill>
                <a:latin typeface="Frutiger 45 Light"/>
              </a:rPr>
              <a:t> </a:t>
            </a:r>
            <a:r>
              <a:rPr b="0" lang="es-AR" sz="1000" spc="-1" strike="noStrike">
                <a:solidFill>
                  <a:srgbClr val="000000"/>
                </a:solidFill>
                <a:latin typeface="Frutiger 45 Light"/>
              </a:rPr>
              <a:t>Bloombe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47760" y="1157400"/>
            <a:ext cx="664848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Valores relativ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647720" y="1881360"/>
          <a:ext cx="5848560" cy="396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7720" y="1881360"/>
                    <a:ext cx="5848560" cy="39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OPEN INTERES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tidad de contratos abier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lejo de Posiciones nuev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lejo de posiciones que se cierr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lejo de un mercado vendid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lejo de un mercado comprado.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11280" y="189000"/>
            <a:ext cx="7921440" cy="576000"/>
          </a:xfrm>
          <a:prstGeom prst="rect">
            <a:avLst/>
          </a:prstGeom>
          <a:solidFill>
            <a:srgbClr val="c2dadc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aíses </a:t>
            </a:r>
            <a:r>
              <a:rPr b="1" lang="es-AR" sz="3200" spc="-1" strike="noStrike" u="sng">
                <a:solidFill>
                  <a:srgbClr val="000000"/>
                </a:solidFill>
                <a:uFillTx/>
                <a:latin typeface="Arial"/>
              </a:rPr>
              <a:t>IMPORTADORES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de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518680" cy="5361120"/>
          </a:xfrm>
          <a:prstGeom prst="rect">
            <a:avLst/>
          </a:prstGeom>
          <a:ln w="9360">
            <a:solidFill>
              <a:srgbClr val="3b812f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1676520" y="914400"/>
            <a:ext cx="7596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914400"/>
            <a:ext cx="6629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70cc7"/>
                </a:solidFill>
                <a:uFillTx/>
                <a:latin typeface="Arial"/>
              </a:rPr>
              <a:t>Relación Precio</a:t>
            </a:r>
            <a:r>
              <a:rPr b="1" lang="en-GB" sz="1800" spc="-1" strike="noStrike" u="sng">
                <a:solidFill>
                  <a:srgbClr val="070cc7"/>
                </a:solidFill>
                <a:uFillTx/>
                <a:latin typeface="Arial"/>
              </a:rPr>
              <a:t> </a:t>
            </a:r>
            <a:r>
              <a:rPr b="1" lang="es-AR" sz="1800" spc="-1" strike="noStrike" u="sng">
                <a:solidFill>
                  <a:srgbClr val="070cc7"/>
                </a:solidFill>
                <a:uFillTx/>
                <a:latin typeface="Arial"/>
              </a:rPr>
              <a:t>de las Commodities y Tasa de Crecimiento en Ch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1752480"/>
            <a:ext cx="7632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1752480"/>
            <a:ext cx="213372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hina GDP Grow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2080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MATERIAS PR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Particularmente América Latin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74640" y="1701720"/>
          <a:ext cx="60962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701720"/>
                    <a:ext cx="60962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1284120" y="1693800"/>
            <a:ext cx="3503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4d4d4d"/>
                </a:solidFill>
                <a:latin typeface="Trebuchet MS"/>
              </a:rPr>
              <a:t>En porcentaje del total mund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9040" y="5581800"/>
            <a:ext cx="678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4d4d4d"/>
                </a:solidFill>
                <a:latin typeface="Trebuchet MS"/>
              </a:rPr>
              <a:t>Fuente: Diario Cronista Comercial, 15 de Junio de 2006. En base a datos de CEPAL (División Comercio Internacional e Integració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00880" y="1733400"/>
            <a:ext cx="17053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4d4d4d"/>
                </a:solidFill>
                <a:latin typeface="Trebuchet MS"/>
              </a:rPr>
              <a:t>Rank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78800" y="2081160"/>
            <a:ext cx="1133280" cy="315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</a:rPr>
              <a:t>1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86720" y="2482920"/>
            <a:ext cx="1133280" cy="315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</a:rPr>
              <a:t>1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85280" y="3678120"/>
            <a:ext cx="1133280" cy="315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</a:rPr>
              <a:t>1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77360" y="2873520"/>
            <a:ext cx="1133280" cy="315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</a:rPr>
              <a:t>2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85280" y="3271680"/>
            <a:ext cx="1133280" cy="315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</a:rPr>
              <a:t>2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3200" y="4470480"/>
            <a:ext cx="1133280" cy="315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</a:rPr>
              <a:t>2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91400" y="4859280"/>
            <a:ext cx="1133280" cy="315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</a:rPr>
              <a:t>2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85280" y="4064040"/>
            <a:ext cx="1133280" cy="31572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36000" bIns="360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Trebuchet MS"/>
              </a:rPr>
              <a:t>3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9960" y="5805360"/>
            <a:ext cx="8345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4d4d4d"/>
                </a:solidFill>
                <a:latin typeface="Trebuchet MS"/>
              </a:rPr>
              <a:t>Las exportaciones de América Latina a China, pasaron de U$S 1.500 MM en 1990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4d4d4d"/>
                </a:solidFill>
                <a:latin typeface="Trebuchet MS"/>
              </a:rPr>
              <a:t>a U$S 24.400 MM en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882360"/>
            <a:ext cx="7925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Consumo chino en algunos productos bás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El comercio mundial es el gran ganad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"/>
          <p:cNvSpPr/>
          <p:nvPr/>
        </p:nvSpPr>
        <p:spPr>
          <a:xfrm>
            <a:off x="654480" y="5694480"/>
            <a:ext cx="2115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4d4d4d"/>
                </a:solidFill>
                <a:latin typeface="Trebuchet MS"/>
              </a:rPr>
              <a:t>Fuente: The World Factbook, enero 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5320" y="822240"/>
            <a:ext cx="7909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Trebuchet MS"/>
              </a:rPr>
              <a:t>Creció 7.3% en 2005. Se espera 9.1% y 9.2% en 2006/7  </a:t>
            </a:r>
            <a:r>
              <a:rPr b="0" i="1" lang="es-AR" sz="1600" spc="-1" strike="noStrike">
                <a:solidFill>
                  <a:srgbClr val="000000"/>
                </a:solidFill>
                <a:latin typeface="Trebuchet MS"/>
              </a:rPr>
              <a:t>(OECD Economic Outlook-Dic 2005-Santander)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4115"/>
          <a:stretch/>
        </p:blipFill>
        <p:spPr>
          <a:xfrm>
            <a:off x="1171440" y="1500120"/>
            <a:ext cx="6834240" cy="4068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96880" y="5747040"/>
            <a:ext cx="792468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4d4d4d"/>
                </a:solidFill>
                <a:latin typeface="Arial"/>
              </a:rPr>
              <a:t>Europa: campeón de la Globalizació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Riesgo Paí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777708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74872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2090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TAMAÑO DEL MERCADO DE CAPIT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5989680"/>
            <a:ext cx="8159760" cy="520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rcado Mundial de Bonos: US$ 32.9 trillions (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rcado Mundial de Acciones: US$ 35.0 trill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8920" y="1677960"/>
            <a:ext cx="8499240" cy="4299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6633"/>
                </a:solidFill>
                <a:latin typeface="Garamond"/>
              </a:rPr>
              <a:t>El Eclipse Cuantitativo del FMI</a:t>
            </a:r>
            <a:br>
              <a:rPr sz="3400"/>
            </a:br>
            <a:r>
              <a:rPr b="0" lang="en-GB" sz="2500" spc="-1" strike="noStrike" u="sng">
                <a:solidFill>
                  <a:srgbClr val="0d108b"/>
                </a:solidFill>
                <a:uFillTx/>
                <a:latin typeface="Garamond"/>
              </a:rPr>
              <a:t>Reservas Internacionales y Cuotas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755640" y="1413000"/>
          <a:ext cx="7920000" cy="497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13000"/>
                    <a:ext cx="7920000" cy="49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2340000" y="4724280"/>
            <a:ext cx="287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s Cuotas del F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00360" y="2708280"/>
            <a:ext cx="35272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ervas Internacionales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56000" y="3141720"/>
            <a:ext cx="792360" cy="5032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866960" y="1971720"/>
            <a:ext cx="5346720" cy="35528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Más reserv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"/>
          <p:cNvSpPr/>
          <p:nvPr/>
        </p:nvSpPr>
        <p:spPr>
          <a:xfrm>
            <a:off x="38160" y="977760"/>
            <a:ext cx="90676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rebuchet MS"/>
              </a:rPr>
              <a:t>Las reservas monetarias mundiales crecieron casi $ 500 billones en el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5160" y="5594400"/>
            <a:ext cx="58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4d4d4d"/>
                </a:solidFill>
                <a:latin typeface="Trebuchet MS"/>
              </a:rPr>
              <a:t>Fuente: Bloomberg, 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Invers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Que hacemos con est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CER vs. Nomin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1700280"/>
            <a:ext cx="822960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000" spc="-1" strike="noStrike">
                <a:solidFill>
                  <a:srgbClr val="006633"/>
                </a:solidFill>
                <a:latin typeface="Garamond"/>
              </a:rPr>
              <a:t>Revisemos algunos mito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Bols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China vs. Brasi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800360" y="1844640"/>
          <a:ext cx="5543280" cy="361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360" y="1844640"/>
                    <a:ext cx="5543280" cy="36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Mercado en Euros. Burbuj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547640" y="1268280"/>
          <a:ext cx="6193080" cy="391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268280"/>
                    <a:ext cx="6193080" cy="39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s-AR" sz="3800" spc="-1" strike="noStrike">
                <a:solidFill>
                  <a:srgbClr val="006633"/>
                </a:solidFill>
                <a:latin typeface="Garamond"/>
              </a:rPr>
              <a:t>EN LA BOLSA SON TODOS TIMBEROS”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71640" y="1773360"/>
          <a:ext cx="7345440" cy="41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73360"/>
                    <a:ext cx="734544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las acciones no son seguras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14520" y="1484280"/>
          <a:ext cx="7914960" cy="439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1484280"/>
                    <a:ext cx="791496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Índice general de la bols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24000" y="1844640"/>
          <a:ext cx="8135640" cy="42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44640"/>
                    <a:ext cx="813564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Volumen diar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2924280"/>
            <a:ext cx="2162160" cy="2162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1484280"/>
            <a:ext cx="2609640" cy="26100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1378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s-AR" sz="3800" spc="-1" strike="noStrike">
                <a:solidFill>
                  <a:srgbClr val="006633"/>
                </a:solidFill>
                <a:latin typeface="Garamond"/>
              </a:rPr>
              <a:t>La bolsa es negocio de largo plazo”</a:t>
            </a:r>
            <a:br>
              <a:rPr sz="3800"/>
            </a:br>
            <a:r>
              <a:rPr b="0" lang="es-AR" sz="3800" spc="-1" strike="noStrike">
                <a:solidFill>
                  <a:srgbClr val="006633"/>
                </a:solidFill>
                <a:latin typeface="Garamond"/>
              </a:rPr>
              <a:t>Agosto 1945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4248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6633"/>
                </a:solidFill>
                <a:latin typeface="Garamond"/>
              </a:rPr>
              <a:t>Fortaleza Financier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138320"/>
            <a:ext cx="9144000" cy="0"/>
          </a:xfrm>
          <a:prstGeom prst="line">
            <a:avLst/>
          </a:prstGeom>
          <a:ln w="64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24000" y="1484280"/>
          <a:ext cx="8040600" cy="51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04060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03920" y="5875200"/>
            <a:ext cx="2267280" cy="2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ffff"/>
                </a:solidFill>
                <a:latin typeface="Verdana"/>
              </a:rPr>
              <a:t>Fuente: Banco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8380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ffffff"/>
                </a:solidFill>
                <a:latin typeface="Frutiger45-Light"/>
              </a:rPr>
              <a:t>El Sector en Latinoaméric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4876920"/>
            <a:ext cx="8915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utiger45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Frutiger45-Light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Frutiger45-Light"/>
              </a:rPr>
              <a:t>Mala noticia: intermediación financiera rezagada en comparación a otras economías latinoamerica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utiger45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Frutiger45-Light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Frutiger45-Light"/>
              </a:rPr>
              <a:t>Buena noticia: alto potencial de crec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112716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Frutiger45-Light"/>
              </a:rPr>
              <a:t>Préstamos al Sector Privado sobre PBI en Latinoamérica –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447920" y="1600200"/>
          <a:ext cx="6019560" cy="317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00200"/>
                    <a:ext cx="601956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Quienes prestan plat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1197000"/>
          <a:ext cx="9144000" cy="496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200" spc="-1" strike="noStrike">
                <a:solidFill>
                  <a:srgbClr val="006633"/>
                </a:solidFill>
                <a:latin typeface="Garamond"/>
              </a:rPr>
              <a:t>El mercado del lado del invers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Cuand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Dond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En que instrumen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Arial"/>
              </a:rPr>
              <a:t>Cuan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Garamond"/>
              </a:rPr>
              <a:t>Contexto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Tasa de </a:t>
            </a:r>
            <a:r>
              <a:rPr b="1" lang="es-AR" sz="3000" spc="-1" strike="noStrike" u="sng">
                <a:solidFill>
                  <a:srgbClr val="990000"/>
                </a:solidFill>
                <a:uFillTx/>
                <a:latin typeface="Arial"/>
              </a:rPr>
              <a:t>CRECIMIENTO</a:t>
            </a: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 Global alta y sostenid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Baja </a:t>
            </a:r>
            <a:r>
              <a:rPr b="1" lang="es-AR" sz="3000" spc="-1" strike="noStrike" u="sng">
                <a:solidFill>
                  <a:srgbClr val="990000"/>
                </a:solidFill>
                <a:uFillTx/>
                <a:latin typeface="Arial"/>
              </a:rPr>
              <a:t>INFLACIÓN</a:t>
            </a: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 a nivel mund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Bajas tasas de </a:t>
            </a:r>
            <a:r>
              <a:rPr b="1" lang="es-AR" sz="3000" spc="-1" strike="noStrike" u="sng">
                <a:solidFill>
                  <a:srgbClr val="990000"/>
                </a:solidFill>
                <a:uFillTx/>
                <a:latin typeface="Arial"/>
              </a:rPr>
              <a:t>INTERÉ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Precios altos de las materias prima, energia y otras </a:t>
            </a:r>
            <a:r>
              <a:rPr b="1" lang="es-AR" sz="3000" spc="-1" strike="noStrike" u="sng">
                <a:solidFill>
                  <a:srgbClr val="990000"/>
                </a:solidFill>
                <a:uFillTx/>
                <a:latin typeface="Arial"/>
              </a:rPr>
              <a:t>COMMOD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Bajo riesgo </a:t>
            </a:r>
            <a:r>
              <a:rPr b="1" i="1" lang="es-AR" sz="3000" spc="-1" strike="noStrike">
                <a:solidFill>
                  <a:srgbClr val="000000"/>
                </a:solidFill>
                <a:latin typeface="Arial"/>
              </a:rPr>
              <a:t>sistémico </a:t>
            </a: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en los países emergentes y </a:t>
            </a:r>
            <a:r>
              <a:rPr b="1" lang="es-AR" sz="3000" spc="-1" strike="noStrike" u="sng">
                <a:solidFill>
                  <a:srgbClr val="990000"/>
                </a:solidFill>
                <a:uFillTx/>
                <a:latin typeface="Arial"/>
              </a:rPr>
              <a:t>BAJO RIESGO PAÍS</a:t>
            </a:r>
            <a:r>
              <a:rPr b="1" i="1" lang="es-A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domesticación de la deud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>
                <a:solidFill>
                  <a:srgbClr val="006633"/>
                </a:solidFill>
                <a:latin typeface="Garamond"/>
              </a:rPr>
              <a:t>      </a:t>
            </a:r>
            <a:r>
              <a:rPr b="1" lang="es-AR" sz="3800" spc="-1" strike="noStrike">
                <a:solidFill>
                  <a:srgbClr val="006633"/>
                </a:solidFill>
                <a:latin typeface="Garamond"/>
              </a:rPr>
              <a:t>Tasa de interés</a:t>
            </a:r>
            <a:br>
              <a:rPr sz="3800"/>
            </a:br>
            <a:r>
              <a:rPr b="1" lang="es-AR" sz="3800" spc="-1" strike="noStrike">
                <a:solidFill>
                  <a:srgbClr val="006633"/>
                </a:solidFill>
                <a:latin typeface="Garamond"/>
              </a:rPr>
              <a:t>       Bonos del Tesoro a 10 Añ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1413000"/>
          <a:ext cx="89154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89154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V="1">
            <a:off x="8317080" y="4653000"/>
            <a:ext cx="142560" cy="288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84720" y="2060640"/>
            <a:ext cx="4033800" cy="1873080"/>
          </a:xfrm>
          <a:prstGeom prst="line">
            <a:avLst/>
          </a:prstGeom>
          <a:ln w="76320">
            <a:solidFill>
              <a:srgbClr val="99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867280" y="3715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948360" y="414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284720" y="3284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812000" y="4653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4360" y="287352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Oct. Neg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06720" y="33764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Tequi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8160" y="37368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sia-Ru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30T14:53:55Z</dcterms:created>
  <dc:creator>Usuario de Acer</dc:creator>
  <dc:description/>
  <dc:language>en-US</dc:language>
  <cp:lastModifiedBy>C.P.C.E.C.A.B.A.</cp:lastModifiedBy>
  <dcterms:modified xsi:type="dcterms:W3CDTF">2006-09-01T20:33:33Z</dcterms:modified>
  <cp:revision>118</cp:revision>
  <dc:subject/>
  <dc:title>Sin título de diapositiva</dc:title>
</cp:coreProperties>
</file>