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wmf" ContentType="image/x-wmf"/>
  <Override PartName="/ppt/media/image9.jpeg" ContentType="image/jpeg"/>
  <Override PartName="/ppt/media/image2.wmf" ContentType="image/x-wmf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11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0BC3A-6B46-403D-9517-B96B0CF3FE92}" type="slidenum">
              <a:rPr b="0" lang="es-A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jemplo de los segu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jemplo de los segu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jemplo de los segu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765000"/>
            <a:ext cx="9144000" cy="142920"/>
          </a:xfrm>
          <a:prstGeom prst="rect">
            <a:avLst/>
          </a:prstGeom>
          <a:gradFill rotWithShape="0">
            <a:gsLst>
              <a:gs pos="0">
                <a:srgbClr val="669900"/>
              </a:gs>
              <a:gs pos="50000">
                <a:srgbClr val="99cc00"/>
              </a:gs>
              <a:gs pos="100000">
                <a:srgbClr val="66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" name=""/>
          <p:cNvGraphicFramePr/>
          <p:nvPr/>
        </p:nvGraphicFramePr>
        <p:xfrm>
          <a:off x="57240" y="12600"/>
          <a:ext cx="769680" cy="727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240" y="12600"/>
                    <a:ext cx="769680" cy="72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mailto:id@bcba.sba.com.ar" TargetMode="External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79280" y="1700280"/>
            <a:ext cx="8785440" cy="49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9900"/>
                </a:solidFill>
                <a:latin typeface="Arial"/>
              </a:rPr>
              <a:t>La Bolsa de Comercio de Buenos A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9900"/>
                </a:solidFill>
                <a:latin typeface="Arial"/>
              </a:rPr>
              <a:t>y el Mercado de Carbo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Lic. Irene Wasilevsk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Responsable de Investigación y Desarrollo de la BCB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Agosto 2006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826920" y="0"/>
            <a:ext cx="799488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Determinantes de la oferta y la demanda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79280" y="1065240"/>
            <a:ext cx="8785440" cy="56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Arial"/>
              </a:rPr>
              <a:t>Compra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70000"/>
              </a:lnSpc>
              <a:spcBef>
                <a:spcPts val="11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bierno de países Anexo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70000"/>
              </a:lnSpc>
              <a:spcBef>
                <a:spcPts val="11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presas privadas de países Anexo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70000"/>
              </a:lnSpc>
              <a:spcBef>
                <a:spcPts val="11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mediarios priv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70000"/>
              </a:lnSpc>
              <a:spcBef>
                <a:spcPts val="11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ndos multilater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Arial"/>
              </a:rPr>
              <a:t>Determinantes del precio interna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70000"/>
              </a:lnSpc>
              <a:spcBef>
                <a:spcPts val="11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lor de los permisos de la Unión Europea (EU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70000"/>
              </a:lnSpc>
              <a:spcBef>
                <a:spcPts val="11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ctores climát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70000"/>
              </a:lnSpc>
              <a:spcBef>
                <a:spcPts val="11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erta y compromiso de grandes jugadores: China, India, Ru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70000"/>
              </a:lnSpc>
              <a:spcBef>
                <a:spcPts val="11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turo del MD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Arial"/>
              </a:rPr>
              <a:t>Pautas del contr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70000"/>
              </a:lnSpc>
              <a:spcBef>
                <a:spcPts val="11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ado de avance del proye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70000"/>
              </a:lnSpc>
              <a:spcBef>
                <a:spcPts val="11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cesidad de financia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70000"/>
              </a:lnSpc>
              <a:spcBef>
                <a:spcPts val="11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todología aprob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70000"/>
              </a:lnSpc>
              <a:spcBef>
                <a:spcPts val="11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esgos de ejecu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70000"/>
              </a:lnSpc>
              <a:spcBef>
                <a:spcPts val="11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cio internacional de los certific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70000"/>
              </a:lnSpc>
              <a:spcBef>
                <a:spcPts val="11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esgos políticos del proye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826920" y="115920"/>
            <a:ext cx="799488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Situación de la Argentina en el MD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90520" y="1268280"/>
            <a:ext cx="8562960" cy="49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469800" y="1413000"/>
          <a:ext cx="8204400" cy="4279680"/>
        </p:xfrm>
        <a:graphic>
          <a:graphicData uri="http://schemas.openxmlformats.org/drawingml/2006/table">
            <a:tbl>
              <a:tblPr/>
              <a:tblGrid>
                <a:gridCol w="2735280"/>
                <a:gridCol w="2863800"/>
                <a:gridCol w="2605320"/>
              </a:tblGrid>
              <a:tr h="61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RCA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61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ros/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ros/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MD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1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1.98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 E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2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tr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0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0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37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0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9.3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"/>
          <p:cNvSpPr/>
          <p:nvPr/>
        </p:nvSpPr>
        <p:spPr>
          <a:xfrm>
            <a:off x="826920" y="115920"/>
            <a:ext cx="799488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Dimensión del mercado mundia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869760" y="90360"/>
            <a:ext cx="659484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El mercado de capitales y el MD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08000" y="1052640"/>
            <a:ext cx="9036000" cy="55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 indent="-3538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3946680"/>
                <a:tab algn="l" pos="7893000"/>
              </a:tabLst>
            </a:pPr>
            <a:r>
              <a:rPr b="1" lang="es-ES" sz="2400" spc="-1" strike="noStrike">
                <a:solidFill>
                  <a:srgbClr val="99cc00"/>
                </a:solidFill>
                <a:latin typeface="Arial"/>
              </a:rPr>
              <a:t>Funciones de la BC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3946680"/>
                <a:tab algn="l" pos="7893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Generación de un ámbito de negoci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3946680"/>
                <a:tab algn="l" pos="7893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ranspar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3946680"/>
                <a:tab algn="l" pos="7893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iquid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3946680"/>
                <a:tab algn="l" pos="7893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ifu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3946680"/>
                <a:tab algn="l" pos="7893000"/>
              </a:tabLst>
            </a:pPr>
            <a:r>
              <a:rPr b="1" lang="es-ES" sz="2400" spc="-1" strike="noStrike">
                <a:solidFill>
                  <a:srgbClr val="99cc00"/>
                </a:solidFill>
                <a:latin typeface="Arial"/>
              </a:rPr>
              <a:t>Etapas MD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3946680"/>
                <a:tab algn="l" pos="7893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apacit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3946680"/>
                <a:tab algn="l" pos="7893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mpulso de proyec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3946680"/>
                <a:tab algn="l" pos="7893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nión de oferta y demanda: rondas de negocios, reuniones bilater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3946680"/>
                <a:tab algn="l" pos="7893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ifusión y acceso a distintos participa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3946680"/>
                <a:tab algn="l" pos="7893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Negoci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849960" y="90360"/>
            <a:ext cx="415800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Rondas de negoc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95280" y="1268280"/>
            <a:ext cx="3600360" cy="24703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395280" y="4005360"/>
            <a:ext cx="3600360" cy="25844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148360" y="1268280"/>
            <a:ext cx="3600360" cy="25210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148360" y="4076640"/>
            <a:ext cx="360036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975600" y="115920"/>
            <a:ext cx="734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Partes interesadas: empresas y gobier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8000" y="1125360"/>
            <a:ext cx="9036000" cy="52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6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3946680"/>
                <a:tab algn="l" pos="78930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ino Uni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6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3946680"/>
                <a:tab algn="l" pos="78930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Banco Mund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6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3946680"/>
                <a:tab algn="l" pos="78930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lema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6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3946680"/>
                <a:tab algn="l" pos="78930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Jap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6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3946680"/>
                <a:tab algn="l" pos="78930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anad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6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3946680"/>
                <a:tab algn="l" pos="78930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itsubishi Secur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333440" y="2205000"/>
            <a:ext cx="6477120" cy="25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76280" indent="-476280" algn="ctr">
              <a:lnSpc>
                <a:spcPct val="11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Bolsa de Comercio de Buenos Ai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 algn="ctr">
              <a:lnSpc>
                <a:spcPct val="110000"/>
              </a:lnSpc>
              <a:spcBef>
                <a:spcPts val="139"/>
              </a:spcBef>
              <a:spcAft>
                <a:spcPts val="139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Investigación y Desarrollo de Mercado de Capita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 algn="ctr">
              <a:lnSpc>
                <a:spcPct val="110000"/>
              </a:lnSpc>
              <a:spcBef>
                <a:spcPts val="139"/>
              </a:spcBef>
              <a:spcAft>
                <a:spcPts val="139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id@bcba.sba.com.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 algn="ctr">
              <a:lnSpc>
                <a:spcPct val="110000"/>
              </a:lnSpc>
              <a:spcBef>
                <a:spcPts val="139"/>
              </a:spcBef>
              <a:spcAft>
                <a:spcPts val="139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4316-709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 algn="ctr">
              <a:lnSpc>
                <a:spcPct val="110000"/>
              </a:lnSpc>
              <a:spcBef>
                <a:spcPts val="139"/>
              </a:spcBef>
              <a:spcAft>
                <a:spcPts val="139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www.bcba.sba.com.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826920" y="73080"/>
            <a:ext cx="799488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Temario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79280" y="1065240"/>
            <a:ext cx="8785440" cy="46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230000"/>
              </a:lnSpc>
              <a:spcBef>
                <a:spcPts val="137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ercado de carbon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230000"/>
              </a:lnSpc>
              <a:spcBef>
                <a:spcPts val="137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ecanismo para un desarrollo limp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230000"/>
              </a:lnSpc>
              <a:spcBef>
                <a:spcPts val="137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l potencial de la Argentina en el nuevo merca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230000"/>
              </a:lnSpc>
              <a:spcBef>
                <a:spcPts val="137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ifras internaciona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230000"/>
              </a:lnSpc>
              <a:spcBef>
                <a:spcPts val="137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l papel de la Bolsa en el mercado de carbon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826920" y="73080"/>
            <a:ext cx="799488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El mercado de carbono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una oportunidad para las empresas argenti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295280" y="981000"/>
            <a:ext cx="6553440" cy="39592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258920" y="4592520"/>
            <a:ext cx="6624720" cy="21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99cc00"/>
                </a:solidFill>
                <a:latin typeface="Arial"/>
              </a:rPr>
              <a:t>Proyectos potencial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Mejoramiento de la eficiencia en el uso final de la energía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Mejoramiento de la eficiencia en la generación de energía;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Energías renovables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Rellenos Sanitarios (captación de CH4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Sustitución de combustibles;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Agricultura (reducción de emisiones de CH4 y N2O);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Procesos industriales (CO2 de la industria cementera, PFC y SF6);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Proyectos de absorción de emisiones (forestación y reforestación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826920" y="73080"/>
            <a:ext cx="799488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El Mercado de Carbono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1280" y="961920"/>
            <a:ext cx="8964720" cy="58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spcBef>
                <a:spcPts val="1001"/>
              </a:spcBef>
              <a:buClr>
                <a:srgbClr val="99cc00"/>
              </a:buClr>
              <a:buSzPct val="120000"/>
              <a:buFont typeface="Arial"/>
              <a:buChar char="•"/>
              <a:tabLst>
                <a:tab algn="l" pos="3767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99cc00"/>
                </a:solidFill>
                <a:latin typeface="Arial"/>
              </a:rPr>
              <a:t>Protocolo de Kioto</a:t>
            </a: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1001"/>
              </a:spcBef>
              <a:buClr>
                <a:srgbClr val="99cc00"/>
              </a:buClr>
              <a:buSzPct val="120000"/>
              <a:buFont typeface="Arial"/>
              <a:buChar char="•"/>
              <a:tabLst>
                <a:tab algn="l" pos="3767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99cc00"/>
                </a:solidFill>
                <a:latin typeface="Arial"/>
              </a:rPr>
              <a:t>Participantes</a:t>
            </a: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Anexo I: 39 países + economías en transi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1001"/>
              </a:spcBef>
              <a:tabLst>
                <a:tab algn="l" pos="0"/>
                <a:tab algn="l" pos="3767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No Anexo I: países en vías de desarrol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1001"/>
              </a:spcBef>
              <a:buClr>
                <a:srgbClr val="99cc00"/>
              </a:buClr>
              <a:buSzPct val="120000"/>
              <a:buFont typeface="Arial"/>
              <a:buChar char="•"/>
              <a:tabLst>
                <a:tab algn="l" pos="3767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99cc00"/>
                </a:solidFill>
                <a:latin typeface="Arial"/>
              </a:rPr>
              <a:t>Compromiso de reducción</a:t>
            </a: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5,2% de GEI sobre niveles de 199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1001"/>
              </a:spcBef>
              <a:buClr>
                <a:srgbClr val="99cc00"/>
              </a:buClr>
              <a:buSzPct val="120000"/>
              <a:buFont typeface="Arial"/>
              <a:buChar char="•"/>
              <a:tabLst>
                <a:tab algn="l" pos="3767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99cc00"/>
                </a:solidFill>
                <a:latin typeface="Arial"/>
              </a:rPr>
              <a:t>Período de compromiso</a:t>
            </a: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Primer período: 2008-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1001"/>
              </a:spcBef>
              <a:buClr>
                <a:srgbClr val="99cc00"/>
              </a:buClr>
              <a:buSzPct val="120000"/>
              <a:buFont typeface="Arial"/>
              <a:buChar char="•"/>
              <a:tabLst>
                <a:tab algn="l" pos="3767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99cc00"/>
                </a:solidFill>
                <a:latin typeface="Arial"/>
              </a:rPr>
              <a:t>Partes comprometidas</a:t>
            </a: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Gobiernos y empresas privad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1001"/>
              </a:spcBef>
              <a:buClr>
                <a:srgbClr val="99cc00"/>
              </a:buClr>
              <a:buSzPct val="120000"/>
              <a:buFont typeface="Arial"/>
              <a:buChar char="•"/>
              <a:tabLst>
                <a:tab algn="l" pos="3767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99cc00"/>
                </a:solidFill>
                <a:latin typeface="Arial"/>
              </a:rPr>
              <a:t>Forma de reducción</a:t>
            </a: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Políticas prop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1001"/>
              </a:spcBef>
              <a:tabLst>
                <a:tab algn="l" pos="0"/>
                <a:tab algn="l" pos="3767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Participar en proyectos de reducción extern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1001"/>
              </a:spcBef>
              <a:tabLst>
                <a:tab algn="l" pos="0"/>
                <a:tab algn="l" pos="3767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Compra de excedentes de permis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1001"/>
              </a:spcBef>
              <a:buClr>
                <a:srgbClr val="99cc00"/>
              </a:buClr>
              <a:buSzPct val="120000"/>
              <a:buFont typeface="Arial"/>
              <a:buChar char="•"/>
              <a:tabLst>
                <a:tab algn="l" pos="3767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99cc00"/>
                </a:solidFill>
                <a:latin typeface="Arial"/>
              </a:rPr>
              <a:t>Mecanismos de flexibilización</a:t>
            </a: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Mecanismo para un desarrollo limpio - </a:t>
            </a:r>
            <a:r>
              <a:rPr b="1" lang="es-AR" sz="1600" spc="-1" strike="noStrike">
                <a:solidFill>
                  <a:srgbClr val="99cc00"/>
                </a:solidFill>
                <a:latin typeface="Arial"/>
              </a:rPr>
              <a:t>C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1001"/>
              </a:spcBef>
              <a:tabLst>
                <a:tab algn="l" pos="0"/>
                <a:tab algn="l" pos="3767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Implementación conjunta - </a:t>
            </a:r>
            <a:r>
              <a:rPr b="1" lang="es-AR" sz="1600" spc="-1" strike="noStrike">
                <a:solidFill>
                  <a:srgbClr val="99cc00"/>
                </a:solidFill>
                <a:latin typeface="Arial"/>
              </a:rPr>
              <a:t>ER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1001"/>
              </a:spcBef>
              <a:tabLst>
                <a:tab algn="l" pos="0"/>
                <a:tab algn="l" pos="3767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Comercio de emisiones - </a:t>
            </a:r>
            <a:r>
              <a:rPr b="1" lang="es-AR" sz="1600" spc="-1" strike="noStrike">
                <a:solidFill>
                  <a:srgbClr val="99cc00"/>
                </a:solidFill>
                <a:latin typeface="Arial"/>
              </a:rPr>
              <a:t>AA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1001"/>
              </a:spcBef>
              <a:buClr>
                <a:srgbClr val="99cc00"/>
              </a:buClr>
              <a:buSzPct val="120000"/>
              <a:buFont typeface="Arial"/>
              <a:buChar char="•"/>
              <a:tabLst>
                <a:tab algn="l" pos="3767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99cc00"/>
                </a:solidFill>
                <a:latin typeface="Arial"/>
              </a:rPr>
              <a:t>Objetivos</a:t>
            </a: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Reducir las emisiones a nivel global</a:t>
            </a: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1001"/>
              </a:spcBef>
              <a:tabLst>
                <a:tab algn="l" pos="0"/>
                <a:tab algn="l" pos="3767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Reducir costos para economías desarrollad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1001"/>
              </a:spcBef>
              <a:tabLst>
                <a:tab algn="l" pos="0"/>
                <a:tab algn="l" pos="3767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Crecimiento en economías en desarrol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1001"/>
              </a:spcBef>
              <a:tabLst>
                <a:tab algn="l" pos="0"/>
                <a:tab algn="l" pos="3767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Transferencia de tecnologías limp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826920" y="73080"/>
            <a:ext cx="799488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Gases efecto invernadero comprometidos (GEI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50920" y="1628640"/>
            <a:ext cx="864072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826920" y="0"/>
            <a:ext cx="799488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Esquema del MD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236000" y="4365720"/>
            <a:ext cx="11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fic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3640" y="1139760"/>
            <a:ext cx="2195640" cy="5806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mpresa proponente del proyec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00680" y="1125360"/>
            <a:ext cx="2197080" cy="5806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utoridad Nacional Designa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00680" y="3592440"/>
            <a:ext cx="2197080" cy="5806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unta Ejecutiva del MD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700680" y="4826160"/>
            <a:ext cx="2197080" cy="5806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ffffff"/>
                </a:solidFill>
                <a:latin typeface="Arial"/>
              </a:rPr>
              <a:t>Intermediarios / Brokers / Invers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700680" y="6060960"/>
            <a:ext cx="2197080" cy="5806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ís desarrollado Anexo 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00680" y="2359080"/>
            <a:ext cx="2197080" cy="5806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tidad Operacional Designa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9280" y="1430280"/>
            <a:ext cx="2741400" cy="0"/>
          </a:xfrm>
          <a:prstGeom prst="line">
            <a:avLst/>
          </a:prstGeom>
          <a:ln w="34920">
            <a:solidFill>
              <a:srgbClr val="666699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82960" y="1154160"/>
            <a:ext cx="12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DD y E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45080" y="1444680"/>
            <a:ext cx="164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ta de aprob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959280" y="2665440"/>
            <a:ext cx="2741400" cy="0"/>
          </a:xfrm>
          <a:prstGeom prst="line">
            <a:avLst/>
          </a:prstGeom>
          <a:ln w="34920">
            <a:solidFill>
              <a:srgbClr val="666699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9280" y="1722600"/>
            <a:ext cx="0" cy="3409920"/>
          </a:xfrm>
          <a:prstGeom prst="line">
            <a:avLst/>
          </a:prstGeom>
          <a:ln w="349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370400" y="23875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DD y Carta de aprob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113600" y="3002040"/>
            <a:ext cx="1851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rte de validación + verific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12160" y="2954160"/>
            <a:ext cx="0" cy="581040"/>
          </a:xfrm>
          <a:prstGeom prst="line">
            <a:avLst/>
          </a:prstGeom>
          <a:ln w="34920">
            <a:solidFill>
              <a:srgbClr val="666699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9280" y="3898800"/>
            <a:ext cx="2741400" cy="0"/>
          </a:xfrm>
          <a:prstGeom prst="line">
            <a:avLst/>
          </a:prstGeom>
          <a:ln w="34920">
            <a:solidFill>
              <a:srgbClr val="666699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370400" y="360684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isión C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9280" y="5132520"/>
            <a:ext cx="2741400" cy="0"/>
          </a:xfrm>
          <a:prstGeom prst="line">
            <a:avLst/>
          </a:prstGeom>
          <a:ln w="34920">
            <a:solidFill>
              <a:srgbClr val="666699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73440" y="4842000"/>
            <a:ext cx="17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US$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573440" y="5146560"/>
            <a:ext cx="17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12160" y="5421240"/>
            <a:ext cx="0" cy="581040"/>
          </a:xfrm>
          <a:prstGeom prst="line">
            <a:avLst/>
          </a:prstGeom>
          <a:ln w="34920">
            <a:solidFill>
              <a:srgbClr val="666699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113600" y="5468760"/>
            <a:ext cx="18511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U$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C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91280" y="4216320"/>
            <a:ext cx="0" cy="581040"/>
          </a:xfrm>
          <a:prstGeom prst="line">
            <a:avLst/>
          </a:prstGeom>
          <a:ln w="34920">
            <a:solidFill>
              <a:srgbClr val="666699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920" y="2571840"/>
            <a:ext cx="3564000" cy="39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0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Preparación del proyec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0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Demostración de adicionalid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0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Definición de línea de b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0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Plan de monitoreo y verific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0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Aprobación por AND (Desarrollo sustentabl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0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Validación por EOD Independi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0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Consulta públ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0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Registración ante la JE del MD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0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Verificación inicial y anual por EO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0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Emisión de Cer por la 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2565360"/>
            <a:ext cx="3492360" cy="0"/>
          </a:xfrm>
          <a:prstGeom prst="line">
            <a:avLst/>
          </a:prstGeom>
          <a:ln w="158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-36360" y="6524640"/>
            <a:ext cx="3492360" cy="0"/>
          </a:xfrm>
          <a:prstGeom prst="line">
            <a:avLst/>
          </a:prstGeom>
          <a:ln w="158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826920" y="0"/>
            <a:ext cx="799488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El mercado de carbono en la actualidad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320760" y="1484280"/>
          <a:ext cx="8526240" cy="5051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760" y="1484280"/>
                    <a:ext cx="8526240" cy="505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826920" y="0"/>
            <a:ext cx="799488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El mercado de carbono en la actualidad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755640" y="1353960"/>
            <a:ext cx="7704000" cy="509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826920" y="0"/>
            <a:ext cx="799488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El mercado de carbono en la actualidad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1143" t="4272" r="3002" b="8912"/>
          <a:stretch/>
        </p:blipFill>
        <p:spPr>
          <a:xfrm>
            <a:off x="826920" y="2060640"/>
            <a:ext cx="7345440" cy="43927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332000" y="1197000"/>
            <a:ext cx="64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ncipales vendedores de reducciones basadas en proyec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2T12:25:55Z</dcterms:created>
  <dc:creator>IWasilevsky</dc:creator>
  <dc:description/>
  <dc:language>en-US</dc:language>
  <cp:lastModifiedBy>C.P.C.E.C.A.B.A.</cp:lastModifiedBy>
  <dcterms:modified xsi:type="dcterms:W3CDTF">2006-08-28T19:49:03Z</dcterms:modified>
  <cp:revision>64</cp:revision>
  <dc:subject/>
  <dc:title>Diapositiva 1</dc:title>
</cp:coreProperties>
</file>