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2E4-020E-40BD-A50A-9EEDEE867CA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5000"/>
            <a:ext cx="9144000" cy="1429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57240" y="12600"/>
          <a:ext cx="769680" cy="7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2600"/>
                    <a:ext cx="7696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d@bcba.sba.com.a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00280"/>
            <a:ext cx="8785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La Bolsa de Comercio de Buenos 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y el Mercado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c. Irene Wasilevs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sponsable de Investigación y Desarrollo de la BC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gosto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terminantes de la oferta y la dema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65240"/>
            <a:ext cx="8785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ierno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sas privadas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ri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dos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eterminantes del prec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 los permisos de la Unión Europea (E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cli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 y compromiso de grandes jugadores: China, India, R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o del 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autas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 de avanc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idad de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ología apro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 internacional de los cert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político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tuación de la Argentina en 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0520" y="1268280"/>
            <a:ext cx="8562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9800" y="1413000"/>
          <a:ext cx="8204400" cy="4279680"/>
        </p:xfrm>
        <a:graphic>
          <a:graphicData uri="http://schemas.openxmlformats.org/drawingml/2006/table">
            <a:tbl>
              <a:tblPr/>
              <a:tblGrid>
                <a:gridCol w="2735280"/>
                <a:gridCol w="2863800"/>
                <a:gridCol w="26053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98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.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mensión del mercado mundi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69760" y="90360"/>
            <a:ext cx="6594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ercado de capitales y el 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052640"/>
            <a:ext cx="90360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Funciones de la B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un ámbito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Etapas 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uls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ón de oferta y demanda: rondas de negocios, reuniones bilat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 y acceso a distint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960" y="90360"/>
            <a:ext cx="415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ondas de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600360" cy="247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600360" cy="258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5600" y="115920"/>
            <a:ext cx="734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tes interesadas: empresas y gobi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903600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subishi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3440" y="2205000"/>
            <a:ext cx="647712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 algn="ctr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lsa de Comercio de Buenos 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vestigación y Desarrollo de Mercado de Capi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d@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4316-70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www.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065240"/>
            <a:ext cx="878544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anismo para un desarrollo lim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otencial de la Argentina en el nuev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fras intern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apel de la Bolsa en el 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l mercado de carbon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a oportunidad para las empresas argen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981000"/>
            <a:ext cx="6553440" cy="395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4592520"/>
            <a:ext cx="662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99cc00"/>
                </a:solidFill>
                <a:latin typeface="Arial"/>
              </a:rPr>
              <a:t>Proyectos potenci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el uso final de la energí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la generación de energía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ergías renovabl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Rellenos Sanitarios (captación de CH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ustitución de combustibles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gricultura (reducción de emisiones de CH4 y N2O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s industriales (CO2 de la industria cementera, PFC y SF6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yectos de absorción de emisiones (forestación y reforestació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Mercado de Carbo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280" y="961920"/>
            <a:ext cx="896472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rotocolo de Kiot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icipante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exo I: 39 países + economías en tran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o Anexo I: países en ví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ompromiso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5,2% de GEI sobre niveles de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eríodo de compromis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imer período: 2008-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es comprometida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Gobiernos y 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Forma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olíticas pro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ticipar en proyectos de reducción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pra de excedentes de permi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Mecanismos de flexibiliza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canismo para un desarrollo limpio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mplementación conjunta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ercio de emisiones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A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Objetivo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las emisiones a nivel global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costos para economías desarrol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recimiento en economías en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ansferencia de tecnologías lim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ases efecto invernadero comprometidos (GE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squema d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4365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39760"/>
            <a:ext cx="219564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resa proponente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0680" y="11253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ridad N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0680" y="359244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ta Ejecutiva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0680" y="48261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termediarios / Brokers /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606096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ís desarrollado Anex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0680" y="235908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dad Oper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9280" y="143028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115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5080" y="14446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266544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9280" y="1722600"/>
            <a:ext cx="0" cy="340992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70400" y="238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13600" y="3002040"/>
            <a:ext cx="18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 de validación + 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12160" y="295416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389880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70400" y="36068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ión 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513252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3440" y="4842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S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3440" y="514656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12160" y="542124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13600" y="5468760"/>
            <a:ext cx="185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$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1280" y="421632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2571840"/>
            <a:ext cx="3564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epar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mostración de adi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inición de línea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 de monitoreo y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robación por AND (Desarrollo susten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lidación por EOD Indepe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gistración ante la JE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rificación inicial y anual por E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misión de Cer por la 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6360" y="652464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760" y="1484280"/>
          <a:ext cx="85262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484280"/>
                    <a:ext cx="85262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353960"/>
            <a:ext cx="770400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143" t="4272" r="3002" b="8912"/>
          <a:stretch/>
        </p:blipFill>
        <p:spPr>
          <a:xfrm>
            <a:off x="826920" y="2060640"/>
            <a:ext cx="734544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197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es vendedores de reducciones basadas en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25:55Z</dcterms:created>
  <dc:creator>IWasilevsky</dc:creator>
  <dc:description/>
  <dc:language>en-US</dc:language>
  <cp:lastModifiedBy>C.P.C.E.C.A.B.A.</cp:lastModifiedBy>
  <dcterms:modified xsi:type="dcterms:W3CDTF">2006-08-28T19:49:03Z</dcterms:modified>
  <cp:revision>64</cp:revision>
  <dc:subject/>
  <dc:title>Diapositiva 1</dc:title>
</cp:coreProperties>
</file>