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276960"/>
          <a:ext cx="91440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76960"/>
                    <a:ext cx="9144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0" y="0"/>
          <a:ext cx="914400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701028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gosto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1440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Consejo Profesional de Ciencias Económicas de la Ciudad Autónoma de Buenos A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5791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527b"/>
                </a:solidFill>
                <a:latin typeface="Interstate-Light"/>
              </a:rPr>
              <a:t>Arauca Bit AF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733920"/>
            <a:ext cx="775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527b"/>
                </a:solidFill>
                <a:latin typeface="Interstate-Light"/>
              </a:rPr>
              <a:t>2° Congreso Nacional e Internacional de Finanzas de la Empresa y Mercado de Ca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13372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527b"/>
                </a:solidFill>
                <a:latin typeface="Interstate-Light"/>
              </a:rPr>
              <a:t>Financiamiento a Larg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527b"/>
                </a:solidFill>
                <a:latin typeface="Interstate-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527b"/>
                </a:solidFill>
                <a:latin typeface="Interstate-Light"/>
              </a:rPr>
              <a:t>Cond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Fondos de Pensión al 31/07/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1371600"/>
          <a:ext cx="7924680" cy="49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92468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527b"/>
                </a:solidFill>
                <a:latin typeface="Interstate-Light"/>
              </a:rPr>
              <a:t>Requisistos a cumplir por un instrumento para ser adquirido por AFJP´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71800"/>
            <a:ext cx="8915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Ser transados en mercados secundarios transpar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 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(CNV RG 463/2004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Que brinden diariamente información veraz y precis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Accesibles al público en gene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72428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Poseer una calificación igual o superior a la mínima según el activo. (Registro de Calificadoras de Riesgo Art. 5° Decreto 656/9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2860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600" spc="-1" strike="noStrike">
                <a:solidFill>
                  <a:srgbClr val="00527b"/>
                </a:solidFill>
                <a:latin typeface="Interstate-Light"/>
              </a:rPr>
              <a:t>Autorizados para la oferta públ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447920" y="1092240"/>
          <a:ext cx="624816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92240"/>
                    <a:ext cx="624816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0880" y="6094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Duración estimada de la cart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914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La cuestión de la mon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971800"/>
            <a:ext cx="108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El monopolio de los ban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Temor a la infl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981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Vigencia de la ley de convert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La experiencia en Chile con la 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9907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La cuestión de la mon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276720"/>
            <a:ext cx="108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Escaso crédito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191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El fondeo bancario tradicional no pue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 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aplicarse al crédit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Necesidad de aumentar la tasa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La cuestión de la mon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962520"/>
            <a:ext cx="108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Disponer un seguro públ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876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Financiación con ajuste valor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2096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Eliminar la restricción de la ley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onvertibilidad para los instru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 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financiero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447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527b"/>
                </a:solidFill>
                <a:latin typeface="Interstate-Light"/>
              </a:rPr>
              <a:t>Posible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762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La cuestión de la mon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971800"/>
            <a:ext cx="1089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Acuerdo entre inversor calificado y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 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tomad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Responsabilidad de diversificación de la car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Repotenciación de la deu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447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527b"/>
                </a:solidFill>
                <a:latin typeface="Interstate-Light"/>
              </a:rPr>
              <a:t>Financiación con Ajuste Valor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Posibilidad de incorporar fut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Manejo de 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3:22:59Z</dcterms:created>
  <dc:creator>arauca</dc:creator>
  <dc:description/>
  <dc:language>en-US</dc:language>
  <cp:lastModifiedBy>C.P.C.E.C.A.B.A.</cp:lastModifiedBy>
  <cp:lastPrinted>2005-12-27T14:53:06Z</cp:lastPrinted>
  <dcterms:modified xsi:type="dcterms:W3CDTF">2006-08-31T12:13:09Z</dcterms:modified>
  <cp:revision>53</cp:revision>
  <dc:subject/>
  <dc:title>Sin título de diapositiva</dc:title>
</cp:coreProperties>
</file>