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A99-856D-420A-9136-93EF2C9E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E9C-59CB-421F-B67B-B37E1CC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319-0EC5-4C04-A037-7625EC06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065-9199-44F0-B229-3365DACC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B14-A69C-4E04-8AFA-02846F3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7FD-9F0F-4DF2-91E4-7AB6376D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BE8-6308-4E48-926D-9B7F074F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CA1-A2DA-4873-BE50-2B9DBF34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574-36A2-4CFF-B3D0-128C8E63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A5A-5235-49B1-BFF2-30A533C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F99-5D30-4324-B433-A9F26D0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A35-2D08-40EE-AE23-343C0BEE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E04-308B-4E36-9633-0FEE89C2F6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867280" y="609480"/>
          <a:ext cx="365760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09480"/>
                    <a:ext cx="36576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2895480"/>
            <a:ext cx="9906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Present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Consejo Profesional de Ciencias Económicas de la Ciudad Autónoma de Buenos Ai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2485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D2D-4AAA-44D6-BC9B-0ED7E2133E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584360"/>
            <a:ext cx="897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Verdana"/>
              </a:rPr>
              <a:t>Somos especialistas 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19520"/>
            <a:ext cx="83059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rédito par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inanciación de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dministración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uc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Agente Financiero de grande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26E-E14B-45B0-BF6F-860773CFE1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2286000"/>
            <a:ext cx="7772400" cy="380988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2286000"/>
            <a:ext cx="74674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ltamente concentr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Capital Feder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financiación directa al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 Sector Financier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Préstamos Financiero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a grandes empresas a través de entidades financie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5238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Operatoria anterior al año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78D-9E78-4E3F-B793-62AEEF331B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22096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2209680"/>
            <a:ext cx="746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Orientado a la Inversión y al Comercio Exteri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resencia en todo el paí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Diversificación sectorial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uerte presencia en Mediana y Pequeñas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s, gracia y tasas conven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492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Nuevo Perfil desde 2004 en adel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0B9-58CF-4010-BC78-28CEA9125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345280" cy="472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8880" y="2060640"/>
            <a:ext cx="61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ifras en millones de p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4280" y="1486080"/>
            <a:ext cx="3063960" cy="38088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52388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a3c9"/>
                </a:solidFill>
                <a:latin typeface="Verdana"/>
              </a:rPr>
              <a:t>Comparación interanu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292-E9D0-4897-A79B-88C985B87B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region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93356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5D6-2C9E-444B-9A92-F9BF910C5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sectori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1800" y="1371600"/>
            <a:ext cx="8250120" cy="664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B65-29C3-4005-B48F-B438050074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2920" y="3071880"/>
            <a:ext cx="4183200" cy="293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0" y="3086280"/>
            <a:ext cx="4191120" cy="293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4280" y="1523880"/>
            <a:ext cx="429264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 por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352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Sect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86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Gr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7504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ed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51800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19732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4382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onto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(millones 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nero 2004 - 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586-7E15-47A0-8100-653665F64F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1523880"/>
            <a:ext cx="4343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inea Pymes tasa fija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057400"/>
            <a:ext cx="83059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Línea de crédito por $20 millones destinada a financiar Proyectos de Inversión, para la adquisición de Bienes de Capital de origen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Tasa fija en pesos: 10,5%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: hasta 5 años y hasta 6 meses de gra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s mínimo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co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si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2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 máximo: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,2 mill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546-1EA2-42CA-9403-F40E3197F3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1523880"/>
            <a:ext cx="5486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ociedades Garantía Recíp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8305920" cy="43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Las Sociedades de Garantía Recíproca (SGR) son sociedades comerciales que tienen por objeto facilitar el acceso al crédito de las PyMES a través del otorgamiento de garantías para el cumplimiento de sus obligaciones.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Permiten implementar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una estrategia asociativa entre grandes empresas y PyMES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provee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Integradas por: Socios Partícipes (Pymes) y Socios fundadores, que reciben ventajas impositivas por los aportes que realizan al fondo de riesg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El BICE trabaja con las siguientes SGR’s: Garantizar(gtías preferidas “A”), Afianzar, Don Mario, Aval Rural, Acind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8E9-C513-403B-B564-D178B7307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1523880"/>
            <a:ext cx="52578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Operatoria con SSEPyME y SG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4800" y="2392920"/>
            <a:ext cx="3276720" cy="289548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394720"/>
            <a:ext cx="160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mpresas cab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273920"/>
            <a:ext cx="1371600" cy="405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B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52880" y="3581280"/>
            <a:ext cx="1599840" cy="914400"/>
            <a:chOff x="4952880" y="3581280"/>
            <a:chExt cx="1599840" cy="914400"/>
          </a:xfrm>
        </p:grpSpPr>
        <p:sp>
          <p:nvSpPr>
            <p:cNvPr id="169" name=""/>
            <p:cNvSpPr/>
            <p:nvPr/>
          </p:nvSpPr>
          <p:spPr>
            <a:xfrm>
              <a:off x="4952880" y="3581280"/>
              <a:ext cx="1599840" cy="914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0800" y="3809880"/>
              <a:ext cx="12236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Verdana"/>
                </a:rPr>
                <a:t>Pyme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67" idx="3"/>
            <a:endCxn id="166" idx="2"/>
          </p:cNvCxnSpPr>
          <p:nvPr/>
        </p:nvCxnSpPr>
        <p:spPr>
          <a:xfrm flipV="1">
            <a:off x="4495320" y="2971440"/>
            <a:ext cx="1258200" cy="15055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6934320" y="3941640"/>
            <a:ext cx="2057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ociedades Garantía Recíproca (SGR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7" idx="3"/>
            <a:endCxn id="172" idx="1"/>
          </p:cNvCxnSpPr>
          <p:nvPr/>
        </p:nvCxnSpPr>
        <p:spPr>
          <a:xfrm flipV="1">
            <a:off x="4495680" y="4473360"/>
            <a:ext cx="2439000" cy="36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74" name=""/>
          <p:cNvCxnSpPr>
            <a:stCxn id="166" idx="2"/>
            <a:endCxn id="172" idx="1"/>
          </p:cNvCxnSpPr>
          <p:nvPr/>
        </p:nvCxnSpPr>
        <p:spPr>
          <a:xfrm>
            <a:off x="5752800" y="2971800"/>
            <a:ext cx="1181880" cy="15026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324480" y="2695680"/>
            <a:ext cx="228600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gente de retención de las cu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5156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E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  <a:endCxn id="167" idx="1"/>
          </p:cNvCxnSpPr>
          <p:nvPr/>
        </p:nvCxnSpPr>
        <p:spPr>
          <a:xfrm>
            <a:off x="2133360" y="3017880"/>
            <a:ext cx="991080" cy="1459440"/>
          </a:xfrm>
          <a:prstGeom prst="straightConnector1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3232080"/>
            <a:ext cx="259056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Ofrece bonificación de 2,5% en la tasa fija en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927520"/>
            <a:ext cx="1295280" cy="477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aden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5580000"/>
            <a:ext cx="8915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</a:rPr>
              <a:t>El BICE otorgó $26 millones a más de 120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841920"/>
            <a:ext cx="457200" cy="304560"/>
          </a:xfrm>
          <a:prstGeom prst="downArrow">
            <a:avLst>
              <a:gd name="adj1" fmla="val 56944"/>
              <a:gd name="adj2" fmla="val 4791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223880"/>
            <a:ext cx="266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asa fija en pesos 7,9% máxima y 5,3% mínima, después del subs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FF0-8B39-4AD6-8090-3E45675ECE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48040"/>
            <a:ext cx="8534520" cy="44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37160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Depósitos y Préstamos al sector priv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209680"/>
            <a:ext cx="4343400" cy="7945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Volvieron los depósi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Renació el crédi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C7B-83AF-4E8B-9D5C-984235285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1523880"/>
            <a:ext cx="514368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réditos a Entidad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Líneas de Lea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Cofinanciaciones de invers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038480"/>
            <a:ext cx="9068040" cy="1905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175280"/>
            <a:ext cx="8974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En los últimos 12 meses el BICE otorgó $73 millones a 184 empresas a través de Nación Leasing, Provincia Leasing, y Bancos Nación, Provincia, Comafi, Credicoop y La Pamp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072-A101-46C7-8701-6BE2AE1971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2819520"/>
            <a:ext cx="9068040" cy="2438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819520"/>
            <a:ext cx="89740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l BICE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suscribió un contrato de mandato con la Compañía Argentina de Seguros de Crédito a la Exportación S.A., el cual determinó el lanzamiento al mercado local de una póliza global que permite al sector exportador </a:t>
            </a:r>
            <a:r>
              <a:rPr b="0" lang="es-AR" sz="2300" spc="-1" strike="noStrike">
                <a:solidFill>
                  <a:srgbClr val="00a3c9"/>
                </a:solidFill>
                <a:latin typeface="Verdana"/>
                <a:ea typeface="Times New Roman"/>
              </a:rPr>
              <a:t>asegurar todas sus exportaciones hasta un año de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una prima reduci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84280" y="1523880"/>
            <a:ext cx="3911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eguros de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17B-90D5-455F-BD2D-48057392CC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1238400"/>
            <a:ext cx="8229600" cy="6305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5360" y="1523880"/>
            <a:ext cx="781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l BICE administra Fideicomisos por $8.259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F0D-A54B-4B96-B39D-86775C583F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906120" cy="6845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57720" y="5943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iramos más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8FE-B6B3-4E14-9574-0F0E93E3EF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59092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a3c9"/>
                </a:solidFill>
                <a:latin typeface="Verdana"/>
              </a:rPr>
              <a:t>La Hora de la Invers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942-AF40-4E4E-B299-5219A72065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1371600"/>
            <a:ext cx="897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versión en relación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 PB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228600" y="1685880"/>
            <a:ext cx="10363320" cy="513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07120" y="64612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A5D-E95D-4491-872F-49B4F55686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8080" y="3581280"/>
            <a:ext cx="830592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acroeconómico para sostener el crecimiento del P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icroeconómico para aumentar la capacidad insta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9068040" cy="1447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1296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economía necesita más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Crédit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pecialmente par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Inver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8FB-187A-453D-A9ED-826616420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881360"/>
            <a:ext cx="7631280" cy="459576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881360"/>
            <a:ext cx="7467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Banca Especializ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de Desarro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Magnitudes sufic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Infraestructu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Grande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queñas y Mediana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ondeo de largo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Capital prop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Recursos presupuest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Apalancami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Cofinanciaci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ofert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8C9-68DA-441F-889E-8867E8D51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1881360"/>
            <a:ext cx="7631280" cy="307152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881360"/>
            <a:ext cx="74674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lazos adecu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en función de las características del proyec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ríodos de grac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Tasas razonable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y moneda de acuerdo al proyec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cceso senci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deman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A07-9904-4383-8F60-AF3FDF8E1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438280"/>
            <a:ext cx="906804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257508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Banca Públic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be ser la nave insignia del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financiamiento del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87C-7B45-44B7-93ED-B9D27E8C77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28600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00a3c9"/>
                </a:solidFill>
                <a:latin typeface="Verdana"/>
              </a:rPr>
              <a:t>Qué es el BIC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A07-1811-45BB-BF12-D6FE07704D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9:08Z</dcterms:created>
  <dc:creator>Leonardo Kettmayer</dc:creator>
  <dc:description/>
  <dc:language>en-US</dc:language>
  <cp:lastModifiedBy>C.P.C.E.C.A.B.A.</cp:lastModifiedBy>
  <dcterms:modified xsi:type="dcterms:W3CDTF">2006-09-01T20:32:19Z</dcterms:modified>
  <cp:revision>298</cp:revision>
  <dc:subject/>
  <dc:title>No Slide Title</dc:title>
</cp:coreProperties>
</file>