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887-D6BC-45C9-9164-C0BD22A8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14C-E939-4CEE-87FD-0E0EEFB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245B7-2877-4BA2-B792-0381017D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85FA7-7B03-4B31-B25A-081A9CB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2220E-E725-484D-9410-DE2A14E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CEC79-E1B2-49CC-A207-30B7D802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EE566-6540-4DA3-B1DD-EF43CD8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482C9-5ADE-4DB9-9C27-D9A8815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AA060-DBF2-477B-89F5-9765167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CF71E-95A0-4DDC-892E-13306363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3D47B-2F26-4060-822E-5F2BD8E8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2D8F0-3C2E-4F9F-8885-6DB4B932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AA6-72D1-4F60-9559-C55D5689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5663D-692C-409C-883B-0BD5CD02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F17C3-B1DD-41C6-B71B-062BD19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5EC03-9922-4301-A621-AC4BD63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5BAC0-32CD-442E-B238-CA24145B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11D96-1766-454F-9C37-6D5AA63C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12973-E0A6-4F89-B90E-F7CBD0B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59D15-EAB2-4A0A-BFDA-2F70EE2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21512-DF63-417C-877E-E30496B8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E5F97-557B-4A35-BB15-C93959E7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63F0-17EE-4717-B427-20DD53C1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3AA-0287-445F-B786-0DFDF165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17155-52FC-4AF9-B995-359CE98E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27573-CCD8-4EDE-A62C-59ED76EF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310E2-D546-4CC4-B346-4B6AA3BC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6FE27-87B3-4FA6-9689-11B17EB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E9745-8D08-40E5-BFD5-A6DB22BA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79B60-16AA-45BF-BACD-6257330C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E9091-3E05-4104-8658-EBAD7B58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FA290-1B25-4A14-8E83-372AC13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B3A2F-A261-4973-94F5-BD1D626C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249CC-4D7D-4601-B94C-D5D61A0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576B-D508-4024-B027-E73AF860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95E62-6E9F-49AD-B8E3-1B676E11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56831-2C41-4510-A1E5-0507A26D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2213-5926-42AE-B94A-A2B6A742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2FCE7-7CE2-49E0-B62C-81A90A20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5E944-EB03-40F0-A543-B127D01A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53B20-FE5A-43D5-A53E-DD9D7D3F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6EDDF-8834-4B32-BD17-1B50F256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A5A10-92E1-4B1D-BDEF-D7FED6DE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E62EF-8F54-4BE8-BA74-E24BF2C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329C9-B0BD-452D-8E40-9D6DB94E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F00-9DA9-4B2D-8F0C-3E0B7416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01147-0264-4AF8-9EAC-EAC78C8D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0807C-4BBF-4382-8107-05EAF131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10B86-0980-4676-A0F3-B7A7324C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D314B-FC86-4502-B2DE-2A4ECCAB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DD3A4-21E5-4215-945F-A56E33A5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7D0D6-A0F8-40AD-BD8A-8A5C311C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CD880-5BB6-4614-8E25-F7504EB0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CC0F2-455D-4E7A-9F47-46559FD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82FAE-E6B4-43C0-B48C-97E14C3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EA13D-7218-4A30-84C1-FC5D0CB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61C2-F2D0-4578-ADD5-F066DDA7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8E7E4-DE82-4FA0-A477-F7AE620B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4BC5B-8141-4EE3-8784-FA83D69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40F83-B47A-401B-9DA2-4A8B773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365F8-3970-454D-9AA3-BBA672F4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9F2F8-7BEB-4A58-A9C5-198EE2D8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9F201-39E3-47D1-9BFA-90BB9085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67414-8412-4A9B-9795-1152BFBF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F6518-9024-4A42-886C-B8AB157A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DE6B8-C1FC-495B-B7D1-40F9BD2A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76890-DFD9-403C-8420-4081A938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E115-535C-4118-8640-442CE14C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1F2EC-2029-405F-ADB2-78CB4928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ADE6C-F577-4995-BC80-448F5D8B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A8140-8882-44CC-B1CC-5D5731C2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0D70E-0108-4953-B3BD-C2C6003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AFB69-D9A2-43C7-A47C-66DD0E28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DBBEB-5B19-4A8C-8CF1-C570F11C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8BBD6-FBB9-46D8-9A49-4AE47034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1F5D4-38AC-4AFE-9263-F9AA40E3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5987E-7C27-4FA5-8D7B-DD74965D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8758F-446C-4E29-83B1-4ACC386E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7947-0A96-45D7-9A45-99F1759D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A9726-5D6A-4D1E-ADDF-050075B6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F9F39-F03A-42C5-8C8D-C70E6E70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811BA-4B7D-494C-B09D-B9DE17E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F32CD-1FEE-49C7-BF84-A427033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B3D71-B082-4E86-8019-D342344A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113E5-60D8-48B9-B3CC-6BA35BF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E0806-3589-4F3E-8B0F-09E9632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B2541-ECC9-4D71-AFB3-6D96F970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7A795-2868-4141-A063-08ECD3A0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BBCB2-D1FA-45E0-A9D1-01DDACF3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5A06-E99C-4496-A2D4-A158F61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FAD75-FF8A-464D-93FD-32AA21E5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E2893-54CF-4A16-816F-A50E0E1D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81CEA-9062-48C9-A0AA-9FBAC930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00123-BF07-40ED-BD74-83793191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B2758-36A6-460C-83DB-D3F87486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58380-6F27-4CDC-A779-9967511C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E7BA8-EDD4-4BAB-86E7-A512CB14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04AD8-7E43-4631-90B6-FFAD440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98F0A-41F0-453B-BF95-39AEC9A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4D3E3-0C7B-4197-B0E6-C715571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44F5-CBEF-4145-8E71-FB56703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4717E-1561-4A2B-9DDF-3045F3FB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48FA7-DB7F-4753-85D2-75B4DCFF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9D609-91C2-4145-9203-C1EB3B6E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4E127-3BCF-476E-BD16-EF36F5AD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A6071-9A4F-4434-B505-3B006834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89710-8D4C-4301-8D91-E7A9F3A7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13BF7-DA29-4BB9-ACD9-BCD9C26A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5F865-BA93-4A76-BA51-D5EAF02F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2693B7-745D-467C-A514-3929CE0F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4362F-AD0F-46F2-A169-4685CFF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0CA-C7DF-49A7-9C17-0462B990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84F4-E45D-4415-AF12-E5DD17D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B60F5-F8A7-4040-8549-210F2A0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34003-5380-417C-8321-80663938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910AD-ECC5-4211-A25E-1BD79359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12CEB-EBA8-4C03-B643-C8AA0239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71D258-5A86-47C7-9CE8-4D0E2C0D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0CDE6-2537-46BF-8E7A-24FFDFE1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6639C-9271-4E4A-BAA4-51017471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B3C45-D019-4502-B01C-D2F6353F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AC484-B40A-47CC-90B9-F5F84DE8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26917-CB2F-447B-A380-D52EF15A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B6F4-D7F3-4F14-8428-FB662D6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64BA7-C879-42CB-AE2D-B739D633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7EA0C-F48B-499D-BD5B-645FC74C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B40DA-7273-4934-AF79-AD7EEC66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CF798-809A-4B75-8BEE-2F534DD5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9BE13-07BF-4B1F-B22B-4E3E08D2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9B6F0-AF73-48B1-B770-02DA1631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7B74E-526A-4931-965C-AFA4D73F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E375A-7A23-4481-ADB1-C956D318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B5C89C-C966-4035-AB5B-EB12A7A0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DA0C9-B998-49FA-85C2-D96A02FA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8BC1-7425-4644-AD3F-01A14ADA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222D2-5D75-430D-9CCA-C550B5C5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730E1-E633-4D26-A2F0-7CFDD73B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647E7D-4127-4BF4-93D2-4AE1C26B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70289-C2C4-4AE2-AFE5-5B1A79CE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953C2-8FDF-4AF1-BF33-E160C96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D3B9C-C23E-4E38-9638-FB52F618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A1B4C-0126-4681-A3B9-B406B895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E821B5-5B39-4B13-8777-3EE8F756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72A45-063E-44CB-BBB0-B81C906B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8C6E6-FD52-46AE-88D5-FC03C291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3CFE-634F-4547-A16E-7E5731A6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C77CFF-51B5-40C6-9A4E-9F2F27B2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C64B5-B9C7-4A19-AED3-DC428781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5BD04-E916-4636-97E8-BAD6BAF8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B4C11C-D0B6-4FB1-8E79-1CB9A9D7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D2F9B-34C0-4492-A478-7EB75643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03E80-6284-465F-A53F-294F2492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96A49-212B-487B-A1AD-AB2AEB40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3EE53-BA4F-4036-AA1E-C01EDD8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ABABD-9F21-43F1-B4CC-8BCEDBF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3EBEF-2852-4E30-A0B6-38A685B4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42A9-3119-46E6-A039-DAA253E5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05BAA-874D-4D0F-8A54-064E4A7F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2E31-C253-4F12-A2A4-F71114A9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914E2-EE52-40FA-BC65-1B3DC2CF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AADC-23D0-41A7-8D6A-5376EFB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D598-9DAC-48AD-A7A7-2ECED6B6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F05A-05C8-465B-A2A6-ADFEA613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1C9-385C-436A-B2B1-32FB04F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355D-F709-48C8-9F31-303AE97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5183-A8D9-47F4-9772-0907C44F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6D57-39CB-4DDA-9911-8D86E1B3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DEBD-7F95-4580-93F7-C64B5896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F3B0-AEDF-4429-83AC-12BD34EA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78F9-E99A-4798-A6F8-D20D8570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A29B-AA5F-480B-A1CE-38ADBF24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53A6-0675-4A46-8561-A99168F2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40CC7-957D-4453-B5D7-B1F49C6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3F6B-A194-4E51-972C-5D479E5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8F7-627A-4D6D-ACD6-38BDD091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FFF9-32E6-40CD-87FD-B19AB60F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DAE8D-6D19-4457-ADEA-58A7AD09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28EDA-E7CE-4D21-9268-7AFBEB0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D184-62B3-45D1-A697-E444C924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EEA4-A1B9-426E-BB59-5F33424C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BCF2-FB66-44D7-8845-717401F9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36D5-D65E-4B7D-A758-11A23BCB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A927C-143B-4D17-9C8F-DD655E82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B05A-FB8D-4FE9-BF29-8DB01A76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E774-9BB8-407E-9720-0B91A893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9EB-C338-46E9-8D39-05131D2F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31F6C-2FF8-4983-B6B9-5F0ACD9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3AB5-9BC0-40F4-924A-255A50A4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4E263-5F73-4E75-8154-925789F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E973A-121B-48A6-8342-34080F6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4FA9-BBAC-40DD-9E51-0B64349A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D90E0-C03D-45E0-A647-98582225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47C5-9A72-49B9-B198-A5440DD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08FC-06CA-4B6E-B32F-3BEB7308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1B00C-F3FF-4485-8EB4-F7D270C1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E9CB8-EB97-4B2D-84A0-F67360E0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67B-3926-47F5-9E0F-41B77656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E8711-6C44-4C48-A4C4-B0D31320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66953-CC00-43B0-81C6-599F056B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B09FC-C637-47A1-AEF5-AAE91367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257D-F5D3-48B6-A398-0E04C950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F4B8-F183-4F43-A562-5F23AD8D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FB3B-9911-462A-AD58-0EB0A593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ADC8E-16FD-4CBA-AC2A-0E00AE7E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5354-B89B-4517-A180-7543C7C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FE1A-6F32-4A8B-B129-ADC6C15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D555-F806-41ED-AF2A-5B329CE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DCF-CD19-484A-850D-3EB5AE3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8723D-5A27-4710-A0CB-84F22FB0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3EF5-6511-454E-8289-221C7EA5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CAB10-E3A9-4048-AAEC-324F7A59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1B883-7BCF-485D-A0CE-B2164C02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1535C-6B48-4696-A935-716CB24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F5F17-B3AD-4722-8420-731A11B5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C69E1-2720-4AC9-950C-479195DC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BA77A-D2BB-4E56-B1E4-FE264C4E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84F8F-F84A-440A-A78F-72789472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60ABC-B895-4596-865B-5146F11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8DC-DBC4-4563-BE37-49FB9E3E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0ADD6-5B94-4AA4-A4F6-EABEB0A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B8330-EBA1-4422-B3BB-486B1B1E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19D9-E670-4904-B114-255185F3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AEB02-1CA3-4031-805E-42F18B8B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6EBD1-6EB5-4931-9AB4-E28EE9DD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DD01-FBDF-48A7-95EF-33D30B17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9663E-6151-4396-B8F3-7AE2D53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F71D9-277F-438A-A742-5B0D4DE2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CB3A3-0974-48A7-AFBB-495CA422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39FD-7F74-420E-8A18-A06D4909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307-473A-4339-AF2D-0B79764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6E11E-201F-4902-B50A-60D9B5F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2542B-E1CB-4C0C-BEC3-5F562CC1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5EECD-5845-4D37-968A-8A0152B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265DD-27FF-4852-8F7C-036FD8E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69FF-80E8-4139-8D7B-BB08A9D1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2B93-41CF-444D-86E6-1B614C63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2B81E-70AC-41DD-A765-9E364F60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A7EE3-6CB6-441E-B2D1-DF56A3D8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52EF0-2871-4901-BC94-2ACEA17E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0BDEF-33E1-4E72-AB02-0AF8CC0A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1700280"/>
            <a:ext cx="7543800" cy="472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3E52-D876-4882-86A3-26D7BFC1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67D3-CEB2-4A04-85C1-433377565B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14F7-D886-4F90-B48D-60D80D8824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695160" y="3105000"/>
            <a:ext cx="10534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B944-77FE-4A54-BDE6-F594FE6302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8A6-1120-4CB1-9A2D-76E642AC96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695160" y="3105000"/>
            <a:ext cx="10534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C11-C524-496A-9C77-FA8B7BA974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BAEE-5852-4739-B375-145FF92E83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757080" y="2565360"/>
            <a:ext cx="105343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D6C1-C7D4-4629-A067-E09589545B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EABE-3C5F-4F0A-88F2-4D593AF6E2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7EE2-2D3D-4F99-8E24-57156B82D5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4616-77F8-4ED5-9472-F534EAFA82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1700280"/>
            <a:ext cx="754380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E2E6-4B48-4F09-ADFC-E6B4580CF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6061-4F66-4BBE-AF3D-2EFC16F0BA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C195-0E41-47B2-952E-076E4DED337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CAC-712C-4137-AD08-1D19AEFAF8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4756-BA3D-41BE-BC33-80488DF67FE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1E37-4B68-4EE5-A460-20568C33111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3F4E-A77D-4EAC-BE89-743E63EA7D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EF1E-D8C6-4C0B-B0D8-3BF5C21652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76B0-F87F-400F-B8EB-F8A63FE6EC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47640" y="476280"/>
            <a:ext cx="593424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248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5293080"/>
            <a:ext cx="33336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arciso Muñ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577800" y="2637000"/>
            <a:ext cx="84582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CAPITAL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A. Situación Internacional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. Situación Argentina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24" name=""/>
          <p:cNvSpPr/>
          <p:nvPr/>
        </p:nvSpPr>
        <p:spPr>
          <a:xfrm>
            <a:off x="3276720" y="250200"/>
            <a:ext cx="5638680" cy="136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º Congreso Nacional e Internacional de Finanzas de la Empresa 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de agosto al 1º de septiembre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60320" y="16905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701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nace la Bolsa de Lond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1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omenzó a cotizar en su propio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reó EDX Londres: área de negocios de derivados internacionales de acciones en sociedad con el OM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5, Enero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La Deutsche Börse y Euronext lanzaron ofertas para su adquisición, aunque negocia más que la sumatoria de ambos mercados. La idea es que tener un mercado integrado en Europa desincentivaría a las empresas europeas de listar en 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452680" y="1122480"/>
            <a:ext cx="399096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NDON STOCK EXCHANG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848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0, 18 de marz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Fruto de la fusión de las Bolsas de París, Amsterdam y Brusel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se suma la Bolsa de Lisboa. Dio lugar así a la primera plaza integrada en la zona del Euro. Es la segunda en Europa, detrás de la de Lond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n Gran Bretaña  se unió sólo en derivados al adquirir  y formar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Euronext.Liffe.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5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en sociedad con la Bolsa italiana adquirió una participación importante en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MTS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, el mercado electrónico europeo líder en títulos de renta fija al por may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6, juni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1: NYSE Group y Euronext firman un acuerdo para fusionarse en la nueva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NYSE Euronext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para negociar acciones y derivados. Las acciones de NYSE Euronext cotizarán en NY y en Par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708360" y="835200"/>
            <a:ext cx="16002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URONEXT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11280" y="11124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436680" y="1557360"/>
            <a:ext cx="81676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Junio 19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lanza nueva propuesta para fusionarse con Euronext. Crear una nueva compañía que tendrá oficinas para sus ejecutivos principales en Amsterdam, Frankfurt y Par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Deutsche Börse aportará el CEO y Euronext el presidente de la Mesa Superv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Agosto 2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publica los estatutos propuestos para la nueva compañía a cre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Agosto 4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el precio propuesto por cada acción VN de Euronext alcanza los EUR 72,17, comparados con los EUR 68,82 ofrecidos por el NYS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916360" y="1052640"/>
            <a:ext cx="265752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DEUTSCHE BÖRS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: nace de la fusión de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OM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 (Bolsas nórdicas) y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HEX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 (Bolsa de Helsinki) formando el mayor mercado integrado del Norte de Europa  a través de las bolsas de Copenhague (Dinamarca), Estocolmo (Suecia), Helsinki (Noruega), Riga (Letonia), Tallinn (Estonia) y Vilnius (Lituania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Provee de soluciones tecnológicas para mercados financieros y de energía en todo el mundo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324240" y="1052640"/>
            <a:ext cx="1752480" cy="43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OMX GROUP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crea la Sociedad Holding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BME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 Forman parte de ella: a) la Bolsa de Madrid, la de Barcelona, la de Bilbao y la de Valencia. b) </a:t>
            </a:r>
            <a:r>
              <a:rPr b="1" lang="es-MX" sz="2800" spc="-1" strike="noStrike">
                <a:solidFill>
                  <a:srgbClr val="cc0000"/>
                </a:solidFill>
                <a:latin typeface="Times New Roman"/>
              </a:rPr>
              <a:t>MF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Mercados</a:t>
            </a:r>
            <a:r>
              <a:rPr b="1" lang="es-MX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Financiero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integrado por el mercado de derivados MEFF, de renta fija privada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AIAF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y de renta fija pública SENAF y, c)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IBERCLEAR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ámara de Compensación y Liquidación de Oper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479600" y="1413000"/>
            <a:ext cx="5829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OLSAS Y MERCADOS ESPAÑOLES(BME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95280" y="11592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332000" y="907920"/>
            <a:ext cx="6229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jemplos de mercados más cercanos: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1999, diciembre: se crea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ATIBEX: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único mercado internacional de valores latinoamericanos. Canaliza inversiones europeas, negocia en Euros y se apoya en la plataforma de negociación y liquidación de valores de la Bolsa Españ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apitalización de Mercado (al 21.06.06)     222.194,64 millones de E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(aprox. 25% de la Cap. de mercado españ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Número de Compañías de 7 países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ntabilidad en el año 2006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-9,7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ntabilidad desde su inicio en 1999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8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RINCIPALES PAISES REPRESEN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8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5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4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Argentina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2 empresas (Banco Río de la Plata y BBVA Banco Franc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386160" y="981000"/>
            <a:ext cx="1257120" cy="358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ATIBEX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1, julio 3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integran las bolsas de Bogotá, Medellín y Occidente y nace la Bolsa de Valores de Colom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oy se encuentra consolidada en una sola plataforma y administra los mercados accionarios, de derivados y de renta f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articipan todos los operadores de las antiguas bol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s bolsas originales entraron en un proceso de liqui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101680" y="1050840"/>
            <a:ext cx="499140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OLSA DE VALORES DE COLOMBI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610920" y="19782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Bolsa Australiana y la Bolsa de Futuros de Sidney han anunciado su intención de asoci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cuerdo entre la Bolsa Australiana y el CBOT para facilitar negociación off-shore de productos loc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Bolsa Nacional de India con la de Singapur llegaron a un acuerdo para que se negocien en esta última los Futuros Nifty (Ind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cuerdos similares entre las Bolsas de Singapur, la de Toronto y la de Taiw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1908000" y="1052640"/>
            <a:ext cx="559152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Otros continentes, otros países: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Una misma tendenci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826920" y="2205000"/>
          <a:ext cx="7201080" cy="4346640"/>
        </p:xfrm>
        <a:graphic>
          <a:graphicData uri="http://schemas.openxmlformats.org/drawingml/2006/table">
            <a:tbl>
              <a:tblPr/>
              <a:tblGrid>
                <a:gridCol w="3135600"/>
                <a:gridCol w="1811160"/>
                <a:gridCol w="2254320"/>
              </a:tblGrid>
              <a:tr h="79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ENOS 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NT. ACCIONES - VN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R  EQUIV. EN CANT. 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070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30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TROB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2.936.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0.13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LE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1.519.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4.84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L. AR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44.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7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NA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5.481.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256.5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ES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5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9.581.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P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6.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764.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CO FR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.704.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.301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UPO FINANC. G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94.542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1.602.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CO. MACR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.495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.06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*) 5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7" name=""/>
          <p:cNvSpPr txBox="1"/>
          <p:nvPr/>
        </p:nvSpPr>
        <p:spPr>
          <a:xfrm>
            <a:off x="1949400" y="1488960"/>
            <a:ext cx="5143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mpresas argentinas que cotizan ADR: 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N negociados en  el último año (ag-05 / jul-06)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258920" y="193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890640" y="979560"/>
            <a:ext cx="7353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a pérdida de liquidez y la exportación de mer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293760" y="1577880"/>
          <a:ext cx="7950240" cy="48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577880"/>
                    <a:ext cx="795024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 txBox="1"/>
          <p:nvPr/>
        </p:nvSpPr>
        <p:spPr>
          <a:xfrm>
            <a:off x="1876320" y="1122480"/>
            <a:ext cx="56484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olúmenes negociados en la BCB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258920" y="33660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0769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l Trading es global por natural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Invertir es una actividad global por natural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l avance tecnológico facilita en forma irreversible la globalización</a:t>
            </a: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324080" y="1341360"/>
            <a:ext cx="634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Desafíos de la globalización en los Mercados de Capitales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593720" y="333360"/>
            <a:ext cx="6772320" cy="49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539640" y="1628640"/>
          <a:ext cx="73281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73281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 txBox="1"/>
          <p:nvPr/>
        </p:nvSpPr>
        <p:spPr>
          <a:xfrm>
            <a:off x="1984320" y="1197000"/>
            <a:ext cx="546732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olúmenes negociados en el MA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250920" y="1916280"/>
          <a:ext cx="8555040" cy="42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555040" cy="42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"/>
          <p:cNvSpPr txBox="1"/>
          <p:nvPr/>
        </p:nvSpPr>
        <p:spPr>
          <a:xfrm>
            <a:off x="1476360" y="981000"/>
            <a:ext cx="6210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Instrumentos locales: ON colocada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58920" y="26028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3" name=""/>
          <p:cNvGraphicFramePr/>
          <p:nvPr/>
        </p:nvGraphicFramePr>
        <p:xfrm>
          <a:off x="539640" y="1557360"/>
          <a:ext cx="72439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243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 txBox="1"/>
          <p:nvPr/>
        </p:nvSpPr>
        <p:spPr>
          <a:xfrm>
            <a:off x="1692360" y="1197000"/>
            <a:ext cx="606744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Fideicomisos Financieros colo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1258920" y="33336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747720" y="1700280"/>
          <a:ext cx="785664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700280"/>
                    <a:ext cx="78566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 txBox="1"/>
          <p:nvPr/>
        </p:nvSpPr>
        <p:spPr>
          <a:xfrm>
            <a:off x="2195640" y="1197000"/>
            <a:ext cx="490536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Fondos Comunes de Inversión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1" name=""/>
          <p:cNvGraphicFramePr/>
          <p:nvPr/>
        </p:nvGraphicFramePr>
        <p:xfrm>
          <a:off x="611280" y="1484280"/>
          <a:ext cx="735156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35156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 txBox="1"/>
          <p:nvPr/>
        </p:nvSpPr>
        <p:spPr>
          <a:xfrm>
            <a:off x="1908000" y="1125360"/>
            <a:ext cx="5248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volución Patrimonial por tipo de FCI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1293840" y="26496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125280" y="1628640"/>
          <a:ext cx="8694720" cy="46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1628640"/>
                    <a:ext cx="869472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 txBox="1"/>
          <p:nvPr/>
        </p:nvSpPr>
        <p:spPr>
          <a:xfrm>
            <a:off x="2627280" y="1268280"/>
            <a:ext cx="423864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Cheques de Pago Diferido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6248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5293080"/>
            <a:ext cx="33336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arciso Muñ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77800" y="2637000"/>
            <a:ext cx="84582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CAPITAL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A. Situación Internacional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. Situación Argentina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/>
          <p:nvPr/>
        </p:nvSpPr>
        <p:spPr>
          <a:xfrm>
            <a:off x="3276720" y="250200"/>
            <a:ext cx="5638680" cy="136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º Congreso Nacional e Internacional de Finanzas de la Empresa 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de agosto al 1º de septiembre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8" name=""/>
          <p:cNvGraphicFramePr/>
          <p:nvPr/>
        </p:nvGraphicFramePr>
        <p:xfrm>
          <a:off x="831960" y="2043000"/>
          <a:ext cx="7772400" cy="4122720"/>
        </p:xfrm>
        <a:graphic>
          <a:graphicData uri="http://schemas.openxmlformats.org/drawingml/2006/table">
            <a:tbl>
              <a:tblPr/>
              <a:tblGrid>
                <a:gridCol w="2330640"/>
                <a:gridCol w="2049480"/>
                <a:gridCol w="339228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u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de cambio en US$ en el último a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939.7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540.7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3.53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4.7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41.8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-7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47.42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75.0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71.72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11.1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7.70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"/>
          <p:cNvSpPr txBox="1"/>
          <p:nvPr/>
        </p:nvSpPr>
        <p:spPr>
          <a:xfrm>
            <a:off x="2471760" y="1052640"/>
            <a:ext cx="447660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Capitalización de los Mer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1" name=""/>
          <p:cNvGraphicFramePr/>
          <p:nvPr/>
        </p:nvGraphicFramePr>
        <p:xfrm>
          <a:off x="687240" y="1628640"/>
          <a:ext cx="7772400" cy="4680000"/>
        </p:xfrm>
        <a:graphic>
          <a:graphicData uri="http://schemas.openxmlformats.org/drawingml/2006/table">
            <a:tbl>
              <a:tblPr/>
              <a:tblGrid>
                <a:gridCol w="2490840"/>
                <a:gridCol w="1703520"/>
                <a:gridCol w="1797120"/>
                <a:gridCol w="1780920"/>
              </a:tblGrid>
              <a:tr h="60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 a jun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añías loc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añías Extranj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en base a BME no incluye M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2" name=""/>
          <p:cNvSpPr txBox="1"/>
          <p:nvPr/>
        </p:nvSpPr>
        <p:spPr>
          <a:xfrm>
            <a:off x="1863720" y="981000"/>
            <a:ext cx="537228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úmero de Empresas cotizante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4" name=""/>
          <p:cNvGraphicFramePr/>
          <p:nvPr/>
        </p:nvGraphicFramePr>
        <p:xfrm>
          <a:off x="687240" y="1916280"/>
          <a:ext cx="7772400" cy="4114800"/>
        </p:xfrm>
        <a:graphic>
          <a:graphicData uri="http://schemas.openxmlformats.org/drawingml/2006/table">
            <a:tbl>
              <a:tblPr/>
              <a:tblGrid>
                <a:gridCol w="2509920"/>
                <a:gridCol w="2210040"/>
                <a:gridCol w="305244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er Semestr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de cambio s/1er. Sem.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17.08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8.0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8.89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3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1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3.1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-1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49.2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057.9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46.15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4.55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0.6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5" name=""/>
          <p:cNvSpPr txBox="1"/>
          <p:nvPr/>
        </p:nvSpPr>
        <p:spPr>
          <a:xfrm>
            <a:off x="2116080" y="976320"/>
            <a:ext cx="5048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alor negociado en accione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7" name=""/>
          <p:cNvGraphicFramePr/>
          <p:nvPr/>
        </p:nvGraphicFramePr>
        <p:xfrm>
          <a:off x="687240" y="2178000"/>
          <a:ext cx="7772400" cy="4114800"/>
        </p:xfrm>
        <a:graphic>
          <a:graphicData uri="http://schemas.openxmlformats.org/drawingml/2006/table">
            <a:tbl>
              <a:tblPr/>
              <a:tblGrid>
                <a:gridCol w="2322720"/>
                <a:gridCol w="858600"/>
                <a:gridCol w="1609920"/>
                <a:gridCol w="1747800"/>
                <a:gridCol w="1233360"/>
              </a:tblGrid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uda Privada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uda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y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tranj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DE 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DE 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8" name=""/>
          <p:cNvSpPr txBox="1"/>
          <p:nvPr/>
        </p:nvSpPr>
        <p:spPr>
          <a:xfrm>
            <a:off x="1908000" y="1058760"/>
            <a:ext cx="52200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l Mercado de Deuda: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úmero de Bonos Listado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2840040" y="1052640"/>
            <a:ext cx="3552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Futur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2" name=""/>
          <p:cNvSpPr/>
          <p:nvPr/>
        </p:nvSpPr>
        <p:spPr>
          <a:xfrm>
            <a:off x="684360" y="1844640"/>
            <a:ext cx="80769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684360" y="1692360"/>
          <a:ext cx="7991280" cy="5165640"/>
        </p:xfrm>
        <a:graphic>
          <a:graphicData uri="http://schemas.openxmlformats.org/drawingml/2006/table">
            <a:tbl>
              <a:tblPr/>
              <a:tblGrid>
                <a:gridCol w="2230200"/>
                <a:gridCol w="2946600"/>
                <a:gridCol w="2814480"/>
              </a:tblGrid>
              <a:tr h="1050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TRATOS FUTUROS NEGOCIADOS                             1er. SEMESTRE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T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ANCI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T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ROPECU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B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5.63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27.776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.842.748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1.034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TBA + ROF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659.035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9.149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828360" y="1990440"/>
            <a:ext cx="7630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Nace en 179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5, Abril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se fusiona con Archipiélag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Se constituye en sociedad con fines de lucro, forma NYSE Group y lista sus 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La función autorregulatoria es conducida independientemente por una organización sin fines de luc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6, junio 1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NYSE Group y Euronext firman un acuerdo para fusionarse en la nueva NYSE Euronext para negociar acciones y derivados. Las acciones de NYSE Euronext cotizarán en NY y en Par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1879560" y="1554120"/>
            <a:ext cx="542916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EW YORK STOCK EXCHANGE (NYSE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95280" y="11592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042920" y="907920"/>
            <a:ext cx="7334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jemplos puntuales de los mercados líder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687240" y="161928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ercado electrónico de acciones más grande de EEUU tanto en cantidad de empresas (3.200) como en volumen de acciones negoci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5, abril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ompra Instinet Group y luego de una serie de reacomodamientos societarios se queda con INET ECN (Electronic Computing Network), mejorando así la plataforma de negocios electrónicos a sus cl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mayo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luego de una serie de compras posee aprox. el 25% de las acciones de la London Stock Exchang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506760" y="1050840"/>
            <a:ext cx="120960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ASDAQ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1:44:04Z</dcterms:created>
  <dc:creator> </dc:creator>
  <dc:description/>
  <dc:language>en-US</dc:language>
  <cp:lastModifiedBy>Victoria LaFuente</cp:lastModifiedBy>
  <dcterms:modified xsi:type="dcterms:W3CDTF">2006-08-30T19:10:03Z</dcterms:modified>
  <cp:revision>204</cp:revision>
  <dc:subject/>
  <dc:title>ON PYMES: Emisiones</dc:title>
</cp:coreProperties>
</file>