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EC3-B86E-4269-B4E2-06B4134B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758-959A-4E91-AEFB-2D6BBD37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1354-8E69-4E05-A651-65BB8EB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561B0-D4EA-4086-8716-6B2147DA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4323C-F1DD-4159-82B7-596CA501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B8E8D-3E3D-48C7-B727-A9C5989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C878-4CCB-4FF9-954F-994D9DD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482B1-45BC-4E48-84FB-74E1E06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6FC82-4E4F-49A4-8622-55B2DA8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0EC11-C0C3-4602-A0A1-03E3EFD5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5F8F-6D31-4A01-8114-7466F975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EC6AF-9570-48A4-BDA5-F7D9B578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21A-B2C1-4D1E-AD69-3D3E1FC2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79C9B-1D3C-447E-8CE5-9CBF9EA3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32964-F199-4D9D-924E-114C2D85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F002C-97B3-41D0-93AB-7C0EE32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650D9-FC66-4A4B-B22E-766CAA5B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91BCF-148F-47FA-8FF8-BFCD5D20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ECB5D-E062-4BDD-BFB5-9DDEDF09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D6977-0B55-4ED1-874A-E84D97C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59BFD-F196-48E1-8DE5-90FAF5F6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10FB1-95A9-41D6-9ECA-62C0AB9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0AB7E-48B8-4425-91A1-F4D8013F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5C7-E6A6-4E7C-BDBD-279A66C1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33D9F-9903-4079-B24E-C7C00245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92150-00E3-4E61-8442-5DCD32C2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D493E-7D20-4E53-AA5E-6F25FFEC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8121C-CB71-4DEF-A2D1-C91C341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A3AD8-5C35-447D-B09F-2AF4696A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0E498-F077-4D4B-AD5C-37A70436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046AE-027A-4370-8EAF-1A9BC5D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E46C9-E204-4820-9CB5-4D861A9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3B4C4-E395-409C-9B65-85751C0B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F754-DB46-4465-AD68-02BBB2DB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D718-9E97-4C00-80FF-2FCA8008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E383-06A8-4EDD-BA0A-9F36664E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94111-893C-4C2B-8588-8927ADB0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7000-8E39-49F1-8E6C-79FB80C1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6876C-58DC-4DEE-A5CD-200A71E6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64C75-BC2B-4C4A-8335-5ED9C382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38DA0-8CFB-4A4C-89DB-36DD7442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51FBA-375E-44C1-9929-028E5326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ADA12-CDD3-4B12-BB17-3B9796E1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A87D8-B14D-49AF-B085-5B35CCA8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11982-4BCE-441C-A22A-6B72056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B5A8-FF5D-42DA-887C-A1C15F6A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3F07F-6749-4DC2-8FC2-7E0F089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2D841-E3D2-479B-BCC4-3494BA3E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7F938-1CE5-4427-B99C-8994B984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2E04D-F127-423B-97D7-C46B47D1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DE1C3-F5CD-45D4-983F-D1E45B1A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ACC17-8F16-418F-8FB0-6A0577AB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899DF-C5B1-4BF1-A4E7-486C9D8E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27B7F-2187-4BA8-98FB-4C57AF43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3A027-4F43-47F5-BFFE-28D2196E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FFE8A-3E76-4CD5-BAC5-C23E3196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EB0E-482A-461C-823F-A1E6C41F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F521A-1005-4255-BE25-3E3DEB58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49DF0-99A1-4159-B243-FE473EB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F87CE-4E2A-4166-97B2-88218AD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454E4-659A-43D9-8FD6-49DDE93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BAC0C-2F71-45D1-B88A-817D2B31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6C725-22AB-4BAC-A390-FECCD0D4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8C43D-4EDD-4E38-BB49-59222C5D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4463D-3261-432F-964E-1F3806EE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C5742-89C9-4C72-9910-99A4391A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75A84-EFE2-4525-9C83-2D863464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702C-786E-43B6-83F1-8CBD563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5E53F-616F-456E-BDBA-2A1C5546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CA0B2-A668-4773-8765-E35B6E67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1DF2C-F827-4213-80CE-0852051C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58013-40BA-4E7D-937C-01F42E41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F691B-0C4D-4920-AAA5-BA92BEC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3EBD4-FE13-4C5C-B6CE-A3D31619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38DE5-497F-4AD3-9289-0D51804A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81C50-17A5-4DC2-94E0-C068AA79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4C0A7-FBAF-4676-BE1C-A95850F9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50C52-3190-4978-84D9-880B12DA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041-CE3D-4560-A0A5-EB19C28C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B42D6-B2BC-425C-AD52-66DE484C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7DF16-DEF9-462A-95C9-E6C7163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40E91-6285-4E38-A9F2-3BA5E2D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65CEA-6F3D-4B40-8051-AE5D6E62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A5C27-FE0F-4CA9-B782-1F20D15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9D25A-088D-4C9E-95FA-1619F31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D106F-3463-48F1-86FD-C32BD46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A1065-30D7-4960-A774-71B5B828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3A3C1-A2F5-4C5A-9136-FFFE4738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89736-D7C8-4910-81B9-7F5D38A5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74B5-09ED-4575-B8A6-6B0D2232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2EA19-FB5F-4798-ADA6-2BBAFBF6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2B585-6968-472F-B124-27541911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64258-38D2-4BA6-8D40-3A826B1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A1836-043C-44FB-A876-252F39EB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AF33A-CC54-4F7E-93A2-ED7B086B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139EC-9247-4191-8D87-49B0D69D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B6211-F7D6-40B5-B38B-D9642B6B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10A55-CBB5-45B6-8137-81F570F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9ADCF-9750-4A81-94C2-6CD27449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5A47E-5C29-4934-ABA9-E13BCB4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E29D-5A40-4BA0-92CF-BE5DB73A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5CEAD-BCEE-463E-9098-384A076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B4147-0E71-4F0E-95C9-2AD8A49A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98E88-CE56-4730-BBCD-F0E5449B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F6BBD-E87B-41B1-B211-C13CA3D3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30865-394E-472E-9863-EF4D900D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9CFFE-7275-4CFF-B04E-D56AD438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5259D-2CDD-4273-A014-34445F17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9A23BA-2C40-41D5-9194-408C6DE2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DD2CA-E72E-40DE-97A0-122230A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F427C-AA18-48DD-8C4A-E806742D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9FB-66DA-422F-8805-335578B2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23F-038A-4F7E-AA93-929E4C88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9DD8E-F2D7-4981-89B7-543C55B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1E59B-4922-4CC2-B756-A67668D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4B466-34F0-424E-A158-6FA85615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7CCEA-31A1-4BBC-ACF7-9991E6D0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3036C-9E12-4CC0-8221-AC95867F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A3876-9F2C-4818-9376-E9E62CF0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36382-2807-4D03-AA9A-B8D8EA09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58F44-4250-4FCB-821A-EA3E8567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574EC-E6C4-4D47-AED2-89699A9A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9C806-BD8D-4B99-A390-C9E872A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A01D-A2FD-48AB-87BC-225FD99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86C36-55F5-41F3-B9DA-58A98EF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D3B41-1AF6-4186-A710-A6E4F67A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C366E-781D-4BE0-ACCA-B4EE01C6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1AB04-B1CB-4DCB-82B2-0F6A897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A432A-0301-436B-B33F-E6D8246E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EA12F-86BA-4750-B353-FF2C60F0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B206B-A603-4E3C-B127-EC32A6EC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10E35-019A-4545-8787-25BA0015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6E3FDD-E3AC-4CD2-AA5F-1A2F638A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D8581-9EBE-4CF7-B7BC-5DCC269D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99C9-FB18-4FE4-B886-3C6701A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24726-9808-46B6-A56C-5E595D56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62EFF-256A-45F7-83B3-280FA729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E6907-F71E-436A-BD09-62B9178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7B33F-522C-46EA-A0DA-F51981AF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1601A-211B-41C5-99AC-B6DEB570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02E98-3424-461F-B79D-D99AC12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7A355-0AE8-44F4-B6C7-F04582C1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F6148-3A43-439D-AED4-F265C16D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8F962-59E0-4D17-8CE6-AA128FF4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D63CE-0FF2-4D9B-BD6A-17D9E7FA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D441-BDD5-40B3-AEC2-85C727DE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0B041-758C-4A11-A47C-1150ECE9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C6B995-9CC9-44B4-B7BE-D93AF936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F65AC-9559-46F0-80F1-8E0BE48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5DF5B-224D-4EA3-8BEE-42F5929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540BD3-21BF-401A-9B2E-D6A4C1A4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6BEC3-E00F-402B-9755-594BF41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6BD44-DE30-4525-A3A0-FEA62188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9DA80-ED5E-4250-896A-1262173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4AA67-256A-4FC5-A069-FD6EF1D0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24E8B-9A53-4415-81DF-D90E697A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5766-6B3C-471E-B869-6AF01B59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4ACB8-A7AE-4CCC-A9EC-CC66D884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37C5-9012-42ED-A869-0364A00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CFB1-1E75-469E-94AF-EBB13D8A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9205-B198-46DB-B657-D824C130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C7DE9-9EDE-4725-8AA7-21AEC31F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F1ED-C3DE-4005-91E7-F909F2CE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9DD-D888-4D6B-B792-96EFA4C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77D4-39F2-4ED4-9C02-62448363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8125-4258-480F-ADC2-2EE651D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8328-9C41-468F-90C3-32DD23E8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C4AE-84F9-46C6-8494-0D0F0A7F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B43F-4A34-42A5-89CB-00F77B62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5622-0944-40F2-B0A7-B374F191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EA6F-202E-4907-ACB5-3C33BBC7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13BC-A4E4-4F60-9FC6-AEDB94C4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3971-B7C7-47FE-BB40-30204BBB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56C4-BD13-4E4A-8E03-C9588864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FEB-8F32-46BD-A8B3-D01EEF9D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E96D-82BF-43AA-B354-F6333F3F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E0C9-3DC2-467D-8E06-D147C84B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B68C-4D8E-45D8-B510-95C2CE4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C5C1-7D80-450C-AAA1-01DB7AD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D215-95D8-4EBF-8A89-08B4057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CDE19-CE42-488A-901E-9B1F2D1B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5593-1793-48FF-BE8F-2581D585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049E-642D-415E-AAEE-854B4360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2EF6-9EF9-46BB-9E65-0FB05E2B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91C9-09C7-413A-8557-EFA3C9C4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27E-7500-408B-8905-82760D42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E3B1-CDF8-4CC9-B1A8-F8C34362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8A74-D2D2-4AE6-AE3D-8531B207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6630-870F-4911-9816-4508074E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4019E-DB6B-43B6-9B78-937BA953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41A6-AFB9-45D9-8390-6413A33D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A79E-3254-4394-9C6A-C2BAE7CD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7B63-CA40-47C4-BC3D-4B68F7C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A2D7-174F-486B-9E03-D7AEB3E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5AF0-2BF3-4337-8747-D7EDC927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5F0C-7039-4273-9F68-2C7AEDF4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215-1569-462A-B8F3-E293AD7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5CFE-AC77-4D6F-8264-FE079B03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FC35-715A-41AB-A608-4C27DB9D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1467-DC39-4E1B-9B0D-C87B6AE6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96C5-F3ED-4128-94F2-BE05C048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8453A-54D8-457B-8519-A0126B3E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0690B-B715-47AC-8559-8DA3922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CC9F-9296-4288-8F6C-6493D7D1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903A-F180-4CA0-85F0-97FA499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0EC4F-72F5-4E94-A52C-FC75172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E066-1EBE-45E8-8D43-CAA7A06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81F-39DF-4044-851D-7ABA7461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E871E-6F37-4BFD-8975-5C48FAEF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6E5CE-E445-4201-B9CD-60D3BBFE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AA11-2203-47A1-869B-0E6132D8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E672-8FEF-4CDF-94A9-9F532C47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89A97-22C3-453F-8105-DE30F816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F41F9-AA11-486F-8975-3390B0E5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26EBC-2B47-4B52-8C21-03450DF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A1AF0-B9A6-4956-9530-D8F9CC6E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A2171-02D7-4471-AAF4-016085A6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E0B45-DECE-44E7-8A2F-A6FCC23D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3F6-26A9-469A-A365-6536A51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80BB9-1A38-4110-8B3F-C3AFA2F5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A782-5ED3-4DCD-BC5E-9C884DFE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4D5E-5101-4C63-9860-84B59B43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ECA93-B090-4640-94E2-BE4626BC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8B9EA-D9BA-40F4-84EE-6B2849A5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7BE76-D3B7-432F-8361-B4E8EABF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994A5-9C60-4070-8127-B5D6600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DC4E9-2AD1-457D-B91B-C3C35964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ACBEB-329B-45C3-935B-ABD90B3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8B73-CDEF-468D-86DC-3D5E892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44C-D8CC-43BF-9F4D-AC276D7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8F416-23C0-4262-A8D3-C7D59E9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5A3AE-4844-41D0-8907-C2C965C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DB9CF-F342-483E-BE0A-2E2C5A4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6818D-1A74-4418-A7BF-469B15A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FC94-83F4-412D-B8CA-C312E832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BE693-EFC4-4596-8BE0-BEC094A3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AD3F4-6187-4AC3-A4AD-3B1DC649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176A1-876C-4106-99A4-7F2B0DEA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ED7B3-60D2-426A-B5A0-2B4F1F24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BAD92-E183-4CBE-B441-A6D5C8EA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06C-85E6-402E-B050-BE087EC5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7272-E8EB-4D0D-A548-5DDEB8DF59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4E2-C4B7-47E8-AFB2-823792F2DBD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629D-24E4-40A4-96C3-1811BF2808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E3A4-BB8A-4934-9A58-1C81AD4107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69E4-C634-4578-8D17-36AA0DEBA2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AFFC-DF06-4579-8316-12746ACBDF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757080" y="2565360"/>
            <a:ext cx="105343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991-0224-4797-B164-1B76533773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F5A7-B232-4C3B-BCA6-004677579A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F1A1-F1FB-410D-B1CB-6A9ECE1138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F17-4B23-4BCD-9454-137E6234AF5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BAF9-8918-4AE3-8050-9DA101492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A99F-AB7B-4E59-BF6E-95BA1DD779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458A-13A3-441D-8D52-9541BFC377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461-0557-4225-99F0-3B9AD19E606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38D-3C2C-46B3-A6F0-8373ABBA20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CC07-E0EA-4376-9C3B-321462349A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28AE-DDAB-4044-85FA-CD3A9B7CDCD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6B1-50F4-401B-A9EF-BC0A1470A6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0A07-C5E6-4388-BC34-760770A345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47640" y="476280"/>
            <a:ext cx="593424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4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60320" y="16905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701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nace la Bolsa de Lond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enzó a cotizar en su propio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reó EDX Londres: área de negocios de derivados internacionales de acciones en sociedad con el OM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Ener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a Deutsche Börse y Euronext lanzaron ofertas para su adquisición, aunque negocia más que la sumatoria de ambos mercados. La idea es que tener un mercado integrado en Europa desincentivaría a las empresas europeas de listar en 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452680" y="1122480"/>
            <a:ext cx="39909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NDON STOCK EXCHANG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848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0, 18 de marz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Fruto de la fusión de las Bolsas de París, Amsterdam y Brusel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se suma la Bolsa de Lisboa. Dio lugar así a la primera plaza integrada en la zona del Euro. Es la segunda en Europa, detrás de la de Lond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n Gran Bretaña  se unió sólo en derivados al adquirir  y formar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Euronext.Liffe.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en sociedad con la Bolsa italiana adquirió una participación importante en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MTS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, el mercado electrónico europeo líder en títulos de renta fija al por may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1: NYSE Group y Euronext firman un acuerdo para fusionarse en la nueva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YSE Euronext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708360" y="835200"/>
            <a:ext cx="16002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URONEXT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11280" y="11124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36680" y="1557360"/>
            <a:ext cx="81676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Junio 19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lanza nueva propuesta para fusionarse con Euronext. Crear una nueva compañía que tendrá oficinas para sus ejecutivos principales en Amsterdam, Frankfurt y Par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Deutsche Börse aportará el CEO y Euronext el presidente de la Mesa Superv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publica los estatutos propuestos para la nueva compañía a cre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4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el precio propuesto por cada acción VN de Euronext alcanza los EUR 72,17, comparados con los EUR 68,82 ofrecidos por el NYS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916360" y="1052640"/>
            <a:ext cx="26575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UTSCHE BÖRS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: nace de la fusión de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s nórdicas) y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HEX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 de Helsinki) formando el mayor mercado integrado del Norte de Europa  a través de las bolsas de Copenhague (Dinamarca), Estocolmo (Suecia), Helsinki (Noruega), Riga (Letonia), Tallinn (Estonia) y Vilnius (Lituania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Provee de soluciones tecnológicas para mercados financieros y de energía en todo el mundo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324240" y="1052640"/>
            <a:ext cx="1752480" cy="43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MX GROUP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crea la Sociedad Holding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BME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 Forman parte de ella: a) la Bolsa de Madrid, la de Barcelona, la de Bilbao y la de Valencia. b) 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MF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Mercados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Financiero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integrado por el mercado de derivados MEFF, de renta fija privada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AIAF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y de renta fija pública SENAF y, c)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IBERCLEAR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ámara de Compensación y Liquidación de Oper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479600" y="1413000"/>
            <a:ext cx="5829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S Y MERCADOS ESPAÑOLES(BM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332000" y="907920"/>
            <a:ext cx="6229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de mercados más cercano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1999, diciembre: se cre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TIBEX: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único mercado internacional de valores latinoamericanos. Canaliza inversiones europeas, negocia en Euros y se apoya en la plataforma de negociación y liquidación de valores de la Bolsa Españ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apitalización de Mercado (al 21.06.06)     222.194,64 millones de E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(aprox. 25% de la Cap. de mercado españ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Número de Compañías de 7 país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en el año 2006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-9,7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desde su inicio en 1999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8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INCIPALES PAISES REPRESEN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8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5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4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Argentin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 empresas (Banco Río de la Plata y BBVA Banco Franc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386160" y="981000"/>
            <a:ext cx="1257120" cy="358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TIBEX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, julio 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integran las bolsas de Bogotá, Medellín y Occidente y nace la Bolsa de Valores de Colo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oy se encuentra consolidada en una sola plataforma y administra los mercados accionarios, de derivados y de renta f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articipan todos los operadores de las antiguas bol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s bolsas originales entraron en un proceso de liqui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101680" y="1050840"/>
            <a:ext cx="49914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 DE VALORES DE COLOMB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610920" y="19782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Australiana y la Bolsa de Futuros de Sidney han anunciado su intención de asoci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 entre la Bolsa Australiana y el CBOT para facilitar negociación off-shore de productos loc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Nacional de India con la de Singapur llegaron a un acuerdo para que se negocien en esta última los Futuros Nifty (Ind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s similares entre las Bolsas de Singapur, la de Toronto y la de Taiw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908000" y="1052640"/>
            <a:ext cx="559152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tros continentes, otros paíse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Una misma tendenc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826920" y="2205000"/>
          <a:ext cx="7201080" cy="4346640"/>
        </p:xfrm>
        <a:graphic>
          <a:graphicData uri="http://schemas.openxmlformats.org/drawingml/2006/table">
            <a:tbl>
              <a:tblPr/>
              <a:tblGrid>
                <a:gridCol w="3135600"/>
                <a:gridCol w="1811160"/>
                <a:gridCol w="2254320"/>
              </a:tblGrid>
              <a:tr h="79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ENOS 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NT. ACCIONES - VN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R  EQUIV. EN CANT. 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070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30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TROB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2.936.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0.13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E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1.519.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4.84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. AR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44.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7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NA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5.481.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256.5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ES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5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9.581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P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6.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764.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CO FR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.704.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.301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UPO FINANC. G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4.542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1.602.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CO. MACR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.495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.06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*) 5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7" name=""/>
          <p:cNvSpPr txBox="1"/>
          <p:nvPr/>
        </p:nvSpPr>
        <p:spPr>
          <a:xfrm>
            <a:off x="1949400" y="1488960"/>
            <a:ext cx="5143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mpresas argentinas que cotizan ADR: 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N negociados en  el último año (ag-05 / jul-06)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258920" y="193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890640" y="979560"/>
            <a:ext cx="7353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 pérdida de liquidez y la exportación de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293760" y="1577880"/>
          <a:ext cx="7950240" cy="48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577880"/>
                    <a:ext cx="795024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 txBox="1"/>
          <p:nvPr/>
        </p:nvSpPr>
        <p:spPr>
          <a:xfrm>
            <a:off x="1876320" y="1122480"/>
            <a:ext cx="56484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la BCB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258920" y="33660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0769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Trading es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nvertir es una actividad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avance tecnológico facilita en forma irreversible la globalización</a:t>
            </a: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324080" y="1341360"/>
            <a:ext cx="634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safíos de la globalización en los Mercados de Capitales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593720" y="333360"/>
            <a:ext cx="6772320" cy="49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539640" y="1628640"/>
          <a:ext cx="73281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73281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 txBox="1"/>
          <p:nvPr/>
        </p:nvSpPr>
        <p:spPr>
          <a:xfrm>
            <a:off x="1984320" y="1197000"/>
            <a:ext cx="54673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el MA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250920" y="1916280"/>
          <a:ext cx="8555040" cy="42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555040" cy="42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 txBox="1"/>
          <p:nvPr/>
        </p:nvSpPr>
        <p:spPr>
          <a:xfrm>
            <a:off x="1476360" y="981000"/>
            <a:ext cx="6210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Instrumentos locales: ON colocada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58920" y="26028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539640" y="1557360"/>
          <a:ext cx="72439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243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 txBox="1"/>
          <p:nvPr/>
        </p:nvSpPr>
        <p:spPr>
          <a:xfrm>
            <a:off x="1692360" y="1197000"/>
            <a:ext cx="606744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ideicomisos Financieros colo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1258920" y="3333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747720" y="1700280"/>
          <a:ext cx="785664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700280"/>
                    <a:ext cx="78566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 txBox="1"/>
          <p:nvPr/>
        </p:nvSpPr>
        <p:spPr>
          <a:xfrm>
            <a:off x="2195640" y="1197000"/>
            <a:ext cx="49053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ondos Comunes de Inversión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1" name=""/>
          <p:cNvGraphicFramePr/>
          <p:nvPr/>
        </p:nvGraphicFramePr>
        <p:xfrm>
          <a:off x="611280" y="1484280"/>
          <a:ext cx="735156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35156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 txBox="1"/>
          <p:nvPr/>
        </p:nvSpPr>
        <p:spPr>
          <a:xfrm>
            <a:off x="1908000" y="1125360"/>
            <a:ext cx="5248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volución Patrimonial por tipo de FCI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1293840" y="2649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125280" y="1628640"/>
          <a:ext cx="8694720" cy="46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1628640"/>
                    <a:ext cx="869472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 txBox="1"/>
          <p:nvPr/>
        </p:nvSpPr>
        <p:spPr>
          <a:xfrm>
            <a:off x="2627280" y="1268280"/>
            <a:ext cx="423864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heques de Pago Diferido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8" name=""/>
          <p:cNvGraphicFramePr/>
          <p:nvPr/>
        </p:nvGraphicFramePr>
        <p:xfrm>
          <a:off x="831960" y="2043000"/>
          <a:ext cx="7772400" cy="4122720"/>
        </p:xfrm>
        <a:graphic>
          <a:graphicData uri="http://schemas.openxmlformats.org/drawingml/2006/table">
            <a:tbl>
              <a:tblPr/>
              <a:tblGrid>
                <a:gridCol w="2330640"/>
                <a:gridCol w="2049480"/>
                <a:gridCol w="339228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en US$ en el último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939.7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540.7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3.5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.7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41.8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7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47.4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75.0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71.72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11.1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7.70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"/>
          <p:cNvSpPr txBox="1"/>
          <p:nvPr/>
        </p:nvSpPr>
        <p:spPr>
          <a:xfrm>
            <a:off x="2471760" y="1052640"/>
            <a:ext cx="447660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apitalización de los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1" name=""/>
          <p:cNvGraphicFramePr/>
          <p:nvPr/>
        </p:nvGraphicFramePr>
        <p:xfrm>
          <a:off x="687240" y="1628640"/>
          <a:ext cx="7772400" cy="4680000"/>
        </p:xfrm>
        <a:graphic>
          <a:graphicData uri="http://schemas.openxmlformats.org/drawingml/2006/table">
            <a:tbl>
              <a:tblPr/>
              <a:tblGrid>
                <a:gridCol w="2490840"/>
                <a:gridCol w="1703520"/>
                <a:gridCol w="1797120"/>
                <a:gridCol w="1780920"/>
              </a:tblGrid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 a jun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loc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Extranj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en base a BME no incluye M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2" name=""/>
          <p:cNvSpPr txBox="1"/>
          <p:nvPr/>
        </p:nvSpPr>
        <p:spPr>
          <a:xfrm>
            <a:off x="1863720" y="981000"/>
            <a:ext cx="537228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Empresas cotizant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4" name=""/>
          <p:cNvGraphicFramePr/>
          <p:nvPr/>
        </p:nvGraphicFramePr>
        <p:xfrm>
          <a:off x="687240" y="1916280"/>
          <a:ext cx="7772400" cy="4114800"/>
        </p:xfrm>
        <a:graphic>
          <a:graphicData uri="http://schemas.openxmlformats.org/drawingml/2006/table">
            <a:tbl>
              <a:tblPr/>
              <a:tblGrid>
                <a:gridCol w="2509920"/>
                <a:gridCol w="2210040"/>
                <a:gridCol w="305244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er Semestr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s/1er. Sem.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17.08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8.0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.89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3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1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3.1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1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49.2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057.9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46.1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4.5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0.6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5" name=""/>
          <p:cNvSpPr txBox="1"/>
          <p:nvPr/>
        </p:nvSpPr>
        <p:spPr>
          <a:xfrm>
            <a:off x="2116080" y="976320"/>
            <a:ext cx="5048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alor negociado en accion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7" name=""/>
          <p:cNvGraphicFramePr/>
          <p:nvPr/>
        </p:nvGraphicFramePr>
        <p:xfrm>
          <a:off x="687240" y="2178000"/>
          <a:ext cx="7772400" cy="4114800"/>
        </p:xfrm>
        <a:graphic>
          <a:graphicData uri="http://schemas.openxmlformats.org/drawingml/2006/table">
            <a:tbl>
              <a:tblPr/>
              <a:tblGrid>
                <a:gridCol w="2322720"/>
                <a:gridCol w="858600"/>
                <a:gridCol w="1609920"/>
                <a:gridCol w="1747800"/>
                <a:gridCol w="1233360"/>
              </a:tblGrid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rivada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tranj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8" name=""/>
          <p:cNvSpPr txBox="1"/>
          <p:nvPr/>
        </p:nvSpPr>
        <p:spPr>
          <a:xfrm>
            <a:off x="1908000" y="1058760"/>
            <a:ext cx="52200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l Mercado de Deuda: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Bonos Listado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2840040" y="1052640"/>
            <a:ext cx="3552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Futur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2" name=""/>
          <p:cNvSpPr/>
          <p:nvPr/>
        </p:nvSpPr>
        <p:spPr>
          <a:xfrm>
            <a:off x="684360" y="1844640"/>
            <a:ext cx="80769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684360" y="1692360"/>
          <a:ext cx="7991280" cy="5165640"/>
        </p:xfrm>
        <a:graphic>
          <a:graphicData uri="http://schemas.openxmlformats.org/drawingml/2006/table">
            <a:tbl>
              <a:tblPr/>
              <a:tblGrid>
                <a:gridCol w="2230200"/>
                <a:gridCol w="2946600"/>
                <a:gridCol w="2814480"/>
              </a:tblGrid>
              <a:tr h="1050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RATOS FUTUROS NEGOCIADOS                             1er. SEMESTRE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ANCI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ROPECU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B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5.63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27.776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.842.748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1.034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TBA + ROF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659.035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9.149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828360" y="1990440"/>
            <a:ext cx="7630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ace en 179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se fusiona con Archipiéla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Se constituye en sociedad con fines de lucro, forma NYSE Group y lista sus 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 función autorregulatoria es conducida independientemente por una organización sin fines de luc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 1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NYSE Group y Euronext firman un acuerdo para fusionarse en la nueva NYSE Euronext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879560" y="1554120"/>
            <a:ext cx="542916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EW YORK STOCK EXCHANGE (NYS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042920" y="907920"/>
            <a:ext cx="7334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puntuales de los mercados líder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687240" y="161928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ercado electrónico de acciones más grande de EEUU tanto en cantidad de empresas (3.200) como en volumen de acciones negoci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pra Instinet Group y luego de una serie de reacomodamientos societarios se queda con INET ECN (Electronic Computing Network), mejorando así la plataforma de negocios electrónicos a sus cl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may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uego de una serie de compras posee aprox. el 25% de las acciones de la London Stock Exchang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506760" y="1050840"/>
            <a:ext cx="12096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ASDAQ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1:44:04Z</dcterms:created>
  <dc:creator> </dc:creator>
  <dc:description/>
  <dc:language>en-US</dc:language>
  <cp:lastModifiedBy>Victoria LaFuente</cp:lastModifiedBy>
  <dcterms:modified xsi:type="dcterms:W3CDTF">2006-08-30T19:10:03Z</dcterms:modified>
  <cp:revision>204</cp:revision>
  <dc:subject/>
  <dc:title>ON PYMES: Emisiones</dc:title>
</cp:coreProperties>
</file>