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3FF-A79E-4ED2-8ECB-472E2F51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ED8-20DD-4CDC-AA78-D2A673BB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B26-E57B-4613-8921-43993E98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E12-1A1B-434A-BDEC-C602B296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26E3-6D30-4651-9FEE-2BF2892A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2FC-BEAE-468C-B913-B2998A3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1BBD-18CD-487A-B967-15086FF5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E8C7-EF09-4A74-A37A-54F7D947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DA17-1EED-4F0D-8146-42298EE2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5F03-C96E-4186-BE11-893E2EF4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8619-644E-46EC-9FA3-6774C79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A1A-62D8-483E-B559-091EB6B4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DACB-2479-48AE-8DBD-EBABA00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2B9C-CA07-4D86-9BF0-35E8538D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299-CCAF-47D3-8393-F27FA945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8E36-C9C0-444E-9155-54722348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FE1B-EFA4-4D00-9233-7E6AEE22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C66-C6E6-4B7A-ABE8-E00052C9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C3E-202F-4450-A8DE-F6AFCB8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39B-3519-42E1-9210-81C3E86A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9F2-2DD3-47FC-A4BE-09AA95AF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6F4-E8A6-44C1-BAE0-160E88D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734-B0BC-409F-AB0A-C67B073D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C88-F5B0-4C7C-9943-A94B7C0E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25C2-C157-4806-97B9-0105BBDD679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5440" y="404640"/>
            <a:ext cx="8693280" cy="1083960"/>
            <a:chOff x="55440" y="404640"/>
            <a:chExt cx="8693280" cy="1083960"/>
          </a:xfrm>
        </p:grpSpPr>
        <p:sp>
          <p:nvSpPr>
            <p:cNvPr id="7" name=""/>
            <p:cNvSpPr/>
            <p:nvPr/>
          </p:nvSpPr>
          <p:spPr>
            <a:xfrm flipV="1">
              <a:off x="55440" y="1269360"/>
              <a:ext cx="8693280" cy="71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14200" y="404640"/>
              <a:ext cx="69840" cy="10839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rcRect l="0" t="0" r="30861" b="0"/>
          <a:stretch/>
        </p:blipFill>
        <p:spPr>
          <a:xfrm>
            <a:off x="6659640" y="5877000"/>
            <a:ext cx="21780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BC0-0760-487D-B104-F76B4A0C5A1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Fuentes de Financiamiento bancario para capital de trabaj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157720"/>
            <a:ext cx="554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Dr. Julio MACCHI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residente del Banco Ciuda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-Agosto/Septiembre 2006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371628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Arial Unicode MS"/>
              </a:rPr>
              <a:t>II Congreso Nacional e Internacional de Finanzas de la Empresa y Mercado de Capit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4160" y="260280"/>
            <a:ext cx="1221840" cy="6193080"/>
            <a:chOff x="254160" y="260280"/>
            <a:chExt cx="1221840" cy="6193080"/>
          </a:xfrm>
        </p:grpSpPr>
        <p:sp>
          <p:nvSpPr>
            <p:cNvPr id="92" name=""/>
            <p:cNvSpPr/>
            <p:nvPr/>
          </p:nvSpPr>
          <p:spPr>
            <a:xfrm flipV="1" rot="5400000">
              <a:off x="-2635560" y="3316320"/>
              <a:ext cx="6193080" cy="80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840240" y="-212400"/>
              <a:ext cx="49680" cy="12218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rcRect l="0" t="0" r="2506" b="56149"/>
          <a:stretch/>
        </p:blipFill>
        <p:spPr>
          <a:xfrm>
            <a:off x="684360" y="189000"/>
            <a:ext cx="3098520" cy="47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3280" y="549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Aumento de la asistencia financiera a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77280" cy="527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Nos adaptamos a las crecientes necesidades de las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46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413000"/>
            <a:ext cx="4824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85,7% de las PyMEs solicitaron préstamos amortizables y descuento de doc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70% de las financiaciones fueron otorgadas a más de un año de plazo (contra un 27% en enero de 200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asi la mitad del stock de financiamiento (48,3%) tuvo como destino el sector industrial, y también se destacó la demanda de crédito de las empresas dedicadas al transporte terrestre de pasajeros y carga, comerciantes y construct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Recientemente se lanzó PyME10 para asistir la inversión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280" y="549360"/>
            <a:ext cx="8675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Líneas de acció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839960"/>
            <a:ext cx="7416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Ampliar la participación del Banco Ciudad en la financiación del desarrollo económico y soci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on mayor alcance a las PyMEs del ámbito regional (hoy representa el 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inanciando a las empresas PyMEs proveedoras del Gobierno de la Ciudad y contribuyendo en las obras de 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ncentivos a la modernización del parque automotor de empresas de transporte público (ómnibus y tax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5251320"/>
            <a:ext cx="8839080" cy="914400"/>
            <a:chOff x="0" y="5251320"/>
            <a:chExt cx="8839080" cy="914400"/>
          </a:xfrm>
        </p:grpSpPr>
        <p:sp>
          <p:nvSpPr>
            <p:cNvPr id="140" name=""/>
            <p:cNvSpPr/>
            <p:nvPr/>
          </p:nvSpPr>
          <p:spPr>
            <a:xfrm flipV="1">
              <a:off x="0" y="5918040"/>
              <a:ext cx="8839080" cy="748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85080" y="5251320"/>
              <a:ext cx="650880" cy="914400"/>
              <a:chOff x="7885080" y="5251320"/>
              <a:chExt cx="650880" cy="914400"/>
            </a:xfrm>
          </p:grpSpPr>
          <p:sp>
            <p:nvSpPr>
              <p:cNvPr id="142" name=""/>
              <p:cNvSpPr/>
              <p:nvPr/>
            </p:nvSpPr>
            <p:spPr>
              <a:xfrm>
                <a:off x="8459640" y="5251320"/>
                <a:ext cx="76320" cy="9144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85080" y="532296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"/>
          <p:cNvSpPr/>
          <p:nvPr/>
        </p:nvSpPr>
        <p:spPr>
          <a:xfrm>
            <a:off x="1655640" y="2773440"/>
            <a:ext cx="5832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700" spc="-1" strike="noStrike">
                <a:solidFill>
                  <a:srgbClr val="000000"/>
                </a:solidFill>
                <a:latin typeface="Arial Unicode MS"/>
              </a:rPr>
              <a:t>Muchas gracia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22936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0000ff"/>
                </a:solidFill>
                <a:uFillTx/>
                <a:latin typeface="Arial Unicode MS"/>
              </a:rPr>
              <a:t>www.bancociudad.com.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28480" y="1762200"/>
          <a:ext cx="80870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762200"/>
                    <a:ext cx="80870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Por qué es importante la financiación del capital de trabajo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787400"/>
            <a:ext cx="799128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l capital de trabajo es un efectivo "disponible" con el que la empresa cuenta y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realizar un ciclo productivo sin sobresaltos por descalc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agilizar sus operacion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estabilizarse en caso de apuros con respecto 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in embargo, las empresas no sólo requieren de capital de trabajo para operar y crecer. También es necesario el financiamiento de la inversión, capacitación y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l caso de las PyMEs, asistencia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Las PyMEs y el financiamiento bancari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205000"/>
            <a:ext cx="77058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los últimos 3 años, las PyMEs incrementaron 50% sus ventas, 35% su uso fabril y 22% su empl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l 14% de las PyMEs industriales que invirtieron en 2005 incrementaron su endeudamiento con bancos (Observatorio PyME), mientras que antes apelaban casi exclusivamente a fondos propios y crédit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No obstante, la proporción de PyMEs industriales que no recurre a financiamiento es alto y alcanza al 70% (Primer Trimestre 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ada vez más, las encuestas a este segmento muestran su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demanda de líneas de crédito de mayor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4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scenario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A qué segmentos apuntamos desde el Banco Ciudad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78272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pos de contribuir con el desarrollo económico y social, el Banco Ciudad se propuso ampliar su asistencia comercial a la actividad productiva, empresas y microemprendimientos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se camino, se delinearon líneas de préstamos que abarcaran la mayoría de las necesidades financieras derivadas de las características particulares de sus respectivos negocios, tanto de grandes como de pequeña y mediana escala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e redujeron las tasas de interés, que en algunos casos resultaron negativas en términos reales, se incorporó la financiación a tasa de interés fija o combinada, se extendieron los plazos de amortización, se ampliaron los montos de financiación y se flexibilizaron las condiciones de acceso (siempre dentro del marco normativo dispuesto por el Banco Central)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5120" y="1770120"/>
          <a:ext cx="674856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770120"/>
                    <a:ext cx="674856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8360" y="1341360"/>
            <a:ext cx="691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Líneas de crédito con recursos prop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205000"/>
          <a:ext cx="6704280" cy="21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7042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68360" y="134136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Asistencia conjunta con Garantizar SGR y Corporación Buenos Air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" y="4437000"/>
            <a:ext cx="770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Como socios protectores de Garantizar SGR entendemos que el mecanismo de garantías recíprocas es un instrumento fundamental para asistir a las Py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 su vez, la línea con la Corporación del Sur permite financiar empresas nacientes (única en el mercado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48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Licitaciones SEPYME para subsidio de 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22320" y="2279520"/>
          <a:ext cx="6313680" cy="24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2279520"/>
                    <a:ext cx="631368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55640" y="4724280"/>
            <a:ext cx="7704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Hemos licitado entre las tasas más bajas que las del mercado (9% para capital de trabajo y 12% para bs. de capita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sí, las PyMEs acceden a tasas 25% inferiores, que actualmente </a:t>
            </a:r>
            <a:br>
              <a:rPr sz="1900"/>
            </a:b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son negativas en términos rea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13000"/>
            <a:ext cx="691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Recientemente se lanzó PYME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5084640"/>
            <a:ext cx="75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Una línea de financiación a largo plazo para PyMEs en el ámbito regional, con la tasa más baja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79640"/>
          <a:ext cx="7343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343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413000"/>
            <a:ext cx="43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Instituto Py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1916280"/>
            <a:ext cx="82807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Un ámbito técnico desde el Banco para la promoción y el desarrollo de nuevas oportunidades de negocios y prestar asistencia técnica no financiera, destinado a las micro y PyMEs de la Región Metropolit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Se ofrecen servicios gratuitos o de bajo costo, que complementan los servicios financieros del Ba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5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4.000 visitantes y 2.800 PyMEs,  437 rondas de negocios con 11 empresas del exterior, talleres, seminarios y st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6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5.200 visitantes, 850 reuniones donde 1.200 PyMEs acordaron negocios por U$S 450.000 durante el evento con 18 empresas del exterior participaron de misión comercial inversa, talleres, seminarios y 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20:22:16Z</dcterms:created>
  <dc:creator>re408937</dc:creator>
  <dc:description/>
  <dc:language>en-US</dc:language>
  <cp:lastModifiedBy>C.P.C.E.C.A.B.A.</cp:lastModifiedBy>
  <cp:lastPrinted>2005-11-07T20:55:05Z</cp:lastPrinted>
  <dcterms:modified xsi:type="dcterms:W3CDTF">2006-09-01T18:35:36Z</dcterms:modified>
  <cp:revision>521</cp:revision>
  <dc:subject/>
  <dc:title>Cuadro I</dc:title>
</cp:coreProperties>
</file>