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AB0-9F2A-477B-83EE-D824D293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F672-349F-43C6-84D7-2DFDE604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FCFF-6B7A-48D7-A4EC-E9BA87FE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38AA-3A9C-4B8B-AA54-23BBAE32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C99F-CD6C-44D1-A6D9-5C5D14D9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A211-A2F3-4CC9-9E5A-69246C08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87FD-E8D7-4DD5-B0E3-E2809B84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2667-5155-43A1-998E-69D1844C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8A5C-DA70-48A0-B1C9-D36C1042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0613-2082-418D-B76D-F3BE960B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F9C9-BB1F-4579-9070-9CDB42A4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8866-4715-4CE2-9055-6DDAEEA6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87C3-A556-4705-9B87-A2FD00FB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59CE-76D9-4234-A33A-3E06CEAA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CE21-BD7F-46AD-BEAE-80725869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28CD-D779-4499-AD20-E8D7A580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1A8B-8EA0-4655-B379-3B063455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16B-8769-4187-B17D-10D8B308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1FE7-F283-44F6-8151-7489554A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D8BE-6C4C-4EB5-9E1F-D79D7760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32A7-5B72-4C30-AC31-7F126C7E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184E-E57B-46C4-AD2E-B304A282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8C7D-1B7E-4C4D-8FBF-4F6EC7BF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5F3-ADBB-4CE6-8AD4-5BC62F10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0800000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2e9f0"/>
              </a:gs>
              <a:gs pos="100000">
                <a:srgbClr val="3366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45D5-83C7-48CA-856F-6F236F6B195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5440" y="404640"/>
            <a:ext cx="8693280" cy="1083960"/>
            <a:chOff x="55440" y="404640"/>
            <a:chExt cx="8693280" cy="1083960"/>
          </a:xfrm>
        </p:grpSpPr>
        <p:sp>
          <p:nvSpPr>
            <p:cNvPr id="7" name=""/>
            <p:cNvSpPr/>
            <p:nvPr/>
          </p:nvSpPr>
          <p:spPr>
            <a:xfrm flipV="1">
              <a:off x="55440" y="1269360"/>
              <a:ext cx="8693280" cy="7128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50000">
                  <a:srgbClr val="ffff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14200" y="404640"/>
              <a:ext cx="69840" cy="108396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50000">
                  <a:srgbClr val="ffff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rcRect l="0" t="0" r="30861" b="0"/>
          <a:stretch/>
        </p:blipFill>
        <p:spPr>
          <a:xfrm>
            <a:off x="6659640" y="5877000"/>
            <a:ext cx="217800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391E-BFA9-42FF-9980-7257D378616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2e9f0"/>
              </a:gs>
              <a:gs pos="100000">
                <a:srgbClr val="3366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</a:rPr>
              <a:t>Fuentes de Financiamiento bancario para capital de trabajo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"/>
          <p:cNvSpPr/>
          <p:nvPr/>
        </p:nvSpPr>
        <p:spPr>
          <a:xfrm>
            <a:off x="3132000" y="5157720"/>
            <a:ext cx="5543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Unicode MS"/>
              </a:rPr>
              <a:t>Dr. Julio MACCHI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Presidente del Banco Ciudad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-Agosto/Septiembre 2006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640" y="3716280"/>
            <a:ext cx="78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000000"/>
                </a:solidFill>
                <a:latin typeface="Arial Unicode MS"/>
              </a:rPr>
              <a:t>II Congreso Nacional e Internacional de Finanzas de la Empresa y Mercado de Capit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4160" y="260280"/>
            <a:ext cx="1221840" cy="6193080"/>
            <a:chOff x="254160" y="260280"/>
            <a:chExt cx="1221840" cy="6193080"/>
          </a:xfrm>
        </p:grpSpPr>
        <p:sp>
          <p:nvSpPr>
            <p:cNvPr id="92" name=""/>
            <p:cNvSpPr/>
            <p:nvPr/>
          </p:nvSpPr>
          <p:spPr>
            <a:xfrm flipV="1" rot="5400000">
              <a:off x="-2635560" y="3316320"/>
              <a:ext cx="6193080" cy="8028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50000">
                  <a:srgbClr val="ffff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840240" y="-212400"/>
              <a:ext cx="49680" cy="1221840"/>
            </a:xfrm>
            <a:prstGeom prst="rect">
              <a:avLst/>
            </a:prstGeom>
            <a:gradFill rotWithShape="0">
              <a:gsLst>
                <a:gs pos="0">
                  <a:srgbClr val="336699"/>
                </a:gs>
                <a:gs pos="50000">
                  <a:srgbClr val="ffffff"/>
                </a:gs>
                <a:gs pos="100000">
                  <a:srgbClr val="33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rcRect l="0" t="0" r="2506" b="56149"/>
          <a:stretch/>
        </p:blipFill>
        <p:spPr>
          <a:xfrm>
            <a:off x="684360" y="189000"/>
            <a:ext cx="3098520" cy="479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 flipV="1">
            <a:off x="3886200" y="5715000"/>
            <a:ext cx="685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rot="10800000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3280" y="54936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Aumento de la asistencia financiera a empresa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77280" cy="527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 flipV="1">
            <a:off x="3886200" y="5715000"/>
            <a:ext cx="685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rot="10800000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3336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Nos adaptamos a las crecientes necesidades de las empresa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932360" y="2133720"/>
            <a:ext cx="4032360" cy="3463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79280" y="1413000"/>
            <a:ext cx="48243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El 85,7% de las PyMEs solicitaron préstamos amortizables y descuento de docu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El 70% de las financiaciones fueron otorgadas a más de un año de plazo (contra un 27% en enero de 2004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Casi la mitad del stock de financiamiento (48,3%) tuvo como destino el sector industrial, y también se destacó la demanda de crédito de las empresas dedicadas al transporte terrestre de pasajeros y carga, comerciantes y constructo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Recientemente se lanzó PyME10 para asistir la inversión de largo pl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flipV="1">
            <a:off x="3886200" y="5715000"/>
            <a:ext cx="685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rot="10800000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3280" y="549360"/>
            <a:ext cx="8675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Líneas de acció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839960"/>
            <a:ext cx="741672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Ampliar la participación del Banco Ciudad en la financiación del desarrollo económico y socia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Con mayor alcance a las PyMEs del ámbito regional (hoy representa el 1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Financiando a las empresas PyMEs proveedoras del Gobierno de la Ciudad y contribuyendo en las obras de infra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Incentivos a la modernización del parque automotor de empresas de transporte público (ómnibus y tax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5251320"/>
            <a:ext cx="8839080" cy="914400"/>
            <a:chOff x="0" y="5251320"/>
            <a:chExt cx="8839080" cy="914400"/>
          </a:xfrm>
        </p:grpSpPr>
        <p:sp>
          <p:nvSpPr>
            <p:cNvPr id="140" name=""/>
            <p:cNvSpPr/>
            <p:nvPr/>
          </p:nvSpPr>
          <p:spPr>
            <a:xfrm flipV="1">
              <a:off x="0" y="5918040"/>
              <a:ext cx="8839080" cy="7488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885080" y="5251320"/>
              <a:ext cx="650880" cy="914400"/>
              <a:chOff x="7885080" y="5251320"/>
              <a:chExt cx="650880" cy="914400"/>
            </a:xfrm>
          </p:grpSpPr>
          <p:sp>
            <p:nvSpPr>
              <p:cNvPr id="142" name=""/>
              <p:cNvSpPr/>
              <p:nvPr/>
            </p:nvSpPr>
            <p:spPr>
              <a:xfrm>
                <a:off x="8459640" y="5251320"/>
                <a:ext cx="76320" cy="91440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66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885080" y="5322960"/>
                <a:ext cx="380880" cy="45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4" name=""/>
          <p:cNvSpPr/>
          <p:nvPr/>
        </p:nvSpPr>
        <p:spPr>
          <a:xfrm>
            <a:off x="1655640" y="2773440"/>
            <a:ext cx="5832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700" spc="-1" strike="noStrike">
                <a:solidFill>
                  <a:srgbClr val="000000"/>
                </a:solidFill>
                <a:latin typeface="Arial Unicode MS"/>
              </a:rPr>
              <a:t>Muchas gracia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5229360"/>
            <a:ext cx="604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 u="sng">
                <a:solidFill>
                  <a:srgbClr val="0000ff"/>
                </a:solidFill>
                <a:uFillTx/>
                <a:latin typeface="Arial Unicode MS"/>
              </a:rPr>
              <a:t>www.bancociudad.com.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28480" y="1762200"/>
          <a:ext cx="8087040" cy="42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762200"/>
                    <a:ext cx="808704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¿Por qué es importante la financiación del capital de trabajo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1787400"/>
            <a:ext cx="7991280" cy="51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3960" indent="-274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ccecff"/>
                </a:solidFill>
                <a:latin typeface="Arial Unicode MS"/>
              </a:rPr>
              <a:t>El capital de trabajo es un efectivo "disponible" con el que la empresa cuenta y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Le permite realizar un ciclo productivo sin sobresaltos por descalces financi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Le permite agilizar sus operacione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Le permite estabilizarse en caso de apuros con respecto al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Sin embargo, las empresas no sólo requieren de capital de trabajo para operar y crecer. También es necesario el financiamiento de la inversión, capacitación y,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en el caso de las PyMEs, asistencia técn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7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Las PyMEs y el financiamiento bancario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2205000"/>
            <a:ext cx="770580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En los últimos 3 años, las PyMEs incrementaron 50% sus ventas, 35% su uso fabril y 22% su emple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El 14% de las PyMEs industriales que invirtieron en 2005 incrementaron su endeudamiento con bancos (Observatorio PyME), mientras que antes apelaban casi exclusivamente a fondos propios y crédito comer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No obstante, la proporción de PyMEs industriales que no recurre a financiamiento es alto y alcanza al 70% (Primer Trimestre 2006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Cada vez más, las encuestas a este segmento muestran su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demanda de líneas de crédito de mayor plaz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48428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ccecff"/>
                </a:solidFill>
                <a:latin typeface="Arial Unicode MS"/>
              </a:rPr>
              <a:t>Escenario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¿A qué segmentos apuntamos desde el Banco Ciudad?</a:t>
            </a: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560" y="178272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En pos de contribuir con el desarrollo económico y social, el Banco Ciudad se propuso ampliar su asistencia comercial a la actividad productiva, empresas y microemprendimientos.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En ese camino, se delinearon líneas de préstamos que abarcaran la mayoría de las necesidades financieras derivadas de las características particulares de sus respectivos negocios, tanto de grandes como de pequeña y mediana escala. 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</a:rPr>
              <a:t>Se redujeron las tasas de interés, que en algunos casos resultaron negativas en términos reales, se incorporó la financiación a tasa de interés fija o combinada, se extendieron los plazos de amortización, se ampliaron los montos de financiación y se flexibilizaron las condiciones de acceso (siempre dentro del marco normativo dispuesto por el Banco Central).</a:t>
            </a:r>
            <a:endParaRPr b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V="1">
            <a:off x="3886200" y="5715000"/>
            <a:ext cx="685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rot="10800000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59220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¿Cómo se conforma la oferta del Banco Ciudad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65120" y="1770120"/>
          <a:ext cx="6748560" cy="391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770120"/>
                    <a:ext cx="674856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68360" y="1341360"/>
            <a:ext cx="691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ccecff"/>
                </a:solidFill>
                <a:latin typeface="Arial Unicode MS"/>
              </a:rPr>
              <a:t>Líneas de crédito con recursos propi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 flipV="1">
            <a:off x="3886200" y="5715000"/>
            <a:ext cx="685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rot="10800000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9220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¿Cómo se conforma la oferta del Banco Ciudad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87280" y="2205000"/>
          <a:ext cx="6704280" cy="214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205000"/>
                    <a:ext cx="670428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468360" y="134136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ccecff"/>
                </a:solidFill>
                <a:latin typeface="Arial Unicode MS"/>
              </a:rPr>
              <a:t>Asistencia conjunta con Garantizar SGR y Corporación Buenos Aires S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720" y="4437000"/>
            <a:ext cx="77043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</a:rPr>
              <a:t>Como socios protectores de Garantizar SGR entendemos que el mecanismo de garantías recíprocas es un instrumento fundamental para asistir a las PyM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</a:rPr>
              <a:t>A su vez, la línea con la Corporación del Sur permite financiar empresas nacientes (única en el mercado 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V="1">
            <a:off x="3886200" y="5715000"/>
            <a:ext cx="685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 rot="10800000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9220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¿Cómo se conforma la oferta del Banco Ciudad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148428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ccecff"/>
                </a:solidFill>
                <a:latin typeface="Arial Unicode MS"/>
              </a:rPr>
              <a:t>Licitaciones SEPYME para subsidio de t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22320" y="2279520"/>
          <a:ext cx="6313680" cy="24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2320" y="2279520"/>
                    <a:ext cx="6313680" cy="24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755640" y="4724280"/>
            <a:ext cx="770400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</a:rPr>
              <a:t>Hemos licitado entre las tasas más bajas que las del mercado (9% para capital de trabajo y 12% para bs. de capital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Arial Unicode MS"/>
              </a:rPr>
              <a:t>Así, las PyMEs acceden a tasas 25% inferiores, que actualmente </a:t>
            </a:r>
            <a:br>
              <a:rPr sz="1900"/>
            </a:br>
            <a:r>
              <a:rPr b="1" i="1" lang="es-ES" sz="1900" spc="-1" strike="noStrike">
                <a:solidFill>
                  <a:srgbClr val="000000"/>
                </a:solidFill>
                <a:latin typeface="Arial Unicode MS"/>
              </a:rPr>
              <a:t>son negativas en términos rea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59220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¿Cómo se conforma la oferta del Banco Ciudad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413000"/>
            <a:ext cx="691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ccecff"/>
                </a:solidFill>
                <a:latin typeface="Arial Unicode MS"/>
              </a:rPr>
              <a:t>Recientemente se lanzó PYME1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133720"/>
            <a:ext cx="590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1640" y="5084640"/>
            <a:ext cx="752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Unicode MS"/>
              </a:rPr>
              <a:t>Una línea de financiación a largo plazo para PyMEs en el ámbito regional, con la tasa más baja del merc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1979640"/>
          <a:ext cx="7343640" cy="289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79640"/>
                    <a:ext cx="734364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4000" y="592200"/>
            <a:ext cx="8675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Arial Unicode MS"/>
              </a:rPr>
              <a:t>¿Cómo se conforma la oferta del Banco Ciudad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1413000"/>
            <a:ext cx="432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ccecff"/>
                </a:solidFill>
                <a:latin typeface="Arial Unicode MS"/>
              </a:rPr>
              <a:t>Instituto Py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133720"/>
            <a:ext cx="590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1640" y="1916280"/>
            <a:ext cx="828072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Un ámbito técnico desde el Banco para la promoción y el desarrollo de nuevas oportunidades de negocios y prestar asistencia técnica no financiera, destinado a las micro y PyMEs de la Región Metropolit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Se ofrecen servicios gratuitos o de bajo costo, que complementan los servicios financieros del Ban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 Unicode MS"/>
              </a:rPr>
              <a:t>Realización de Semana PyME 2005</a:t>
            </a: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: 4.000 visitantes y 2.800 PyMEs,  437 rondas de negocios con 11 empresas del exterior, talleres, seminarios y stan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 Unicode MS"/>
              </a:rPr>
              <a:t>Realización de Semana PyME 2006</a:t>
            </a: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: 5.200 visitantes, 850 reuniones donde 1.200 PyMEs acordaron negocios por U$S 450.000 durante el evento con 18 empresas del exterior participaron de misión comercial inversa, talleres, seminarios y st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20:22:16Z</dcterms:created>
  <dc:creator>re408937</dc:creator>
  <dc:description/>
  <dc:language>en-US</dc:language>
  <cp:lastModifiedBy>C.P.C.E.C.A.B.A.</cp:lastModifiedBy>
  <cp:lastPrinted>2005-11-07T20:55:05Z</cp:lastPrinted>
  <dcterms:modified xsi:type="dcterms:W3CDTF">2006-09-01T18:35:36Z</dcterms:modified>
  <cp:revision>521</cp:revision>
  <dc:subject/>
  <dc:title>Cuadro I</dc:title>
</cp:coreProperties>
</file>