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E8040-3136-4078-8EA3-5A20183E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36855-C3D0-4FF4-BDF1-67B178B1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CF660-5E9D-4B02-9157-C8418AA1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1D21-CA50-4ED1-8D15-AF3C03EC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C181-08E6-4BB3-AADE-160ABFEF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3AED-FC1E-4ED5-AB1A-9CC3CAAD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3E59-B4FC-4EF1-9BE0-270C027B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E544-A5BD-4EE8-BD28-2D69115C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CE6F-9F5E-49C3-96BF-A06C8CFD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2874-95A8-4EF6-8D06-AABA8789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7CC8-776B-43E1-949C-E2FDFEFD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24598-9684-4470-846A-3A7D5F9A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CB5E-3B7C-4524-81A6-2FCD4F7D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9F51-8B84-49D1-89AD-CE94FAF9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993F-B561-447B-B176-450A929A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5378-30EC-40FF-91CB-74395C06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97CE-4BDC-4D45-9903-ADCA2D66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7C6EE-FAA8-45B0-950A-171F5388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D170F-94C2-4C8A-B1A6-9121E245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5D024-FE04-4A9C-8037-CA4040F2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9DDAD-733E-48F0-86DF-A329BCCA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C5EDE-0B89-4D14-80D4-B997A4F4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852C-A055-4124-9FDC-AB740A4A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D93D4-C017-4F65-ABAC-A7E268B4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B469-478F-499C-9021-22E470A24CC1}" type="slidenum">
              <a:rPr b="0" lang="es-A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E0B6-6467-43DC-A757-EB8D793D32BB}" type="slidenum">
              <a:rPr b="0" lang="es-A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3280" y="1699920"/>
            <a:ext cx="63007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La inversión en el sector agropecuario.</a:t>
            </a:r>
            <a:r>
              <a:rPr b="0" lang="es-E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ic. Jorge Ingar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consumo mundial de carnes en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población mundial pasa de 6760 a 7470 millones de habitantes: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10,5 % de aumento, o sea 710 millones de personas,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Sólo 77 millones vivirán en países OC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el consumo per cápita de las tres carnes más importantes, se emplean proyecciones de OCDE y F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ECD: +  6.8%, durante el período 2004-2014, pasando de 66.5 a 71 kg por habit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OECD: + 13.2%. Se incrementará de 23.5 a 26.6 kg por habit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El consumo de las tres carnes pasará de 197,6 a 239,7 millones de toneladas, con un incremento de 42,1 millon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or lo tanto, harán falta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a) un 18,3 % más de carne vacuna, 8, 5 M.T. (de 46,4 a 54,9)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b) un 20,1% más de carne de cerdo, 16,7 M.T. (83,3 a 100) 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) 24,9% más de carne aviar, 16,9 M.T. (67,9 a 84,7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a) 4 kg de maíz por kg de carne vacuna, </a:t>
            </a:r>
            <a:br>
              <a:rPr sz="2900"/>
            </a:b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el resto se produce con praderas y hay mejoras en la conversión. </a:t>
            </a:r>
            <a:br>
              <a:rPr sz="2900"/>
            </a:b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Por ende, se necesitarán 34 M.T. adicionales de maíz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b) 3,5 kg de maíz por kg de cerdo, (80% de la dieta). Harán falta 59 M.T. de maíz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Se incorporan 200g de harina de soja para obtener un kg de cerdo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Demanda de 3,3 M.T. de harina de soj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) Se plantea una conversión de 2,9 kg de ración por kg de pollo. El 67% de la ración es maíz y 33% harina de soja, por lo tanto hacen falta 33 M.T. de maíz y 16 M.T. de harina de soja adicion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a)+(b)+(c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9,3 M.T. adicionales de harina de soja que, suponiendo una conversión de semilla en harina de 0,68, generan una demanda adicional de 28,4 M.T. de semilla. Ello + “demanda tradicional” (pasa de 28,4 a 32 M.T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 un rinde de 3 tn, por hectárea harán falta 10,7 millones de hectáreas (M.H.) sojeras adiciona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) El incremento estimado en la demanda de maíz, para las tres carnes, asciende a 126 M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e requerimiento podría ser abastecido en un 15% por otros cereales forrajeros, por lo que suponiendo un 85% de uso del maíz, harán falta 107 M.T. adicion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stimando un rendimiento de 8 tn./ha., para 2015, harán falta 13,5 M.H. adi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establecerán abastecimientos probables, suponiendo creciente participación de los productores más eficien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las 10,7 M.H.  Requeri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EE.UU. aportaría 1M., al igual que el resto de América Latina (excluidos Argentina y Brasi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El resto del mundo proveería apenas 0,7 M.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Argentina y Brasil se repartirían los 8 M.H. cruciales para el crecimiento del área.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hipótesis de 4/6 M.H. adicionales para soja en la Argentina, no debería descartars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rasil &gt; costos similares de producción y    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ayores de comercializació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B) Las 107 M.T. de maíz podrían provenir de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1) EE.UU. (38 M.T. y 4 M.H.)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2) Brasil (8 M.T. y 2 M.H..)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3) China (10 M.T. y 2 M.H.)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) Resto del mundo (16 M.T. y 4 M.H.)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5) Argentina (35 M.T. y 4,7 M.H. adicionales)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odificación de la frontera agropecuaria mun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frontera agropecuaria mundial sólo se modificará si se obtienen altos rendimientos (renta mayor en las tierras ya productiva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lo es factible en los cuatro países que obtienen más de 6 ó 7 tn/ha. De los cuatro mencionados, en EE.UU. el maíz enfrenta la fuerte competencia de la soja, mientras que Canadá y Egipto cultivan pequeñas superfi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odificación de la frontera agropecuaria mun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rgentina es un caso similar a los EE.UU., pero con mayores posibilidades de ampliación de frontera (por sustitución de la ganadería extensiva, o reemplazo de ésta por modelos con mayor carga ganadera y fuerte suplementación, precisamente con maíz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las actuales 2,5 M.H. comerciales, que se suman a 400.000 has de consumo en campo, podrían agregárseles las mencionadas 4,7 M.H. y adicionalmente un crecimiento de las hectáreas de maíz destinado a consumo en camp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manda total de algo menos de 8 M.H. maiceras, en fuerte competencia con las requeridas para soj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odificación de la frontera agropecuaria Argen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Qué inversiones se consider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nsider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versiones inmobiliarias (en tier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activos para producir (bienes de capital y mejo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pital de trabajo (para cosechas específ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pecul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viamente, no se podrán satisfacer ambos us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difícil pensar en 8/9 M.H. adicionales, en diez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relaciones de complementariedad y sustitución entre usos (ligadas a los precios relativos y a las necesidades de rotación), para el cuidado del recurso suelo, serán la que determinen las prioridades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Argentina aumenta su consumo interno de forrajes y harinas proteicas, con destino ganad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- Carne vac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demanda mundial crecerá en 8,5 M.T.. Son escasas las posibilidades de la sustitución de importaciones en los países demandan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70% de dicho incremento en la demanda se deberá importar de los oferentes tradicionales, entre ellos Argentina y Brasil.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rgentina hoy representa el 10% del total exportado a nivel mundial.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supone que tomará sólo el 20% del incremento de la demanda: 1,19 M.T.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consumo doméstico crecerá de los 2,4 M.T. actuales a 2,64 M.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roducción debería crecer en 1,43 M.T., o sea que la faena aumentaría en 6,5 millones de cabezas (de las 14/15 millones actuale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arne de poll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demanda mundial requerirá 16,9 M.T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grado de apertura a nivel internacional aumentará muy poco, ya que se mantendrá la actual tendencia a comprar insumos para alimentar pollos, cerca del mercado de desti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demanda internacional crecería en 1,35 M.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rgentina abastece la mitad de dicho crecimiento: 675.000 Tn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ombinación de un aumento de 8 kg en el consumo per cápita local y el crecimiento demográfico (de 38 a 43 millones de habitantes), generan una demanda adicional de 454.000 T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madas a la demanda internacional, plantean un requerimiento de 1,13 M.T. adicion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sector puede crecer 123% en 10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inversiones no son elevad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disponen de insumos localizados en una vasta región de la Argentin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enen el subsidio implícito del costo del flete a puerto del principal insumo (maíz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 basta ver el ejemplo de la expansión brasilera entre 1996 y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arne de cerdo.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La demanda mundial adicional será 16,7 M.T.. Este es un rubro de escasísima apertura externa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Si las importaciones mundiales crecen en 1,17 M.T., la Argentina podría tomar un 30% de la misma (350.000 tn)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prevé pasar de un consumo interno de 5,4 Kg/hab. a 10 kg/hab. merced a la mejora en el consumo de fresco (actualmente no pasa de los 1.5 kg anuale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genera una demanda adicional de 225.000 t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bría que incrementar la oferta en 575.000 tn, vale decir un 223% de sub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manda de insumos por los tres sectores productores de car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jo impacto en la demanda de harina de soja ya que la Argentina exporta prácticamente toda su producción (19,7 M.T.), mientras que Brasil industrializa algo menos que el 38% de la suya (23,2 M.T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acto en la demanda de maíz: hay que considerar los requerimientos de los tres subsectores, a sab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 kg de maíz por kg de carne vacun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,5 por cada kilogramo de cerd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kg  por cada kilogramo pol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demandas locales adicionales de maíz son: 5,7; 2,3 y 2,0 M.T. para carnes vacuna, de pollo y de cerdo, respectiv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suma alcanza a 10 M.T. que, a un rinde promedio esperado para 2005, de 8 tn/ha, genera un requerimiento de 1.250.000 hectá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tamos el caso de la Región Pampeana y de los cultivos principales (trigo, maíz, soja y girasol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fuente principal de inversión es la que proviene de la renta de las tierras que vuelve al circuito productivo. Tendencia a autofinanciamiento de los produc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incorporan a las 2.500.000 actuales que tienen destino comercial y a una fuerte suba de las hectáreas maiceras no comerciales de 450.000 a 800.000 hectáreas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esta hipótesis, habría 4,5 M.H. implantadas con maíz en 2015, un crecimiento del 53% con respecto a la actualidad (sin considerar la demanda de grano tal cual para exporta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rgentina como proveedor de maíz y soja a la industria cárnica del exterio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 hipótesis se basa en la posibilidad de expandir en 4,7 M.H. la producción local de maíz y/o en 4 a 6 M.H. la producción local de so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cería la industrialización local de maíz (2,7 M.T. adicionales), ya que debería abastecer el mayor consumo inter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rgentina debería captar clientes para la demanda de grano tal cual, que el USDA estima se incrementará en 29 M.T. en diez añ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endo muy eficiente podría tomar 2/3 del incremento importado (19 M.T.) y abastecer 2,7 M.T. del mercado local, o sea que harán falta 2,7 M.H. adi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renta de las tierras pampeanas promedió en las últimas 15 campañas aproximadamente 75 dólares. Se puede demostrar que es función de los preci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á fuertemente influida por la renta sojera. Durante los años 90 fue muy variada (picos de 181 dólares y valles de -18 dólar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2003-04 fue de 135 dólares, cayendo a 82 y 96 en las dos campañas sigu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la actualidad siembran 40% de propietarios y 60% bajo algún sistema contractual (alquiler o porcentaj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siembra con estos sistemas permite nuevas formas de obtención de financi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 más habitual son los llamados pools de siembra o los fideicomisos (terceros agregan capital al secto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fideicomiso de siembra, fundado en la Ley 24441/94, separa los bienes fideicomitidos del patrimonio o del balance de quienes participan en el negocio que es obje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e marco ha dado lugar a la expansión de empresas pequeñas con gran capacidad de gestión y confiab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existen los productos “derivados”, cuyo precio deriva del de otro bien (subyacente), en este caso commod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derivados no financieros pueden basarse en productos prim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ás conocidos son los Fondos de Inversión en Índices, que operan en la bolsa, reflejando los subyacentes cotizados en distintos mercados (prácticamente no están disponibles en La Argentin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versión, o sea la inmovilización que supera el período anual o de una campaña, habitualmente está a cargo de los propietarios que se autofinanc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obstante, los fiedicomisos de inversión son los negocios donde se transmite la propiedad fiduciaria de recursos financieros, según reglamentos de los fideicomitentes (aportantes) para su beneficio o el de terceros (beneficiarios), que pueden aplicarlos a fines determin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Arial"/>
              </a:rPr>
              <a:t>Análisis de una opción de inversion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El caso de la transformación de maíz y harina de soja en car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.P.C.E.C.A.B.A.</cp:lastModifiedBy>
  <dcterms:modified xsi:type="dcterms:W3CDTF">2006-08-30T20:12:28Z</dcterms:modified>
  <cp:revision>54</cp:revision>
  <dc:subject/>
  <dc:title>PowerPoint Presentation</dc:title>
</cp:coreProperties>
</file>