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D027-65EA-45CA-AFF8-866268A7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47DA-2F1A-4261-92F4-328B2BFA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9720-1D62-4123-A274-29383D48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B08D-F7D9-45A8-BDDE-4153564A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4C55-C3DF-4F4B-AC9D-2C720270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40E9-188E-4A3F-89FF-2F5D08C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23C0-4C14-4F01-85EB-0D20945D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28F7-0E35-4015-A1F2-2743A0A8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ADEF-9AA1-4605-B0F6-68CBE688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6D20-73CF-4648-869A-86BF2C0C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BAB4-602E-4EAA-BB44-A100ED1C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F107-105B-42A9-948E-C93D8E14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AE59-B2A5-4F69-B8B5-64F10841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8736-D8D6-42D7-878A-044DB4CB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A70E-9796-4445-A4F8-CA8355DC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862E-CF4A-4EC4-B115-BB43E637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DE17-5BD9-49A1-A355-D3A6B469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88ED-9951-4E31-8E95-3602031C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992C-2528-4EF9-8554-D81F11F2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CAD8-4560-4D1B-81A0-AB035011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6CAC-3E9A-41AC-A1E2-69478AF8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1819-99FD-443B-A42C-2CD67575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C811-604F-482D-952D-D9BEE6A5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E51B-98E1-419D-A42F-BE9E9AA6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6825-DC46-44A8-8D33-2005728B1EF6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167-BBA6-4537-8492-16485CD108A8}" type="slidenum">
              <a:rPr b="0" lang="es-A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699920"/>
            <a:ext cx="63007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La inversión en el sector agropecuario.</a:t>
            </a: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ic. Jorge Ingar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onsumo mundial de carnes en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oblación mundial pasa de 6760 a 7470 millones de habitantes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10,5 % de aumento, o sea 710 millones de personas,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Sólo 77 millones vivirán en países OC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el consumo per cápita de las tres carnes más importantes, se emplean proyecciones de OCDE y F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ECD: +  6.8%, durante el período 2004-2014, pasando de 66.5 a 71 kg por habit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OECD: + 13.2%. Se incrementará de 23.5 a 26.6 kg por habit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onsumo de las tres carnes pasará de 197,6 a 239,7 millones de toneladas, con un incremento de 42,1 millon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or lo tanto, harán falt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) un 18,3 % más de carne vacuna, 8, 5 M.T. (de 46,4 a 54,9)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b) un 20,1% más de carne de cerdo, 16,7 M.T. (83,3 a 100)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) 24,9% más de carne aviar, 16,9 M.T. (67,9 a 84,7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a) 4 kg de maíz por kg de carne vacuna, 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l resto se produce con praderas y hay mejoras en la conversión. 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Por ende, se necesitarán 34 M.T. adicionales de maíz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b) 3,5 kg de maíz por kg de cerdo, (80% de la dieta). Harán falta 59 M.T. de maíz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e incorporan 200g de harina de soja para obtener un kg de cerd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Demanda de 3,3 M.T. de harina de soj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) Se plantea una conversión de 2,9 kg de ración por kg de pollo. El 67% de la ración es maíz y 33% harina de soja, por lo tanto hacen falta 33 M.T. de maíz y 16 M.T. de harina de soja adicion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a)+(b)+(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9,3 M.T. adicionales de harina de soja que, suponiendo una conversión de semilla en harina de 0,68, generan una demanda adicional de 28,4 M.T. de semilla. Ello + “demanda tradicional” (pasa de 28,4 a 32 M.T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 un rinde de 3 tn, por hectárea harán falta 10,7 millones de hectáreas (M.H.) sojeras adicion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El incremento estimado en la demanda de maíz, para las tres carnes, asciende a 126 M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requerimiento podría ser abastecido en un 15% por otros cereales forrajeros, por lo que suponiendo un 85% de uso del maíz, harán falta 107 M.T. adicio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timando un rendimiento de 8 tn./ha., para 2015, harán falta 13,5 M.H. 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establecerán abastecimientos probables, suponiendo creciente participación de los productores más eficie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s 10,7 M.H.  Requer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E.UU. aportaría 1M., al igual que el resto de América Latina (excluidos Argentina y Brasi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l resto del mundo proveería apenas 0,7 M.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Argentina y Brasil se repartirían los 8 M.H. cruciales para el crecimiento del área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hipótesis de 4/6 M.H. adicionales para soja en la Argentina, no debería descartar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asil &gt; costos similares de producción y    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yores de comercializació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B) Las 107 M.T. de maíz podrían provenir de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1) EE.UU. (38 M.T. y 4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2) Brasil (8 M.T. y 2 M.H.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3) China (10 M.T. y 2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) Resto del mundo (16 M.T. y 4 M.H.)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5) Argentina (35 M.T. y 4,7 M.H. adicionales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rontera agropecuaria mundial sólo se modificará si se obtienen altos rendimientos (renta mayor en las tierras ya productiv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lo es factible en los cuatro países que obtienen más de 6 ó 7 tn/ha. De los cuatro mencionados, en EE.UU. el maíz enfrenta la fuerte competencia de la soja, mientras que Canadá y Egipto cultivan pequeñas superfi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mun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es un caso similar a los EE.UU., pero con mayores posibilidades de ampliación de frontera (por sustitución de la ganadería extensiva, o reemplazo de ésta por modelos con mayor carga ganadera y fuerte suplementación, precisamente con maíz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s actuales 2,5 M.H. comerciales, que se suman a 400.000 has de consumo en campo, podrían agregárseles las mencionadas 4,7 M.H. y adicionalmente un crecimiento de las hectáreas de maíz destinado a consumo en camp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manda total de algo menos de 8 M.H. maiceras, en fuerte competencia con las requeridas para soj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odificación de la frontera agropecuaria 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é inversiones se conside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nsider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versiones inmobiliarias (en tier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os para producir (bienes de capital y mejo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ital de trabajo (para cosechas específ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ul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viamente, no se podrán satisfacer ambos us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difícil pensar en 8/9 M.H. adicionales, en diez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relaciones de complementariedad y sustitución entre usos (ligadas a los precios relativos y a las necesidades de rotación), para el cuidado del recurso suelo, serán la que determinen las prioridade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Argentina aumenta su consumo interno de forrajes y harinas proteicas, con destino ganad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- Carne vac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manda mundial crecerá en 8,5 M.T.. Son escasas las posibilidades de la sustitución de importaciones en los países demand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70% de dicho incremento en la demanda se deberá importar de los oferentes tradicionales, entre ellos Argentina y Brasil.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hoy representa el 10% del total exportado a nivel mundial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upone que tomará sólo el 20% del incremento de la demanda: 1,19 M.T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nsumo doméstico crecerá de los 2,4 M.T. actuales a 2,64 M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oducción debería crecer en 1,43 M.T., o sea que la faena aumentaría en 6,5 millones de cabezas (de las 14/15 millones actual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rne de poll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emanda mundial requerirá 16,9 M.T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grado de apertura a nivel internacional aumentará muy poco, ya que se mantendrá la actual tendencia a comprar insumos para alimentar pollos, cerca del mercado de desti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emanda internacional crecería en 1,35 M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abastece la mitad de dicho crecimiento: 675.000 Tn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mbinación de un aumento de 8 kg en el consumo per cápita local y el crecimiento demográfico (de 38 a 43 millones de habitantes), generan una demanda adicional de 454.000 T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madas a la demanda internacional, plantean un requerimiento de 1,13 M.T. adicio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sector puede crecer 123% en 10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inversiones no son elevad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isponen de insumos localizados en una vasta región de la Argenti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n el subsidio implícito del costo del flete a puerto del principal insumo (maíz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basta ver el ejemplo de la expansión brasilera entre 1996 y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rne de cerdo.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La demanda mundial adicional será 16,7 M.T.. Este es un rubro de escasísima apertura externa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Si las importaciones mundiales crecen en 1,17 M.T., la Argentina podría tomar un 30% de la misma (350.000 tn)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prevé pasar de un consumo interno de 5,4 Kg/hab. a 10 kg/hab. merced a la mejora en el consumo de fresco (actualmente no pasa de los 1.5 kg anual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genera una demanda adicional de 225.000 t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bría que incrementar la oferta en 575.000 tn, vale decir un 223% de su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manda de insumos por los tres sectores productores de car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o impacto en la demanda de harina de soja ya que la Argentina exporta prácticamente toda su producción (19,7 M.T.), mientras que Brasil industrializa algo menos que el 38% de la suya (23,2 M.T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en la demanda de maíz: hay que considerar los requerimientos de los tres subsectores, a sab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kg de maíz por kg de carne vacun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,5 por cada kilogramo de cer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kg  por cada kilogramo p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demandas locales adicionales de maíz son: 5,7; 2,3 y 2,0 M.T. para carnes vacuna, de pollo y de cerdo, respectiv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ma alcanza a 10 M.T. que, a un rinde promedio esperado para 2005, de 8 tn/ha, genera un requerimiento de 1.250.000 hectá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tamos el caso de la Región Pampeana y de los cultivos principales (trigo, maíz, soja y giraso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uente principal de inversión es la que proviene de la renta de las tierras que vuelve al circuito productivo. Tendencia a autofinanciamiento de los produ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corporan a las 2.500.000 actuales que tienen destino comercial y a una fuerte suba de las hectáreas maiceras no comerciales de 450.000 a 800.000 hectárea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sta hipótesis, habría 4,5 M.H. implantadas con maíz en 2015, un crecimiento del 53% con respecto a la actualidad (sin considerar la demanda de grano tal cual para exporta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rgentina como proveedor de maíz y soja a la industria cárnica del exterio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 hipótesis se basa en la posibilidad de expandir en 4,7 M.H. la producción local de maíz y/o en 4 a 6 M.H. la producción local de so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ería la industrialización local de maíz (2,7 M.T. adicionales), ya que debería abastecer el mayor consumo inter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rgentina debería captar clientes para la demanda de grano tal cual, que el USDA estima se incrementará en 29 M.T. en diez añ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endo muy eficiente podría tomar 2/3 del incremento importado (19 M.T.) y abastecer 2,7 M.T. del mercado local, o sea que harán falta 2,7 M.H. 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nta de las tierras pampeanas promedió en las últimas 15 campañas aproximadamente 75 dólares. Se puede demostrar que es función de los preci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 fuertemente influida por la renta sojera. Durante los años 90 fue muy variada (picos de 181 dólares y valles de -18 dóla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2003-04 fue de 135 dólares, cayendo a 82 y 96 en las dos campañas sigu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actualidad siembran 40% de propietarios y 60% bajo algún sistema contractual (alquiler o porcentaj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iembra con estos sistemas permite nuevas formas de obtención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más habitual son los llamados pools de siembra o los fideicomisos (terceros agregan capital al secto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fideicomiso de siembra, fundado en la Ley 24441/94, separa los bienes fideicomitidos del patrimonio o del balance de quienes participan en el negocio que es obj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marco ha dado lugar a la expansión de empresas pequeñas con gran capacidad de gestión y confia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existen los productos “derivados”, cuyo precio deriva del de otro bien (subyacente), en este caso commod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derivados no financieros pueden basarse en productos prim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ás conocidos son los Fondos de Inversión en Índices, que operan en la bolsa, reflejando los subyacentes cotizados en distintos mercados (prácticamente no están disponibles en La Argenti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, o sea la inmovilización que supera el período anual o de una campaña, habitualmente está a cargo de los propietarios que se autofinanc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obstante, los fiedicomisos de inversión son los negocios donde se transmite la propiedad fiduciaria de recursos financieros, según reglamentos de los fideicomitentes (aportantes) para su beneficio o el de terceros (beneficiarios), que pueden aplicarlos a fines determi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Análisis de una opción de inversion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aso de la transformación de maíz y harina de soja en car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6-08-30T20:12:28Z</dcterms:modified>
  <cp:revision>54</cp:revision>
  <dc:subject/>
  <dc:title>PowerPoint Presentation</dc:title>
</cp:coreProperties>
</file>