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9803A-E7F4-4FE0-91AD-7EAEE7210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CC87D-9E45-4ACB-9514-6634C8729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06313-4BB3-4102-AAD4-12176808B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74910-294D-406B-8CDA-A706F644D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CE0FF-346B-4482-BA01-4A19FCF59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3C0CF-B830-4844-9820-B637364A9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16F91-3329-4731-8CC2-575F6CDA0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58BF3-EBDC-4A8E-92C7-F496D84E5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BFFC9-4D90-47C0-993C-2ADDA299C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E6127-CBC8-44E3-AD50-9956AD892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927D3-4D3D-4E07-8313-764BBE620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59270-7D24-4DC7-A27C-15920E23B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946BF-9EEB-457C-97AB-F81787675C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Base" hidden="1"/>
          <p:cNvSpPr/>
          <p:nvPr/>
        </p:nvSpPr>
        <p:spPr>
          <a:xfrm>
            <a:off x="1614600" y="1397160"/>
            <a:ext cx="66038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rcRect l="26958" t="12452" r="28098" b="44196"/>
          <a:stretch/>
        </p:blipFill>
        <p:spPr>
          <a:xfrm>
            <a:off x="6443640" y="380880"/>
            <a:ext cx="2536920" cy="81756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-36360" y="0"/>
            <a:ext cx="9180360" cy="1159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-36360" y="0"/>
            <a:ext cx="15228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115920" y="6629400"/>
            <a:ext cx="9039240" cy="189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057400" y="1459080"/>
            <a:ext cx="6781680" cy="12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7c7e84"/>
                </a:solidFill>
                <a:latin typeface="Trebuchet MS"/>
              </a:rPr>
              <a:t>Compañía Inversora Bursátil </a:t>
            </a:r>
            <a:br>
              <a:rPr sz="3400"/>
            </a:br>
            <a:r>
              <a:rPr b="0" lang="en-US" sz="3400" spc="-1" strike="noStrike">
                <a:solidFill>
                  <a:srgbClr val="7c7e84"/>
                </a:solidFill>
                <a:latin typeface="Trebuchet MS"/>
              </a:rPr>
              <a:t>Sociedad de Bolsa S.A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3504600" y="6095880"/>
            <a:ext cx="75960" cy="7632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lnSpc>
                <a:spcPct val="200000"/>
              </a:lnSpc>
              <a:spcBef>
                <a:spcPts val="601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6400800" y="6095880"/>
            <a:ext cx="76320" cy="7632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lnSpc>
                <a:spcPct val="200000"/>
              </a:lnSpc>
              <a:spcBef>
                <a:spcPts val="601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1905120" y="1125360"/>
            <a:ext cx="38088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905120" y="1108080"/>
            <a:ext cx="0" cy="160020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05120" y="2708280"/>
            <a:ext cx="632448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2209680" y="2519280"/>
            <a:ext cx="76320" cy="7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lnSpc>
                <a:spcPct val="200000"/>
              </a:lnSpc>
              <a:spcBef>
                <a:spcPts val="601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709080" y="5562720"/>
            <a:ext cx="1930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8000"/>
                </a:solidFill>
                <a:latin typeface="Trebuchet MS"/>
              </a:rPr>
              <a:t>Agosto 2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71640" y="4665600"/>
            <a:ext cx="388800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rebuchet MS"/>
              </a:rPr>
              <a:t>Cristian Calder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Trebuchet MS"/>
              </a:rPr>
              <a:t>Gerente Mercado de Capit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826920" y="1700280"/>
            <a:ext cx="763272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spcBef>
                <a:spcPts val="1125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777777"/>
                </a:solidFill>
                <a:latin typeface="Arial"/>
              </a:rPr>
              <a:t>Distribución por tipo de Cuotapartistas - Gainvest F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rcRect l="0" t="21305" r="0" b="0"/>
          <a:stretch/>
        </p:blipFill>
        <p:spPr>
          <a:xfrm>
            <a:off x="971640" y="2732040"/>
            <a:ext cx="7056360" cy="328932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668160" y="334800"/>
            <a:ext cx="6494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77777"/>
                </a:solidFill>
                <a:latin typeface="Trebuchet MS"/>
              </a:rPr>
              <a:t>Nuevo Asset Class: </a:t>
            </a:r>
            <a:r>
              <a:rPr b="1" i="1" lang="en-US" sz="2200" spc="-1" strike="noStrike">
                <a:solidFill>
                  <a:srgbClr val="777777"/>
                </a:solidFill>
                <a:latin typeface="Trebuchet MS"/>
              </a:rPr>
              <a:t>FCIs de Fideicomis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532800" y="533520"/>
            <a:ext cx="75960" cy="7596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200000"/>
              </a:lnSpc>
              <a:spcBef>
                <a:spcPts val="601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rcRect l="8106" t="13255" r="24689" b="16480"/>
          <a:stretch/>
        </p:blipFill>
        <p:spPr>
          <a:xfrm>
            <a:off x="1185840" y="1341360"/>
            <a:ext cx="6265800" cy="400536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189080" y="5877000"/>
            <a:ext cx="669600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ad98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24000" y="1125360"/>
            <a:ext cx="8229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1500"/>
              </a:spcBef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547640" y="5950080"/>
            <a:ext cx="612144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40000"/>
                </a:solidFill>
                <a:latin typeface="Trebuchet MS"/>
              </a:rPr>
              <a:t>105 especies de Fideicomisos Financieros en cartera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1341360"/>
            <a:ext cx="874872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spcBef>
                <a:spcPts val="1125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77777"/>
                </a:solidFill>
                <a:latin typeface="Trebuchet MS"/>
              </a:rPr>
              <a:t>Cartera de Inversiones del Fondo Gainvest F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68160" y="334800"/>
            <a:ext cx="6494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77777"/>
                </a:solidFill>
                <a:latin typeface="Trebuchet MS"/>
              </a:rPr>
              <a:t>Nuevo Asset Class: </a:t>
            </a:r>
            <a:r>
              <a:rPr b="1" i="1" lang="en-US" sz="2200" spc="-1" strike="noStrike">
                <a:solidFill>
                  <a:srgbClr val="777777"/>
                </a:solidFill>
                <a:latin typeface="Trebuchet MS"/>
              </a:rPr>
              <a:t>FCIs de Fideicomis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532800" y="533520"/>
            <a:ext cx="75960" cy="7596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200000"/>
              </a:lnSpc>
              <a:spcBef>
                <a:spcPts val="601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123920" y="6172200"/>
            <a:ext cx="75517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buClr>
                <a:srgbClr val="d8c866"/>
              </a:buClr>
              <a:buFont typeface="Wingdings 2" charset="2"/>
              <a:buChar char="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s-AR" sz="1200" spc="-1" strike="noStrike">
                <a:solidFill>
                  <a:srgbClr val="000000"/>
                </a:solidFill>
                <a:latin typeface="Trebuchet MS"/>
              </a:rPr>
              <a:t>Rentabilidad Promedio Fondos de M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d8c866"/>
              </a:buClr>
              <a:buFont typeface="Wingdings 2" charset="2"/>
              <a:buChar char="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Trebuchet MS"/>
              </a:rPr>
              <a:t>Los resultados históricos no garantizan que los mismos se mantengan en el futu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826920" y="1203480"/>
            <a:ext cx="777744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1125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777777"/>
                </a:solidFill>
                <a:latin typeface="Arial"/>
              </a:rPr>
              <a:t>Los FCI de FF permiten al inversor obtener una rentabilidad superior a los Fondos de Money Market, con una volatilidad simil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rcRect l="0" t="0" r="0" b="4821"/>
          <a:stretch/>
        </p:blipFill>
        <p:spPr>
          <a:xfrm>
            <a:off x="324000" y="1898640"/>
            <a:ext cx="7812000" cy="426708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668160" y="334800"/>
            <a:ext cx="6494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77777"/>
                </a:solidFill>
                <a:latin typeface="Trebuchet MS"/>
              </a:rPr>
              <a:t>Nuevo Asset Class: </a:t>
            </a:r>
            <a:r>
              <a:rPr b="1" i="1" lang="en-US" sz="2200" spc="-1" strike="noStrike">
                <a:solidFill>
                  <a:srgbClr val="777777"/>
                </a:solidFill>
                <a:latin typeface="Trebuchet MS"/>
              </a:rPr>
              <a:t>FCIs de Fideicomis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532800" y="533520"/>
            <a:ext cx="75960" cy="7596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200000"/>
              </a:lnSpc>
              <a:spcBef>
                <a:spcPts val="601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908000" y="2349360"/>
            <a:ext cx="165600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rcRect l="21194" t="12860" r="76047" b="74304"/>
          <a:stretch/>
        </p:blipFill>
        <p:spPr>
          <a:xfrm>
            <a:off x="1955880" y="2349360"/>
            <a:ext cx="239760" cy="71928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2124000" y="2421000"/>
            <a:ext cx="136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Promedio M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124000" y="2792160"/>
            <a:ext cx="136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FCIs de F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826920" y="1700280"/>
            <a:ext cx="6624720" cy="52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2520" indent="-182520">
              <a:lnSpc>
                <a:spcPct val="125000"/>
              </a:lnSpc>
              <a:spcBef>
                <a:spcPts val="1125"/>
              </a:spcBef>
              <a:spcAft>
                <a:spcPts val="1125"/>
              </a:spcAft>
              <a:buClr>
                <a:srgbClr val="777777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800" spc="-1" strike="noStrike">
                <a:solidFill>
                  <a:srgbClr val="777777"/>
                </a:solidFill>
                <a:latin typeface="Trebuchet MS"/>
              </a:rPr>
              <a:t>Rendimientos más atractivos que las alternativas de inversión tradicion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25000"/>
              </a:lnSpc>
              <a:spcBef>
                <a:spcPts val="1125"/>
              </a:spcBef>
              <a:spcAft>
                <a:spcPts val="1125"/>
              </a:spcAft>
              <a:buClr>
                <a:srgbClr val="777777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800" spc="-1" strike="noStrike">
                <a:solidFill>
                  <a:srgbClr val="777777"/>
                </a:solidFill>
                <a:latin typeface="Trebuchet MS"/>
              </a:rPr>
              <a:t>Alternativa de inversión seg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25000"/>
              </a:lnSpc>
              <a:spcBef>
                <a:spcPts val="1125"/>
              </a:spcBef>
              <a:spcAft>
                <a:spcPts val="1125"/>
              </a:spcAft>
              <a:buClr>
                <a:srgbClr val="777777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800" spc="-1" strike="noStrike">
                <a:solidFill>
                  <a:srgbClr val="777777"/>
                </a:solidFill>
                <a:latin typeface="Trebuchet MS"/>
              </a:rPr>
              <a:t>Variedad de características financier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25000"/>
              </a:lnSpc>
              <a:spcBef>
                <a:spcPts val="1125"/>
              </a:spcBef>
              <a:spcAft>
                <a:spcPts val="1125"/>
              </a:spcAft>
              <a:buClr>
                <a:srgbClr val="777777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800" spc="-1" strike="noStrike">
                <a:solidFill>
                  <a:srgbClr val="777777"/>
                </a:solidFill>
                <a:latin typeface="Trebuchet MS"/>
              </a:rPr>
              <a:t>Oferta pública y posibilidad de negociación en mercado secundar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25000"/>
              </a:lnSpc>
              <a:spcBef>
                <a:spcPts val="1125"/>
              </a:spcBef>
              <a:spcAft>
                <a:spcPts val="1125"/>
              </a:spcAft>
              <a:buClr>
                <a:srgbClr val="777777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800" spc="-1" strike="noStrike">
                <a:solidFill>
                  <a:srgbClr val="777777"/>
                </a:solidFill>
                <a:latin typeface="Trebuchet MS"/>
              </a:rPr>
              <a:t>Colocación en oferta primaria mediante procesos licitatorios cla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25000"/>
              </a:lnSpc>
              <a:spcBef>
                <a:spcPts val="1125"/>
              </a:spcBef>
              <a:spcAft>
                <a:spcPts val="1125"/>
              </a:spcAft>
              <a:buClr>
                <a:srgbClr val="777777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25000"/>
              </a:lnSpc>
              <a:spcBef>
                <a:spcPts val="1125"/>
              </a:spcBef>
              <a:spcAft>
                <a:spcPts val="1125"/>
              </a:spcAft>
              <a:buClr>
                <a:srgbClr val="777777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68160" y="698400"/>
            <a:ext cx="6494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77777"/>
                </a:solidFill>
                <a:latin typeface="Trebuchet MS"/>
              </a:rPr>
              <a:t>Ventajas para el Invers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532800" y="905040"/>
            <a:ext cx="75960" cy="7596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200000"/>
              </a:lnSpc>
              <a:spcBef>
                <a:spcPts val="601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668160" y="625320"/>
            <a:ext cx="6494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77777"/>
                </a:solidFill>
                <a:latin typeface="Trebuchet MS"/>
              </a:rPr>
              <a:t>Yield Curv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532800" y="836640"/>
            <a:ext cx="75960" cy="7632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lnSpc>
                <a:spcPct val="200000"/>
              </a:lnSpc>
              <a:spcBef>
                <a:spcPts val="601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395280" y="1700280"/>
            <a:ext cx="8209080" cy="43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826920" y="1700280"/>
            <a:ext cx="6624720" cy="52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2520" indent="-182520">
              <a:lnSpc>
                <a:spcPct val="125000"/>
              </a:lnSpc>
              <a:spcBef>
                <a:spcPts val="1125"/>
              </a:spcBef>
              <a:spcAft>
                <a:spcPts val="1125"/>
              </a:spcAft>
              <a:buClr>
                <a:srgbClr val="777777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800" spc="-1" strike="noStrike">
                <a:solidFill>
                  <a:srgbClr val="777777"/>
                </a:solidFill>
                <a:latin typeface="Trebuchet MS"/>
              </a:rPr>
              <a:t>Rendimientos más atractivos que las alternativas de inversión tradicion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25000"/>
              </a:lnSpc>
              <a:spcBef>
                <a:spcPts val="1125"/>
              </a:spcBef>
              <a:spcAft>
                <a:spcPts val="1125"/>
              </a:spcAft>
              <a:buClr>
                <a:srgbClr val="777777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800" spc="-1" strike="noStrike">
                <a:solidFill>
                  <a:srgbClr val="777777"/>
                </a:solidFill>
                <a:latin typeface="Trebuchet MS"/>
              </a:rPr>
              <a:t>Alternativa de inversión seg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25000"/>
              </a:lnSpc>
              <a:spcBef>
                <a:spcPts val="1125"/>
              </a:spcBef>
              <a:spcAft>
                <a:spcPts val="1125"/>
              </a:spcAft>
              <a:buClr>
                <a:srgbClr val="777777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800" spc="-1" strike="noStrike">
                <a:solidFill>
                  <a:srgbClr val="777777"/>
                </a:solidFill>
                <a:latin typeface="Trebuchet MS"/>
              </a:rPr>
              <a:t>Variedad de características financier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25000"/>
              </a:lnSpc>
              <a:spcBef>
                <a:spcPts val="1125"/>
              </a:spcBef>
              <a:spcAft>
                <a:spcPts val="1125"/>
              </a:spcAft>
              <a:buClr>
                <a:srgbClr val="777777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800" spc="-1" strike="noStrike">
                <a:solidFill>
                  <a:srgbClr val="777777"/>
                </a:solidFill>
                <a:latin typeface="Trebuchet MS"/>
              </a:rPr>
              <a:t>Oferta pública y posibilidad de negociación en mercado secundar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25000"/>
              </a:lnSpc>
              <a:spcBef>
                <a:spcPts val="1125"/>
              </a:spcBef>
              <a:spcAft>
                <a:spcPts val="1125"/>
              </a:spcAft>
              <a:buClr>
                <a:srgbClr val="777777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800" spc="-1" strike="noStrike">
                <a:solidFill>
                  <a:srgbClr val="777777"/>
                </a:solidFill>
                <a:latin typeface="Trebuchet MS"/>
              </a:rPr>
              <a:t>Colocación en oferta primaria mediante procesos licitatorios cla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25000"/>
              </a:lnSpc>
              <a:spcBef>
                <a:spcPts val="1125"/>
              </a:spcBef>
              <a:spcAft>
                <a:spcPts val="1125"/>
              </a:spcAft>
              <a:buClr>
                <a:srgbClr val="777777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25000"/>
              </a:lnSpc>
              <a:spcBef>
                <a:spcPts val="1125"/>
              </a:spcBef>
              <a:spcAft>
                <a:spcPts val="1125"/>
              </a:spcAft>
              <a:buClr>
                <a:srgbClr val="777777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8160" y="698400"/>
            <a:ext cx="6494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77777"/>
                </a:solidFill>
                <a:latin typeface="Trebuchet MS"/>
              </a:rPr>
              <a:t>Ventajas para el Invers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532800" y="905040"/>
            <a:ext cx="75960" cy="7596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200000"/>
              </a:lnSpc>
              <a:spcBef>
                <a:spcPts val="601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826920" y="1692360"/>
            <a:ext cx="7848720" cy="43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1125"/>
              </a:spcBef>
              <a:spcAft>
                <a:spcPts val="1125"/>
              </a:spcAft>
              <a:buClr>
                <a:srgbClr val="777777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800" spc="-1" strike="noStrike">
                <a:solidFill>
                  <a:srgbClr val="777777"/>
                </a:solidFill>
                <a:latin typeface="Trebuchet MS"/>
              </a:rPr>
              <a:t>Calificación investment gr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125"/>
              </a:spcBef>
              <a:spcAft>
                <a:spcPts val="1125"/>
              </a:spcAft>
              <a:buClr>
                <a:srgbClr val="777777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800" spc="-1" strike="noStrike">
                <a:solidFill>
                  <a:srgbClr val="777777"/>
                </a:solidFill>
                <a:latin typeface="Trebuchet MS"/>
              </a:rPr>
              <a:t>Rendimientos variables para durations superiores a 8 me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125"/>
              </a:spcBef>
              <a:spcAft>
                <a:spcPts val="1125"/>
              </a:spcAft>
              <a:buClr>
                <a:srgbClr val="777777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800" spc="-1" strike="noStrike">
                <a:solidFill>
                  <a:srgbClr val="777777"/>
                </a:solidFill>
                <a:latin typeface="Trebuchet MS"/>
              </a:rPr>
              <a:t>Subyacente formado por créditos existe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125"/>
              </a:spcBef>
              <a:spcAft>
                <a:spcPts val="1125"/>
              </a:spcAft>
              <a:buClr>
                <a:srgbClr val="777777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800" spc="-1" strike="noStrike">
                <a:solidFill>
                  <a:srgbClr val="777777"/>
                </a:solidFill>
                <a:latin typeface="Trebuchet MS"/>
              </a:rPr>
              <a:t>Poca disposición para inversiones de ries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125"/>
              </a:spcBef>
              <a:spcAft>
                <a:spcPts val="1125"/>
              </a:spcAft>
              <a:buClr>
                <a:srgbClr val="777777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800" spc="-1" strike="noStrike">
                <a:solidFill>
                  <a:srgbClr val="777777"/>
                </a:solidFill>
                <a:latin typeface="Trebuchet MS"/>
              </a:rPr>
              <a:t>Conocimiento de los participantes en el proceso de securitiz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125"/>
              </a:spcBef>
              <a:spcAft>
                <a:spcPts val="1125"/>
              </a:spcAft>
              <a:buClr>
                <a:srgbClr val="777777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800" spc="-1" strike="noStrike">
                <a:solidFill>
                  <a:srgbClr val="777777"/>
                </a:solidFill>
                <a:latin typeface="Trebuchet MS"/>
              </a:rPr>
              <a:t>En fideicomisos de PyMes, avales de SG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68160" y="625320"/>
            <a:ext cx="6494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77777"/>
                </a:solidFill>
                <a:latin typeface="Trebuchet MS"/>
              </a:rPr>
              <a:t>Preferencias de los Inverso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532800" y="836640"/>
            <a:ext cx="75960" cy="7632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lnSpc>
                <a:spcPct val="200000"/>
              </a:lnSpc>
              <a:spcBef>
                <a:spcPts val="601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2057400" y="1459080"/>
            <a:ext cx="6781680" cy="12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7c7e84"/>
                </a:solidFill>
                <a:latin typeface="Trebuchet MS"/>
              </a:rPr>
              <a:t>Compañía Inversora Bursátil </a:t>
            </a:r>
            <a:br>
              <a:rPr sz="3400"/>
            </a:br>
            <a:r>
              <a:rPr b="0" lang="en-US" sz="3400" spc="-1" strike="noStrike">
                <a:solidFill>
                  <a:srgbClr val="7c7e84"/>
                </a:solidFill>
                <a:latin typeface="Trebuchet MS"/>
              </a:rPr>
              <a:t>Sociedad de Bolsa S.A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3504600" y="6095880"/>
            <a:ext cx="75960" cy="7632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lnSpc>
                <a:spcPct val="200000"/>
              </a:lnSpc>
              <a:spcBef>
                <a:spcPts val="601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6400800" y="6095880"/>
            <a:ext cx="76320" cy="7632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lnSpc>
                <a:spcPct val="200000"/>
              </a:lnSpc>
              <a:spcBef>
                <a:spcPts val="601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1905120" y="1125360"/>
            <a:ext cx="38088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905120" y="1108080"/>
            <a:ext cx="0" cy="160020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905120" y="2708280"/>
            <a:ext cx="632448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2209680" y="2519280"/>
            <a:ext cx="76320" cy="7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lnSpc>
                <a:spcPct val="200000"/>
              </a:lnSpc>
              <a:spcBef>
                <a:spcPts val="601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709080" y="5562720"/>
            <a:ext cx="1930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8000"/>
                </a:solidFill>
                <a:latin typeface="Trebuchet MS"/>
              </a:rPr>
              <a:t>Agosto 2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71640" y="4665600"/>
            <a:ext cx="388800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rebuchet MS"/>
              </a:rPr>
              <a:t>Cristian Calder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Trebuchet MS"/>
              </a:rPr>
              <a:t>Gerente Mercado de Capit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835280" y="4149720"/>
            <a:ext cx="3457440" cy="50328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979640" y="4245120"/>
            <a:ext cx="316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Trebuchet MS"/>
              </a:rPr>
              <a:t>CON OFERTA PÚBL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79640" y="3316320"/>
            <a:ext cx="316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Trebuchet MS"/>
              </a:rPr>
              <a:t>SIN OFERTA PÚBL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68160" y="334800"/>
            <a:ext cx="6494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77777"/>
                </a:solidFill>
                <a:latin typeface="Trebuchet MS"/>
              </a:rPr>
              <a:t>Clases de Fideicomis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532800" y="533520"/>
            <a:ext cx="75960" cy="7596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200000"/>
              </a:lnSpc>
              <a:spcBef>
                <a:spcPts val="601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1627200"/>
            <a:ext cx="411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777777"/>
                </a:solidFill>
                <a:latin typeface="Trebuchet MS"/>
              </a:rPr>
              <a:t>Fideicomisos Ordinar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8640" y="2690640"/>
            <a:ext cx="411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800" spc="-1" strike="noStrike">
                <a:solidFill>
                  <a:srgbClr val="777777"/>
                </a:solidFill>
                <a:latin typeface="Trebuchet MS"/>
              </a:rPr>
              <a:t>Fideicomisos Financie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rot="5400000">
            <a:off x="2086920" y="4216320"/>
            <a:ext cx="216000" cy="431640"/>
          </a:xfrm>
          <a:prstGeom prst="triangle">
            <a:avLst>
              <a:gd name="adj" fmla="val 50000"/>
            </a:avLst>
          </a:prstGeom>
          <a:solidFill>
            <a:srgbClr val="c0c0c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rot="16200000">
            <a:off x="4751280" y="4216320"/>
            <a:ext cx="216000" cy="432000"/>
          </a:xfrm>
          <a:prstGeom prst="triangle">
            <a:avLst>
              <a:gd name="adj" fmla="val 50000"/>
            </a:avLst>
          </a:prstGeom>
          <a:solidFill>
            <a:srgbClr val="c0c0c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5651640" y="1706400"/>
            <a:ext cx="2514600" cy="4572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Cuentas a cobr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057320" y="1700280"/>
            <a:ext cx="2514600" cy="4572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Préstam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220760" y="2386080"/>
            <a:ext cx="2209680" cy="22860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"/>
              </a:rPr>
              <a:t>Person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20760" y="2919240"/>
            <a:ext cx="2209680" cy="22860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"/>
              </a:rPr>
              <a:t>Hipotecari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220760" y="3452760"/>
            <a:ext cx="2209680" cy="22860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"/>
              </a:rPr>
              <a:t>Prendari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20760" y="3909960"/>
            <a:ext cx="2209680" cy="22860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"/>
              </a:rPr>
              <a:t>De Consum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5" idx="1"/>
            <a:endCxn id="66" idx="1"/>
          </p:cNvCxnSpPr>
          <p:nvPr/>
        </p:nvCxnSpPr>
        <p:spPr>
          <a:xfrm flipH="1" flipV="1" rot="10800000">
            <a:off x="1056960" y="1927800"/>
            <a:ext cx="164160" cy="572040"/>
          </a:xfrm>
          <a:prstGeom prst="bentConnector3">
            <a:avLst>
              <a:gd name="adj1" fmla="val -13978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"/>
          <p:cNvCxnSpPr>
            <a:stCxn id="65" idx="1"/>
            <a:endCxn id="67" idx="1"/>
          </p:cNvCxnSpPr>
          <p:nvPr/>
        </p:nvCxnSpPr>
        <p:spPr>
          <a:xfrm flipH="1" flipV="1" rot="10800000">
            <a:off x="1056960" y="1927800"/>
            <a:ext cx="164160" cy="1105560"/>
          </a:xfrm>
          <a:prstGeom prst="bentConnector3">
            <a:avLst>
              <a:gd name="adj1" fmla="val -13978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"/>
          <p:cNvCxnSpPr>
            <a:stCxn id="65" idx="1"/>
            <a:endCxn id="68" idx="1"/>
          </p:cNvCxnSpPr>
          <p:nvPr/>
        </p:nvCxnSpPr>
        <p:spPr>
          <a:xfrm flipH="1" flipV="1" rot="10800000">
            <a:off x="1056960" y="1927800"/>
            <a:ext cx="164160" cy="1639080"/>
          </a:xfrm>
          <a:prstGeom prst="bentConnector3">
            <a:avLst>
              <a:gd name="adj1" fmla="val -13978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" name=""/>
          <p:cNvCxnSpPr>
            <a:stCxn id="65" idx="1"/>
            <a:endCxn id="69" idx="1"/>
          </p:cNvCxnSpPr>
          <p:nvPr/>
        </p:nvCxnSpPr>
        <p:spPr>
          <a:xfrm flipH="1" flipV="1" rot="10800000">
            <a:off x="1056960" y="1927800"/>
            <a:ext cx="164160" cy="2096280"/>
          </a:xfrm>
          <a:prstGeom prst="bentConnector3">
            <a:avLst>
              <a:gd name="adj1" fmla="val -13978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4" name=""/>
          <p:cNvSpPr/>
          <p:nvPr/>
        </p:nvSpPr>
        <p:spPr>
          <a:xfrm>
            <a:off x="1042920" y="4543560"/>
            <a:ext cx="2514600" cy="4572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Cupones de tarjet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042920" y="5492880"/>
            <a:ext cx="2514600" cy="4572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Cheq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656320" y="4672080"/>
            <a:ext cx="2514600" cy="4572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Flujos futu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116000" y="907920"/>
            <a:ext cx="464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777777"/>
                </a:solidFill>
                <a:latin typeface="Trebuchet MS"/>
              </a:rPr>
              <a:t>Activos pasibles de ser securitizados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657760" y="3500280"/>
            <a:ext cx="2514600" cy="4572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Contratos de Lea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651640" y="5445000"/>
            <a:ext cx="2665440" cy="22860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"/>
              </a:rPr>
              <a:t>Desarrollos Inmobiliari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781600" y="2479680"/>
            <a:ext cx="2210040" cy="22860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"/>
              </a:rPr>
              <a:t>Exportacio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"/>
          <p:cNvCxnSpPr>
            <a:stCxn id="76" idx="1"/>
            <a:endCxn id="79" idx="1"/>
          </p:cNvCxnSpPr>
          <p:nvPr/>
        </p:nvCxnSpPr>
        <p:spPr>
          <a:xfrm flipV="1" rot="10800000">
            <a:off x="5650920" y="4900320"/>
            <a:ext cx="5400" cy="659520"/>
          </a:xfrm>
          <a:prstGeom prst="bentConnector3">
            <a:avLst>
              <a:gd name="adj1" fmla="val 49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64" idx="1"/>
            <a:endCxn id="80" idx="1"/>
          </p:cNvCxnSpPr>
          <p:nvPr/>
        </p:nvCxnSpPr>
        <p:spPr>
          <a:xfrm flipH="1" flipV="1" rot="10800000">
            <a:off x="5650560" y="1934640"/>
            <a:ext cx="130680" cy="659520"/>
          </a:xfrm>
          <a:prstGeom prst="bentConnector3">
            <a:avLst>
              <a:gd name="adj1" fmla="val -17541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5651640" y="5864400"/>
            <a:ext cx="2665440" cy="22860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"/>
              </a:rPr>
              <a:t>Infraestructu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6" idx="1"/>
            <a:endCxn id="83" idx="1"/>
          </p:cNvCxnSpPr>
          <p:nvPr/>
        </p:nvCxnSpPr>
        <p:spPr>
          <a:xfrm flipV="1" rot="10800000">
            <a:off x="5650920" y="4900680"/>
            <a:ext cx="5400" cy="1078200"/>
          </a:xfrm>
          <a:prstGeom prst="bentConnector3">
            <a:avLst>
              <a:gd name="adj1" fmla="val 49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5" name=""/>
          <p:cNvSpPr/>
          <p:nvPr/>
        </p:nvSpPr>
        <p:spPr>
          <a:xfrm>
            <a:off x="668160" y="334800"/>
            <a:ext cx="6494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77777"/>
                </a:solidFill>
                <a:latin typeface="Trebuchet MS"/>
              </a:rPr>
              <a:t>Clases de Fideicomis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532800" y="533520"/>
            <a:ext cx="75960" cy="7596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200000"/>
              </a:lnSpc>
              <a:spcBef>
                <a:spcPts val="601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763640" y="1268280"/>
            <a:ext cx="5113440" cy="2442960"/>
          </a:xfrm>
          <a:prstGeom prst="rect">
            <a:avLst/>
          </a:prstGeom>
          <a:solidFill>
            <a:srgbClr val="ff9900">
              <a:alpha val="3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rebuchet MS"/>
              </a:rPr>
              <a:t>   </a:t>
            </a:r>
            <a:r>
              <a:rPr b="0" lang="es-ES_tradnl" sz="1800" spc="-1" strike="noStrike">
                <a:solidFill>
                  <a:srgbClr val="000000"/>
                </a:solidFill>
                <a:latin typeface="Trebuchet MS"/>
              </a:rPr>
              <a:t>Emisiones 2003</a:t>
            </a:r>
            <a:r>
              <a:rPr b="0" lang="es-ES_tradnl" sz="1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rebuchet MS"/>
              </a:rPr>
              <a:t>$247 mill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rebuchet MS"/>
              </a:rPr>
              <a:t>   </a:t>
            </a:r>
            <a:r>
              <a:rPr b="0" lang="es-ES_tradnl" sz="1800" spc="-1" strike="noStrike">
                <a:solidFill>
                  <a:srgbClr val="000000"/>
                </a:solidFill>
                <a:latin typeface="Trebuchet MS"/>
              </a:rPr>
              <a:t>Emisiones 2004</a:t>
            </a:r>
            <a:r>
              <a:rPr b="0" lang="es-ES_tradnl" sz="1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rebuchet MS"/>
              </a:rPr>
              <a:t>$1.628 mill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rebuchet MS"/>
              </a:rPr>
              <a:t>   </a:t>
            </a:r>
            <a:r>
              <a:rPr b="0" lang="es-ES_tradnl" sz="1800" spc="-1" strike="noStrike">
                <a:solidFill>
                  <a:srgbClr val="000000"/>
                </a:solidFill>
                <a:latin typeface="Trebuchet MS"/>
              </a:rPr>
              <a:t>Emisiones 2005</a:t>
            </a:r>
            <a:r>
              <a:rPr b="0" lang="es-ES_tradnl" sz="1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rebuchet MS"/>
              </a:rPr>
              <a:t>$5.124 mill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rebuchet MS"/>
              </a:rPr>
              <a:t>   </a:t>
            </a:r>
            <a:r>
              <a:rPr b="0" lang="es-ES_tradnl" sz="1800" spc="-1" strike="noStrike">
                <a:solidFill>
                  <a:srgbClr val="000000"/>
                </a:solidFill>
                <a:latin typeface="Trebuchet MS"/>
              </a:rPr>
              <a:t>Emisiones 2006*</a:t>
            </a:r>
            <a:r>
              <a:rPr b="0" lang="es-ES_tradnl" sz="1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rebuchet MS"/>
              </a:rPr>
              <a:t>$4.230 mill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6249960"/>
            <a:ext cx="874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000000"/>
                </a:solidFill>
                <a:latin typeface="Arial"/>
              </a:rPr>
              <a:t>*emisiones correspondientes a enero a agosto de 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-98280" y="907920"/>
            <a:ext cx="9242280" cy="57452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668160" y="334800"/>
            <a:ext cx="6494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77777"/>
                </a:solidFill>
                <a:latin typeface="Trebuchet MS"/>
              </a:rPr>
              <a:t>Emisiones de Fideicomisos Financier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532800" y="533520"/>
            <a:ext cx="75960" cy="7596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200000"/>
              </a:lnSpc>
              <a:spcBef>
                <a:spcPts val="601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79280" y="1203480"/>
            <a:ext cx="879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777777"/>
                </a:solidFill>
                <a:latin typeface="Trebuchet MS"/>
              </a:rPr>
              <a:t>Los $ 1.628 millones emitidos durante 2004 se han distribuido de la siguiente maner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722200" y="3284640"/>
            <a:ext cx="3114360" cy="2101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Créditos Comerciales                     237 M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Créd. de Consumo y Personales    926 M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Cupones de Tarjetas de Crédito     291 M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Flujos Futuros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            74 M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Préstamos Hipotecarios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           100 M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68160" y="334800"/>
            <a:ext cx="649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77777"/>
                </a:solidFill>
                <a:latin typeface="Arial"/>
              </a:rPr>
              <a:t>Emisiones de Fideicomisos Financie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532800" y="533520"/>
            <a:ext cx="75960" cy="7596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200000"/>
              </a:lnSpc>
              <a:spcBef>
                <a:spcPts val="601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rcRect l="24394" t="15783" r="21639" b="0"/>
          <a:stretch/>
        </p:blipFill>
        <p:spPr>
          <a:xfrm>
            <a:off x="179280" y="2060640"/>
            <a:ext cx="5400720" cy="43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79280" y="1203480"/>
            <a:ext cx="879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777777"/>
                </a:solidFill>
                <a:latin typeface="Trebuchet MS"/>
              </a:rPr>
              <a:t>Los $ 5.124 millones emitidos durante 2005 se han distribuido de la siguiente maner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724360" y="2479680"/>
            <a:ext cx="3157200" cy="283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Contratos de Leasing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              91 M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Créditos Comerciales                      648 M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Créd. de Consumo y Personales  2.041 M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Créditos Prendarios                           76 M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Cupones de Tarjetas de Crédito      582 M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Flujos Futuros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              36 M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Préstamos Garantizados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         1.060 M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Préstamos Hipotecarios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            590 M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68160" y="334800"/>
            <a:ext cx="649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77777"/>
                </a:solidFill>
                <a:latin typeface="Arial"/>
              </a:rPr>
              <a:t>Emisiones de Fideicomisos Financie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532800" y="533520"/>
            <a:ext cx="75960" cy="7596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200000"/>
              </a:lnSpc>
              <a:spcBef>
                <a:spcPts val="601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26989" t="30911" r="29797" b="0"/>
          <a:stretch/>
        </p:blipFill>
        <p:spPr>
          <a:xfrm>
            <a:off x="324000" y="1989000"/>
            <a:ext cx="5113080" cy="407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79280" y="1203480"/>
            <a:ext cx="879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777777"/>
                </a:solidFill>
                <a:latin typeface="Trebuchet MS"/>
              </a:rPr>
              <a:t>Los $ 4.230 millones emitidos durante 2006 se han distribuido de la siguiente maner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729040" y="2479680"/>
            <a:ext cx="3282840" cy="319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42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Contratos de Leasing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143,8 M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42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42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Créditos Comerciales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129 M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42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42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Créd. de Consumo y Personales   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2.082 M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42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42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Dinero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20,5 M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42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42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Créditos Prendarios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86,6 M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42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42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Cupones de Tarjetas de Crédito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800 M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42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42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Flujos Futuros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41 M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42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42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Préstamos Garantizados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1.293 M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42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42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Préstamos Hipotecarios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200 M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68160" y="334800"/>
            <a:ext cx="649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77777"/>
                </a:solidFill>
                <a:latin typeface="Arial"/>
              </a:rPr>
              <a:t>Emisiones de Fideicomisos Financie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532800" y="533520"/>
            <a:ext cx="75960" cy="7596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200000"/>
              </a:lnSpc>
              <a:spcBef>
                <a:spcPts val="601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rcRect l="20144" t="11156" r="17757" b="10878"/>
          <a:stretch/>
        </p:blipFill>
        <p:spPr>
          <a:xfrm>
            <a:off x="106200" y="2133720"/>
            <a:ext cx="5473800" cy="36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68160" y="334800"/>
            <a:ext cx="6494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77777"/>
                </a:solidFill>
                <a:latin typeface="Trebuchet MS"/>
              </a:rPr>
              <a:t>Evolución por tipo de Invers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532800" y="533520"/>
            <a:ext cx="75960" cy="7596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200000"/>
              </a:lnSpc>
              <a:spcBef>
                <a:spcPts val="601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22320" y="909720"/>
            <a:ext cx="8797680" cy="54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68160" y="334800"/>
            <a:ext cx="6494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77777"/>
                </a:solidFill>
                <a:latin typeface="Trebuchet MS"/>
              </a:rPr>
              <a:t>Nuevo Asset Class: </a:t>
            </a:r>
            <a:r>
              <a:rPr b="1" i="1" lang="en-US" sz="2200" spc="-1" strike="noStrike">
                <a:solidFill>
                  <a:srgbClr val="777777"/>
                </a:solidFill>
                <a:latin typeface="Trebuchet MS"/>
              </a:rPr>
              <a:t>FCIs de Fideicomis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32800" y="533520"/>
            <a:ext cx="75960" cy="7596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200000"/>
              </a:lnSpc>
              <a:spcBef>
                <a:spcPts val="601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971640" y="3613320"/>
            <a:ext cx="7327800" cy="29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1125"/>
              </a:spcBef>
              <a:spcAft>
                <a:spcPts val="1125"/>
              </a:spcAft>
              <a:buClr>
                <a:srgbClr val="777777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800" spc="-1" strike="noStrike">
                <a:solidFill>
                  <a:srgbClr val="777777"/>
                </a:solidFill>
                <a:latin typeface="Trebuchet MS"/>
              </a:rPr>
              <a:t>Diversific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125"/>
              </a:spcBef>
              <a:spcAft>
                <a:spcPts val="1125"/>
              </a:spcAft>
              <a:buClr>
                <a:srgbClr val="777777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800" spc="-1" strike="noStrike">
                <a:solidFill>
                  <a:srgbClr val="777777"/>
                </a:solidFill>
                <a:latin typeface="Trebuchet MS"/>
              </a:rPr>
              <a:t>Liquide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125"/>
              </a:spcBef>
              <a:spcAft>
                <a:spcPts val="1125"/>
              </a:spcAft>
              <a:buClr>
                <a:srgbClr val="777777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800" spc="-1" strike="noStrike">
                <a:solidFill>
                  <a:srgbClr val="777777"/>
                </a:solidFill>
                <a:latin typeface="Trebuchet MS"/>
              </a:rPr>
              <a:t>Reinversión de Cup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125"/>
              </a:spcBef>
              <a:spcAft>
                <a:spcPts val="1125"/>
              </a:spcAft>
              <a:buClr>
                <a:srgbClr val="777777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800" spc="-1" strike="noStrike">
                <a:solidFill>
                  <a:srgbClr val="777777"/>
                </a:solidFill>
                <a:latin typeface="Trebuchet MS"/>
              </a:rPr>
              <a:t>Portfolio Manager con Conocimiento del produc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125"/>
              </a:spcBef>
              <a:spcAft>
                <a:spcPts val="1125"/>
              </a:spcAft>
              <a:buClr>
                <a:srgbClr val="777777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26920" y="1138320"/>
            <a:ext cx="749016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1125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777777"/>
                </a:solidFill>
                <a:latin typeface="Arial"/>
              </a:rPr>
              <a:t>En el último año se han lanzado nuevos FCIs cuyo objeto específico es invertir en Fideicomisos Financie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26920" y="2060640"/>
            <a:ext cx="7490160" cy="11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1125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777777"/>
                </a:solidFill>
                <a:latin typeface="Arial"/>
              </a:rPr>
              <a:t>Asimismo, otros FCIs que estaban operativos en el mercado cambiaron su política de inversión aumentando su participación en Fideicomisos Financie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5T18:55:41Z</dcterms:created>
  <dc:creator>ccalderon</dc:creator>
  <dc:description/>
  <dc:language>en-US</dc:language>
  <cp:lastModifiedBy>Enrique Algorta</cp:lastModifiedBy>
  <dcterms:modified xsi:type="dcterms:W3CDTF">2006-08-30T15:51:46Z</dcterms:modified>
  <cp:revision>26</cp:revision>
  <dc:subject/>
  <dc:title>Diapositiv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300148556</vt:r8>
  </property>
  <property fmtid="{D5CDD505-2E9C-101B-9397-08002B2CF9AE}" pid="3" name="_AuthorEmail">
    <vt:lpwstr>ccalderon@cibsa.com</vt:lpwstr>
  </property>
  <property fmtid="{D5CDD505-2E9C-101B-9397-08002B2CF9AE}" pid="4" name="_AuthorEmailDisplayName">
    <vt:lpwstr>Calderon, Cristian (CIBSA)</vt:lpwstr>
  </property>
  <property fmtid="{D5CDD505-2E9C-101B-9397-08002B2CF9AE}" pid="5" name="_EmailSubject">
    <vt:lpwstr>Presentación Cristian Calderón</vt:lpwstr>
  </property>
  <property fmtid="{D5CDD505-2E9C-101B-9397-08002B2CF9AE}" pid="6" name="_PreviousAdHocReviewCycleID">
    <vt:r8>-1762147559</vt:r8>
  </property>
</Properties>
</file>