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7D24-1ABC-4855-8EFC-AD22A50F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4414-7C8E-45E7-9D3B-D9B2497D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D028-E68B-4ACD-AE7C-FA581DFB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511D-2F2F-49DD-B3BF-94C80589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5A52-428D-4AFD-A522-B184D384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6994-FBBD-47B4-8405-F6288F22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CC76-8AD4-40CC-8314-8753C6C6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3C9F-DBA8-4704-98A6-A1E245FF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5F7F-AE29-4A0F-AFD0-6524A6E5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63B3-668F-47D3-B8DB-67046AE7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430A-10A9-40CB-BF01-0FE25081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F08A-87AE-4D91-A432-5B776F06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C816-1A55-4C89-9134-DD72DAA4E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614600" y="1397160"/>
            <a:ext cx="66038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26958" t="12452" r="28098" b="44196"/>
          <a:stretch/>
        </p:blipFill>
        <p:spPr>
          <a:xfrm>
            <a:off x="6443640" y="380880"/>
            <a:ext cx="2536920" cy="8175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36360" y="0"/>
            <a:ext cx="9180360" cy="115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-36360" y="0"/>
            <a:ext cx="152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15920" y="6629400"/>
            <a:ext cx="9039240" cy="189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057400" y="1459080"/>
            <a:ext cx="678168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c7e84"/>
                </a:solidFill>
                <a:latin typeface="Trebuchet MS"/>
              </a:rPr>
              <a:t>Compañía Inversora Bursátil </a:t>
            </a:r>
            <a:br>
              <a:rPr sz="3400"/>
            </a:br>
            <a:r>
              <a:rPr b="0" lang="en-US" sz="3400" spc="-1" strike="noStrike">
                <a:solidFill>
                  <a:srgbClr val="7c7e84"/>
                </a:solidFill>
                <a:latin typeface="Trebuchet MS"/>
              </a:rPr>
              <a:t>Sociedad de Bolsa S.A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504600" y="6095880"/>
            <a:ext cx="75960" cy="763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400800" y="6095880"/>
            <a:ext cx="76320" cy="763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905120" y="1125360"/>
            <a:ext cx="380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1108080"/>
            <a:ext cx="0" cy="16002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2708280"/>
            <a:ext cx="63244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209680" y="2519280"/>
            <a:ext cx="7632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9080" y="5562720"/>
            <a:ext cx="193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8000"/>
                </a:solidFill>
                <a:latin typeface="Trebuchet MS"/>
              </a:rPr>
              <a:t>Agosto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4665600"/>
            <a:ext cx="3888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rebuchet MS"/>
              </a:rPr>
              <a:t>Cristian Calder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rebuchet MS"/>
              </a:rPr>
              <a:t>Gerente Mercado de Cap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26920" y="1700280"/>
            <a:ext cx="7632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777777"/>
                </a:solidFill>
                <a:latin typeface="Arial"/>
              </a:rPr>
              <a:t>Distribución por tipo de Cuotapartistas - Gainvest 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1305" r="0" b="0"/>
          <a:stretch/>
        </p:blipFill>
        <p:spPr>
          <a:xfrm>
            <a:off x="971640" y="2732040"/>
            <a:ext cx="7056360" cy="32893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68160" y="3348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Nuevo Asset Class: </a:t>
            </a:r>
            <a:r>
              <a:rPr b="1" i="1" lang="en-US" sz="2200" spc="-1" strike="noStrike">
                <a:solidFill>
                  <a:srgbClr val="777777"/>
                </a:solidFill>
                <a:latin typeface="Trebuchet MS"/>
              </a:rPr>
              <a:t>FCIs de Fideicomi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8106" t="13255" r="24689" b="16480"/>
          <a:stretch/>
        </p:blipFill>
        <p:spPr>
          <a:xfrm>
            <a:off x="1185840" y="1341360"/>
            <a:ext cx="6265800" cy="4005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189080" y="5877000"/>
            <a:ext cx="6696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ad98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12536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7640" y="5950080"/>
            <a:ext cx="6121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40000"/>
                </a:solidFill>
                <a:latin typeface="Trebuchet MS"/>
              </a:rPr>
              <a:t>105 especies de Fideicomisos Financieros en carter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341360"/>
            <a:ext cx="8748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Trebuchet MS"/>
              </a:rPr>
              <a:t>Cartera de Inversiones del Fondo Gainvest 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8160" y="3348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Nuevo Asset Class: </a:t>
            </a:r>
            <a:r>
              <a:rPr b="1" i="1" lang="en-US" sz="2200" spc="-1" strike="noStrike">
                <a:solidFill>
                  <a:srgbClr val="777777"/>
                </a:solidFill>
                <a:latin typeface="Trebuchet MS"/>
              </a:rPr>
              <a:t>FCIs de Fideicomi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23920" y="6172200"/>
            <a:ext cx="7551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d8c866"/>
              </a:buClr>
              <a:buFont typeface="Wingdings 2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rebuchet MS"/>
              </a:rPr>
              <a:t>Rentabilidad Promedio Fondos de M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d8c866"/>
              </a:buClr>
              <a:buFont typeface="Wingdings 2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Los resultados históricos no garantizan que los mismos se mantengan en el futu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1203480"/>
            <a:ext cx="7777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777777"/>
                </a:solidFill>
                <a:latin typeface="Arial"/>
              </a:rPr>
              <a:t>Los FCI de FF permiten al inversor obtener una rentabilidad superior a los Fondos de Money Market, con una volatilidad simi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0" t="0" r="0" b="4821"/>
          <a:stretch/>
        </p:blipFill>
        <p:spPr>
          <a:xfrm>
            <a:off x="324000" y="1898640"/>
            <a:ext cx="7812000" cy="4267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68160" y="3348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Nuevo Asset Class: </a:t>
            </a:r>
            <a:r>
              <a:rPr b="1" i="1" lang="en-US" sz="2200" spc="-1" strike="noStrike">
                <a:solidFill>
                  <a:srgbClr val="777777"/>
                </a:solidFill>
                <a:latin typeface="Trebuchet MS"/>
              </a:rPr>
              <a:t>FCIs de Fideicomi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2349360"/>
            <a:ext cx="16560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21194" t="12860" r="76047" b="74304"/>
          <a:stretch/>
        </p:blipFill>
        <p:spPr>
          <a:xfrm>
            <a:off x="1955880" y="2349360"/>
            <a:ext cx="239760" cy="719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24000" y="2421000"/>
            <a:ext cx="13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medio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2792160"/>
            <a:ext cx="13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CIs de 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26920" y="1700280"/>
            <a:ext cx="662472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Rendimientos más atractivos que las alternativas de inversión tr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Alternativa de inversión seg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Variedad de características financi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Oferta pública y posibilidad de negociación en mercado secund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Colocación en oferta primaria mediante procesos licitatorios cla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8160" y="6984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Ventajas para el Invers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32800" y="90504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68160" y="62532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Yield Cur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32800" y="836640"/>
            <a:ext cx="75960" cy="763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090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26920" y="1700280"/>
            <a:ext cx="662472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Rendimientos más atractivos que las alternativas de inversión tr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Alternativa de inversión seg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Variedad de características financi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Oferta pública y posibilidad de negociación en mercado secund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Colocación en oferta primaria mediante procesos licitatorios cla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160" y="6984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Ventajas para el Invers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32800" y="90504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26920" y="1692360"/>
            <a:ext cx="7848720" cy="43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Calificación investment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Rendimientos variables para durations superiores a 8 m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Subyacente formado por créditos exist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Poca disposición para inversiones de 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Conocimiento de los participantes en el proceso de securit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En fideicomisos de PyMes, avales de S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8160" y="62532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Preferencias de los Invers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32800" y="836640"/>
            <a:ext cx="75960" cy="763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057400" y="1459080"/>
            <a:ext cx="678168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c7e84"/>
                </a:solidFill>
                <a:latin typeface="Trebuchet MS"/>
              </a:rPr>
              <a:t>Compañía Inversora Bursátil </a:t>
            </a:r>
            <a:br>
              <a:rPr sz="3400"/>
            </a:br>
            <a:r>
              <a:rPr b="0" lang="en-US" sz="3400" spc="-1" strike="noStrike">
                <a:solidFill>
                  <a:srgbClr val="7c7e84"/>
                </a:solidFill>
                <a:latin typeface="Trebuchet MS"/>
              </a:rPr>
              <a:t>Sociedad de Bolsa S.A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504600" y="6095880"/>
            <a:ext cx="75960" cy="763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400800" y="6095880"/>
            <a:ext cx="76320" cy="763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905120" y="1125360"/>
            <a:ext cx="380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1108080"/>
            <a:ext cx="0" cy="16002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2708280"/>
            <a:ext cx="63244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09680" y="2519280"/>
            <a:ext cx="7632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09080" y="5562720"/>
            <a:ext cx="193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8000"/>
                </a:solidFill>
                <a:latin typeface="Trebuchet MS"/>
              </a:rPr>
              <a:t>Agosto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71640" y="4665600"/>
            <a:ext cx="3888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rebuchet MS"/>
              </a:rPr>
              <a:t>Cristian Calder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rebuchet MS"/>
              </a:rPr>
              <a:t>Gerente Mercado de Cap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835280" y="4149720"/>
            <a:ext cx="345744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424512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Trebuchet MS"/>
              </a:rPr>
              <a:t>CON OFERTA PÚB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331632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Trebuchet MS"/>
              </a:rPr>
              <a:t>SIN OFERTA PÚB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8160" y="3348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Clases de Fideicomi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1627200"/>
            <a:ext cx="41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777777"/>
                </a:solidFill>
                <a:latin typeface="Trebuchet MS"/>
              </a:rPr>
              <a:t>Fideicomisos Ordi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8640" y="2690640"/>
            <a:ext cx="41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Fideicomisos Financi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2086920" y="4216320"/>
            <a:ext cx="216000" cy="43164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4751280" y="4216320"/>
            <a:ext cx="216000" cy="4320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651640" y="1706400"/>
            <a:ext cx="25146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uentas a cob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57320" y="1700280"/>
            <a:ext cx="25146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Prést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20760" y="2386080"/>
            <a:ext cx="220968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Pers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20760" y="2919240"/>
            <a:ext cx="220968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Hipotec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20760" y="3452760"/>
            <a:ext cx="220968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Prend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20760" y="3909960"/>
            <a:ext cx="220968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De Consu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5" idx="1"/>
            <a:endCxn id="66" idx="1"/>
          </p:cNvCxnSpPr>
          <p:nvPr/>
        </p:nvCxnSpPr>
        <p:spPr>
          <a:xfrm flipH="1" flipV="1" rot="10800000">
            <a:off x="1056960" y="1927800"/>
            <a:ext cx="164160" cy="572040"/>
          </a:xfrm>
          <a:prstGeom prst="bentConnector3">
            <a:avLst>
              <a:gd name="adj1" fmla="val -139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5" idx="1"/>
            <a:endCxn id="67" idx="1"/>
          </p:cNvCxnSpPr>
          <p:nvPr/>
        </p:nvCxnSpPr>
        <p:spPr>
          <a:xfrm flipH="1" flipV="1" rot="10800000">
            <a:off x="1056960" y="1927800"/>
            <a:ext cx="164160" cy="1105560"/>
          </a:xfrm>
          <a:prstGeom prst="bentConnector3">
            <a:avLst>
              <a:gd name="adj1" fmla="val -139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5" idx="1"/>
            <a:endCxn id="68" idx="1"/>
          </p:cNvCxnSpPr>
          <p:nvPr/>
        </p:nvCxnSpPr>
        <p:spPr>
          <a:xfrm flipH="1" flipV="1" rot="10800000">
            <a:off x="1056960" y="1927800"/>
            <a:ext cx="164160" cy="1639080"/>
          </a:xfrm>
          <a:prstGeom prst="bentConnector3">
            <a:avLst>
              <a:gd name="adj1" fmla="val -139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5" idx="1"/>
            <a:endCxn id="69" idx="1"/>
          </p:cNvCxnSpPr>
          <p:nvPr/>
        </p:nvCxnSpPr>
        <p:spPr>
          <a:xfrm flipH="1" flipV="1" rot="10800000">
            <a:off x="1056960" y="1927800"/>
            <a:ext cx="164160" cy="2096280"/>
          </a:xfrm>
          <a:prstGeom prst="bentConnector3">
            <a:avLst>
              <a:gd name="adj1" fmla="val -139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1042920" y="4543560"/>
            <a:ext cx="25146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upones de tarj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5492880"/>
            <a:ext cx="25146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he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56320" y="4672080"/>
            <a:ext cx="25146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lujos fut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907920"/>
            <a:ext cx="46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777777"/>
                </a:solidFill>
                <a:latin typeface="Trebuchet MS"/>
              </a:rPr>
              <a:t>Activos pasibles de ser securitizados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57760" y="3500280"/>
            <a:ext cx="25146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ntratos de Lea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51640" y="5445000"/>
            <a:ext cx="266544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Desarrollos Inmobili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81600" y="2479680"/>
            <a:ext cx="221004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Export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76" idx="1"/>
            <a:endCxn id="79" idx="1"/>
          </p:cNvCxnSpPr>
          <p:nvPr/>
        </p:nvCxnSpPr>
        <p:spPr>
          <a:xfrm flipV="1" rot="10800000">
            <a:off x="5650920" y="4900320"/>
            <a:ext cx="5400" cy="659520"/>
          </a:xfrm>
          <a:prstGeom prst="bentConnector3">
            <a:avLst>
              <a:gd name="adj1" fmla="val 4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64" idx="1"/>
            <a:endCxn id="80" idx="1"/>
          </p:cNvCxnSpPr>
          <p:nvPr/>
        </p:nvCxnSpPr>
        <p:spPr>
          <a:xfrm flipH="1" flipV="1" rot="10800000">
            <a:off x="5650560" y="1934640"/>
            <a:ext cx="130680" cy="659520"/>
          </a:xfrm>
          <a:prstGeom prst="bentConnector3">
            <a:avLst>
              <a:gd name="adj1" fmla="val -1754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651640" y="5864400"/>
            <a:ext cx="266544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nfraestruc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6" idx="1"/>
            <a:endCxn id="83" idx="1"/>
          </p:cNvCxnSpPr>
          <p:nvPr/>
        </p:nvCxnSpPr>
        <p:spPr>
          <a:xfrm flipV="1" rot="10800000">
            <a:off x="5650920" y="4900680"/>
            <a:ext cx="5400" cy="1078200"/>
          </a:xfrm>
          <a:prstGeom prst="bentConnector3">
            <a:avLst>
              <a:gd name="adj1" fmla="val 4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668160" y="3348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Clases de Fideicomi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63640" y="1268280"/>
            <a:ext cx="5113440" cy="2442960"/>
          </a:xfrm>
          <a:prstGeom prst="rect">
            <a:avLst/>
          </a:prstGeom>
          <a:solidFill>
            <a:srgbClr val="ff99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Emisiones 2003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$247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Emisiones 2004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$1.628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Emisiones 2005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$5.124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Emisiones 2006*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$4.230 mill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6249960"/>
            <a:ext cx="87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*emisiones correspondientes a enero a agosto de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98280" y="907920"/>
            <a:ext cx="9242280" cy="5745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68160" y="3348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Emisiones de Fideicomisos Financie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1203480"/>
            <a:ext cx="87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777777"/>
                </a:solidFill>
                <a:latin typeface="Trebuchet MS"/>
              </a:rPr>
              <a:t>Los $ 1.628 millones emitidos durante 2004 se han distribuido de la siguiente mane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2200" y="3284640"/>
            <a:ext cx="3114360" cy="21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éditos Comerciales                     237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éd. de Consumo y Personales    926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pones de Tarjetas de Crédito     291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lujos Futur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74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éstamos Hipotecari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10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8160" y="334800"/>
            <a:ext cx="64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Emisiones de Fideicomisos Financi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24394" t="15783" r="21639" b="0"/>
          <a:stretch/>
        </p:blipFill>
        <p:spPr>
          <a:xfrm>
            <a:off x="179280" y="2060640"/>
            <a:ext cx="5400720" cy="43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1203480"/>
            <a:ext cx="87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777777"/>
                </a:solidFill>
                <a:latin typeface="Trebuchet MS"/>
              </a:rPr>
              <a:t>Los $ 5.124 millones emitidos durante 2005 se han distribuido de la siguiente mane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4360" y="2479680"/>
            <a:ext cx="3157200" cy="28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tratos de Leasing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91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éditos Comerciales                      648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éd. de Consumo y Personales  2.041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éditos Prendarios                           76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pones de Tarjetas de Crédito      582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lujos Futur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36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éstamos Garantizad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1.06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éstamos Hipotecari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59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8160" y="334800"/>
            <a:ext cx="64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Emisiones de Fideicomisos Financi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6989" t="30911" r="29797" b="0"/>
          <a:stretch/>
        </p:blipFill>
        <p:spPr>
          <a:xfrm>
            <a:off x="324000" y="1989000"/>
            <a:ext cx="511308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9280" y="1203480"/>
            <a:ext cx="87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777777"/>
                </a:solidFill>
                <a:latin typeface="Trebuchet MS"/>
              </a:rPr>
              <a:t>Los $ 4.230 millones emitidos durante 2006 se han distribuido de la siguiente mane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29040" y="2479680"/>
            <a:ext cx="3282840" cy="319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tratos de Leasing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43,8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éditos Comerciale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29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éd. de Consumo y Personales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082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nero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0,5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éditos Prendari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86,6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pones de Tarjetas de Crédito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80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lujos Futur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41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éstamos Garantizad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293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éstamos Hipotecari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0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8160" y="334800"/>
            <a:ext cx="64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Emisiones de Fideicomisos Financi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20144" t="11156" r="17757" b="10878"/>
          <a:stretch/>
        </p:blipFill>
        <p:spPr>
          <a:xfrm>
            <a:off x="106200" y="2133720"/>
            <a:ext cx="54738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68160" y="3348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Evolución por tipo de Invers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320" y="909720"/>
            <a:ext cx="87976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68160" y="3348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Nuevo Asset Class: </a:t>
            </a:r>
            <a:r>
              <a:rPr b="1" i="1" lang="en-US" sz="2200" spc="-1" strike="noStrike">
                <a:solidFill>
                  <a:srgbClr val="777777"/>
                </a:solidFill>
                <a:latin typeface="Trebuchet MS"/>
              </a:rPr>
              <a:t>FCIs de Fideicomi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3613320"/>
            <a:ext cx="732780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Divers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Liqui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Reinversión de Cup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Portfolio Manager con Conocimiento del produ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1138320"/>
            <a:ext cx="74901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777777"/>
                </a:solidFill>
                <a:latin typeface="Arial"/>
              </a:rPr>
              <a:t>En el último año se han lanzado nuevos FCIs cuyo objeto específico es invertir en Fideicomisos Financi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2060640"/>
            <a:ext cx="749016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777777"/>
                </a:solidFill>
                <a:latin typeface="Arial"/>
              </a:rPr>
              <a:t>Asimismo, otros FCIs que estaban operativos en el mercado cambiaron su política de inversión aumentando su participación en Fideicomisos Financi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5T18:55:41Z</dcterms:created>
  <dc:creator>ccalderon</dc:creator>
  <dc:description/>
  <dc:language>en-US</dc:language>
  <cp:lastModifiedBy>Enrique Algorta</cp:lastModifiedBy>
  <dcterms:modified xsi:type="dcterms:W3CDTF">2006-08-30T15:51:46Z</dcterms:modified>
  <cp:revision>2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00148556</vt:r8>
  </property>
  <property fmtid="{D5CDD505-2E9C-101B-9397-08002B2CF9AE}" pid="3" name="_AuthorEmail">
    <vt:lpwstr>ccalderon@cibsa.com</vt:lpwstr>
  </property>
  <property fmtid="{D5CDD505-2E9C-101B-9397-08002B2CF9AE}" pid="4" name="_AuthorEmailDisplayName">
    <vt:lpwstr>Calderon, Cristian (CIBSA)</vt:lpwstr>
  </property>
  <property fmtid="{D5CDD505-2E9C-101B-9397-08002B2CF9AE}" pid="5" name="_EmailSubject">
    <vt:lpwstr>Presentación Cristian Calderón</vt:lpwstr>
  </property>
  <property fmtid="{D5CDD505-2E9C-101B-9397-08002B2CF9AE}" pid="6" name="_PreviousAdHocReviewCycleID">
    <vt:r8>-1762147559</vt:r8>
  </property>
</Properties>
</file>