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F53-C7E2-490D-8534-71077D6E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346-641A-493F-B7AC-53D1A79D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BEA-FC5B-41EC-A9FE-A9C699F4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9A5-678D-428B-88BC-C201EF0B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AF3-A8E7-44BA-8D7B-E05F1702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64F-2587-4746-A50D-CCDCFB41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DDC-78D9-46EE-89AC-4671C50D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B6E-E81D-4D79-B92C-3DD7A9FC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504-0BD2-46C5-A62E-9E361BA8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A89-C779-4400-87F3-C5E1ECDB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6A6A-F359-4AC8-A2B7-FD299D10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E93-1594-48D4-825E-8803AE9A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40CF-04A2-4F24-AF5E-8C65158000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64BC-15A6-42C8-9668-B4F432E0D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440" y="12949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ligaciones negoc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ed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otas de fondos cerrados de inver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deicomisos 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AD880-5805-4412-B454-275E08C85EFE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990720"/>
            <a:ext cx="5105520" cy="76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c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315200" cy="2819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la que otorga al titular el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rech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no la obligación) a comprar a un lanzador los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activos subyacent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lote</a:t>
            </a:r>
            <a:r>
              <a:rPr b="0" lang="es-ES_tradnl" sz="3200" spc="-1" strike="noStrike">
                <a:solidFill>
                  <a:srgbClr val="ccccff"/>
                </a:solidFill>
                <a:latin typeface="Times New Roman"/>
              </a:rPr>
              <a:t>”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objeto de la opción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sta la fecha de ven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6D13D-4525-46B2-940B-53483A1494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1747800"/>
            <a:ext cx="7543800" cy="369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E30EC-40BD-4644-9EF3-14BAECA619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0560" y="685440"/>
            <a:ext cx="4343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ción de ve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315200" cy="243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la que otorga al titular el derecho a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vende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 un lanzador los activos subyacentes ( lote) objeto de la opción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sta la fecha determi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BBDA6-B66B-4C38-8CB7-294B530672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155680"/>
            <a:ext cx="7772400" cy="37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46200-D04B-4107-8518-9A3C59CB44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ciones: Principio bás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343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opción de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compr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es un derecho a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comp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  opción puede ser comprada o ven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opción de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vent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es un derecho a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 opción puede ser comprada o ven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17681-B871-46E9-BF00-7D39956967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10516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Tit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sujeto que adquiere el derecho que le otorga la opción y por lo tanto el único que puede ejer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adquirir el derecho paga una pr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B6BA3-08F7-4253-9277-CEC5DD00EE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Times New Roman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precio que paga el titular por el derecho que adqui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e valor surge de la oferta/demanda del mercado al igual que la especie subyac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ED451-54AE-4D0B-8612-5CDFBD67AF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Lanzador cubiert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2743200"/>
            <a:ext cx="7391160" cy="2819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sujeto que se obliga a cumplir con el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derech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que la opción otorga al titular,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positando como garantía el activo subyac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4EFB3-A85B-42A9-B3A8-C58BEF1C82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17220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nzador descubier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7467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sujeto que se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oblig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 cumplir con 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recho que la opción otorga al titular,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s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positar el activo subyac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781DA-F0CB-4AC9-8B09-9AEBC0D4B4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22096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e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define como serie al conjunto integrado por el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activo subyace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condición de </a:t>
            </a:r>
            <a:r>
              <a:rPr b="0" lang="es-ES_tradnl" sz="3200" spc="-1" strike="noStrike">
                <a:solidFill>
                  <a:srgbClr val="99cc00"/>
                </a:solidFill>
                <a:latin typeface="Times New Roman"/>
              </a:rPr>
              <a:t>compr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o de </a:t>
            </a:r>
            <a:r>
              <a:rPr b="0" lang="es-ES_tradnl" sz="3200" spc="-1" strike="noStrike">
                <a:solidFill>
                  <a:srgbClr val="99cc00"/>
                </a:solidFill>
                <a:latin typeface="Times New Roman"/>
              </a:rPr>
              <a:t>vent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 la opción , el precio de</a:t>
            </a: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 ejercicio</a:t>
            </a:r>
            <a:r>
              <a:rPr b="0" lang="es-ES_tradnl" sz="32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la </a:t>
            </a:r>
            <a:r>
              <a:rPr b="0" lang="es-ES_tradnl" sz="3200" spc="-1" strike="noStrike">
                <a:solidFill>
                  <a:srgbClr val="6666ff"/>
                </a:solidFill>
                <a:latin typeface="Times New Roman"/>
              </a:rPr>
              <a:t>fecha de vencimien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Pc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C </a:t>
            </a: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2.0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Led 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V </a:t>
            </a: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2.8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24D5D-3474-42E8-8442-A78B53BA4E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382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ado liquidación 72 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lazo fir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se bursá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ución bursá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Í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éstamo de va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quiler de tít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 en co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19205-1B38-4234-BC22-B61E5AD6F905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609480"/>
            <a:ext cx="289584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acto formal por el cual el titular hace uso del derecho adquirido , dando origen a una operación de contado 72 h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e derecho se puede formalizar desde el día en que liquida la prima hasta el día inmediato anterior a la fecha de ven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C1918-7891-4E77-8967-DE5A38D667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una </a:t>
            </a:r>
            <a:r>
              <a:rPr b="1" lang="es-AR" sz="2800" spc="-1" strike="noStrike">
                <a:solidFill>
                  <a:srgbClr val="ff0000"/>
                </a:solidFill>
                <a:latin typeface="Frutiger-Bold"/>
                <a:ea typeface="Times New Roman"/>
              </a:rPr>
              <a:t>Opción Compra comprada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, si usted la ejer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le origina una operación de </a:t>
            </a: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compra de 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• 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una </a:t>
            </a:r>
            <a:r>
              <a:rPr b="1" lang="es-AR" sz="2800" spc="-1" strike="noStrike">
                <a:solidFill>
                  <a:srgbClr val="ff0000"/>
                </a:solidFill>
                <a:latin typeface="Frutiger-Bold"/>
                <a:ea typeface="Times New Roman"/>
              </a:rPr>
              <a:t>Opción Compra vendida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, si se la ejerc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le origina una operación de </a:t>
            </a: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venta de 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• 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una </a:t>
            </a:r>
            <a:r>
              <a:rPr b="1" lang="es-AR" sz="2800" spc="-1" strike="noStrike">
                <a:solidFill>
                  <a:srgbClr val="ff0000"/>
                </a:solidFill>
                <a:latin typeface="Frutiger-Bold"/>
                <a:ea typeface="Times New Roman"/>
              </a:rPr>
              <a:t>Opción venta comprada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, si usted la ejer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le origina una operación de </a:t>
            </a: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venta de 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• 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una </a:t>
            </a:r>
            <a:r>
              <a:rPr b="1" lang="es-AR" sz="2800" spc="-1" strike="noStrike">
                <a:solidFill>
                  <a:srgbClr val="ff0000"/>
                </a:solidFill>
                <a:latin typeface="Frutiger-Bold"/>
                <a:ea typeface="Times New Roman"/>
              </a:rPr>
              <a:t>Opción venta vendida</a:t>
            </a:r>
            <a:r>
              <a:rPr b="1" lang="es-AR" sz="2800" spc="-1" strike="noStrike">
                <a:solidFill>
                  <a:srgbClr val="ff0000"/>
                </a:solidFill>
                <a:latin typeface="Frutiger-Light"/>
                <a:ea typeface="Times New Roman"/>
              </a:rPr>
              <a:t>,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 si se la ejercen, 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origina una operación de </a:t>
            </a: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compra de 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E75B1-3AB8-46FE-BE7D-27EAC165FF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449568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ecio de Ejerci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29718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precio por al cual el titular tendrá  el derecho a comprar o vender cada uno de los activos subyacentes  que integran el lote objeto de la o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E9A80-0F8B-44C6-901D-461CEA2263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563868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echa de venci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la fecha en la expira la o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AE78C-01C9-4BC7-8F17-5721716BC8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2840" y="609480"/>
            <a:ext cx="2133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saldo resultante, en valor nominal, de una o mas opciones sobre la misma serie realizados por un comit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su saldo la posición será titular o lanzad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2E0D8-644C-4802-86B5-6C2373901C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acuerdo a la garantía ser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ubi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Descubi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Opuesta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pciones del mismo tipo(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y de  naturaleza inversa( 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)sobre un mismo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ruzad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Combinan opciones con operaciones de plazo que impliquen posiciones inversas por similar cantidad y sobre el mimo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9810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819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1911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324A9-6C78-4E49-B260-C95AF366A9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Posición de un client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tular  </a:t>
            </a: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nzador    cruzado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     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Posición 1.000 pc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Compra 1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Pc al 30/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PC.C2.20oc                     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PC.C2.40oc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50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5F125-9870-4CD7-831C-F18490FF24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siciones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1981080"/>
          <a:ext cx="8458200" cy="4557960"/>
        </p:xfrm>
        <a:graphic>
          <a:graphicData uri="http://schemas.openxmlformats.org/drawingml/2006/table">
            <a:tbl>
              <a:tblPr/>
              <a:tblGrid>
                <a:gridCol w="2011320"/>
                <a:gridCol w="1554120"/>
                <a:gridCol w="1844640"/>
                <a:gridCol w="1447920"/>
                <a:gridCol w="16002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z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bierto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zador descubi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ue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uza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.c2.00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.c2.20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,.c2.40o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.c2.60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2FCD2-830F-4487-B7B6-D5E7B3664B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609120"/>
            <a:ext cx="28195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ierre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54380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 cierre de posición es realizar la operación inversa sobre una serie, extinguiendo su posición total o par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F0DA2-F40C-4DDD-B4F2-4E3953184B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962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un acto formal a través del cual un lanzador impide, el ejercicio total o parcial de uno o mas lotes  que integran un reciente cierre de posiciones  no distribuido, debiendo ser informado oportunamente al M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rval 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ún la tabla de horari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ta operación se puede realizar cualquier día  impidiendo  un posible ejercicio anticip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904760" y="304920"/>
            <a:ext cx="525780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loqueo de Posi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8380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A2C20-6525-4002-B81A-375BE5BAB1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eración a plazo fi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mprador y el vendedor conciertan la operación en una fecha determinada y quedan definitivamente oblig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regula el riesgo mediante sistemas de garantías  y cupos oper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67DEE-EE1C-4C66-920E-829FAC4C7E7B}" type="datetime1">
              <a:rPr lang="en-US"/>
              <a:t>07/30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867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los lanzami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lanzamientos cubiertos pueden realizarse sobre todas las acciones y sobre todos los títul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lanzamientos descubiertos solo por las acciones seleccionadas por el mercado y de acuerdo a los cupos estable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obligaciones derivadas del lanzamiento se extinguen por el ejercicio de las opciones, por su vencimiento o por cierre de 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9C398-7309-43CF-B99F-744002B0A1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609480"/>
            <a:ext cx="533412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pos opera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353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cupos son solamente para lanzamientos en descubie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pos por espe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pos to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1BDE8-DC6F-42AC-896F-87FD2237A6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520" y="-360"/>
            <a:ext cx="36576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Garant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267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garantía a constituir por el lanzador en descubierto equivale al doble de la prima (valor cierre diario) o el doble de la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 una tabla de garantía con menores exigencias ante grandes variaciones de precio de cada espec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garantías tienen recalculo diario de acuerdo a los precios de cierre con reposición di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D95DF-03AC-41B9-BA80-A557F05EF8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aturaleza de los bienes que integran la garant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fectivo pesos o dólares  bil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ítulos públicos nacionales con sus afor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ítulos privados de la misma especie con el aforo de ca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zo fijo en el Banco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as garantías a satisfacción del direc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B27DE-3B6B-416B-99D1-8F98D0C57F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sumen opc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19112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omprador  (Titu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el derecho pero no la obligación de comprar el activo a un precio acordado durante un periodo determi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o a cambio del pago de una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Vendedor (lanza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la obligación de vender el activo cuando así se lo solicite el comprador, al precio acordado a cambio de haber cobrado una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5AC79-8FD9-4AE2-B94A-ABF8E010C2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152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sumen Opción de vent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omprador ( titu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el derecho pero no la obligación de vender el activo a un precio acordado durante un periodo determi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o a cambio del pago de una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Vendedor (lanza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la obligación de comprar el activo cuando así se lo solicite el comprador, al precio acordado a cambio de haber cobrado una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29C46-E658-4348-BDDB-B04CD62749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ase bursát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 solo contrato instrumentado en una o mas liquidaciones, que consiste en la compra o venta contado o para un plazo determinado y la simultanea operación inversa de venta o compra, para un mismo comitente y en un vencimiento pos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ista de títulos permitidos, cupos y  garant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CC6C5-E153-4EA8-8A3B-8858CD5BD50F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aución bursát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pase en el cual el precio de venta al contado, es inferior al precio de cotización y resulta de la aplicación de aforos y el descuento de la tasa de interés del perio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hay garantías. Existe margen de reposición de márgenes de garant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ista de títulos valores y afo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88C4C-268C-46FF-801F-6FC894C9B5A4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609480"/>
            <a:ext cx="121921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Índice mer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dicador de rentabilidad de las acciones que toma como base de comparación de una inversión 100 al 30 de junio de 198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participación de la acción en la cartera teórica depende de la representatividad en la operatoria de contado.orden decreciente en la participación hasta computar el 80% del volumen, haber operado el 80% de las rue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ualización de la cartera cada tres meses en función de seis me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134D1-A20C-48F4-86EB-B8348C537F80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lquiler de títu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contrato por medio del cual un agente colocador, se obliga a transferir temporalmente la propiedad de ciertos títulos valores a otro agente tomador quien a su vez se obliga al vencimiento del plazo establecido, a restituir al primero los títulos y el pago de la contraprestación conven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realiza para cubrir operaciones de venta en corto para períodos de hasta un año de plaz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1F30B-4820-409E-8F8F-EC5E04ED48D3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Venta en cor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la venta a 72hs de títulos valores que no dispongo en cartera y que simultáneamente los alquilo en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C14C0-8BC8-4F3B-A5CC-3C88B8D82D05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1280" y="692280"/>
            <a:ext cx="3816360" cy="76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finición de op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un contrato por el cual el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nzado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vende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r una determinada cantidad de dinero denomin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Prima”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torga al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tul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comprador) el derech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gir a un lanzador dentro de un periodo de tiemp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terminado, la compra o la venta de un  </a:t>
            </a:r>
            <a:r>
              <a:rPr b="0" i="1" lang="es-ES_tradnl" sz="2800" spc="-1" strike="noStrike">
                <a:solidFill>
                  <a:srgbClr val="99cc00"/>
                </a:solidFill>
                <a:latin typeface="Times New Roman"/>
              </a:rPr>
              <a:t>“lote”</a:t>
            </a:r>
            <a:r>
              <a:rPr b="0" i="1" lang="es-ES_tradnl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cantidad de títulos valores ) a un </a:t>
            </a: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“precio   de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Ejercicio”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 precio fijo determin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1CBCE-7E0A-4CAF-94BD-153D8B0A4A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2:30:07Z</dcterms:created>
  <dc:creator>Luis C. Alvarez Nani</dc:creator>
  <dc:description/>
  <dc:language>en-US</dc:language>
  <cp:lastModifiedBy>C.P.C.E.C.A.B.A.</cp:lastModifiedBy>
  <dcterms:modified xsi:type="dcterms:W3CDTF">2006-09-01T20:26:35Z</dcterms:modified>
  <cp:revision>25</cp:revision>
  <dc:subject/>
  <dc:title>Opciones: Definición</dc:title>
</cp:coreProperties>
</file>