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DE9-126F-43B2-A1E2-C896142E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233-D21F-481C-965B-8CD5468A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AAF-73B7-498C-B13C-66D23301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75A-2349-48AD-AFC9-BE95504B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7F8-1D84-4EC4-985F-E8FE298D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BE5-0712-4AAD-ADA5-E6A94027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7CB-67E1-458D-B9EE-26159B1C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1E5-5B4C-43F8-A9D3-911A6FAE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760-9DDC-4FB7-88E5-5EEC1F87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C5F-3AA4-4480-A53E-ED776E9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54D-64DB-45A6-A206-C77CF897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D1C-2541-43BD-9777-6608DE35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BA4A-6DBD-4342-8BF6-3B1A65FE35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2E72-1B78-432A-87D2-A90ADEB74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4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ligacion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ed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otas de fondos cerrados de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deicomis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660E0-8129-4976-B42C-5B9E239504A0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990720"/>
            <a:ext cx="510552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315200" cy="2819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que otorga al titular el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rech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no la obligación) a comprar a un lanzador los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activos subyacent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lote</a:t>
            </a:r>
            <a:r>
              <a:rPr b="0" lang="es-ES_tradnl" sz="3200" spc="-1" strike="noStrike">
                <a:solidFill>
                  <a:srgbClr val="ccccff"/>
                </a:solidFill>
                <a:latin typeface="Times New Roman"/>
              </a:rPr>
              <a:t>”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bjeto de la opción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sta la fecha de ven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C9C21-C94D-4A1A-A9E4-117FBDCAE8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543800" cy="369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536F1-B070-409D-A0F4-262EEE6ED6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4343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ón de ve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315200" cy="243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que otorga al titular el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vend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 un lanzador los activos subyacentes ( lote) objeto de la opción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sta la fecha determi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2B24A-730E-4FAB-BAC1-73E54E5700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155680"/>
            <a:ext cx="7772400" cy="37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0DA86-9A20-4DA7-8BBC-5E7274BBC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ciones: Principio bá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343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opción de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compr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 un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comp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 opción puede ser comprada o ven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opción de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 un derecho a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opción puede ser comprada o ven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B91BA-103F-48AF-AADF-18BD88E483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10516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Tit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adquiere el derecho que le otorga la opción y por lo tanto el único que puede ejer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adquirir el derecho paga una p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BDF34-404B-4EA9-9739-B274105BC1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Times New Roman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precio que paga el titular por el derecho que adqui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valor surge de la oferta/demanda del mercado al igual que la especie subya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A6F02-EFD0-4862-A78C-7C07A14CA1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Lanzador cubier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7391160" cy="2819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se obliga a cumplir con el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derech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que la opción otorga al titular,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positando como garantía el activo subya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047FD-2D3D-427E-9036-60A4A6933C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17220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nzador descubier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7467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ujeto que se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oblig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 cumplir con 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recho que la opción otorga al titular,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s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positar el activo subyac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4C6B9-AD37-4EE4-84D7-D9D5442C57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22096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e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define como serie al conjunto integrado por el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activo subyac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condición de </a:t>
            </a:r>
            <a:r>
              <a:rPr b="0" lang="es-ES_tradnl" sz="3200" spc="-1" strike="noStrike">
                <a:solidFill>
                  <a:srgbClr val="99cc00"/>
                </a:solidFill>
                <a:latin typeface="Times New Roman"/>
              </a:rPr>
              <a:t>compr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 de </a:t>
            </a:r>
            <a:r>
              <a:rPr b="0" lang="es-ES_tradnl" sz="3200" spc="-1" strike="noStrike">
                <a:solidFill>
                  <a:srgbClr val="99cc00"/>
                </a:solidFill>
                <a:latin typeface="Times New Roman"/>
              </a:rPr>
              <a:t>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 la opción , el precio de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 ejercicio</a:t>
            </a:r>
            <a:r>
              <a:rPr b="0" lang="es-ES_tradnl" sz="3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la </a:t>
            </a:r>
            <a:r>
              <a:rPr b="0" lang="es-ES_tradnl" sz="3200" spc="-1" strike="noStrike">
                <a:solidFill>
                  <a:srgbClr val="6666ff"/>
                </a:solidFill>
                <a:latin typeface="Times New Roman"/>
              </a:rPr>
              <a:t>fecha de vencimi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Pc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C 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2.0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Led  </a:t>
            </a:r>
            <a:r>
              <a:rPr b="0" lang="es-ES_tradnl" sz="3200" spc="-1" strike="noStrike">
                <a:solidFill>
                  <a:srgbClr val="00cc99"/>
                </a:solidFill>
                <a:latin typeface="Times New Roman"/>
              </a:rPr>
              <a:t>V 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2.8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C119C-05D5-47EC-93DB-02FDDD7253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ado liquidación 72 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lazo fir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e bursá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ución bursá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Í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éstamo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quiler de tít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 en co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F1C75-B0A6-47D5-91A5-DBDDF01F9192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609480"/>
            <a:ext cx="289584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acto formal por el cual el titular hace uso del derecho adquirido , dando origen a una operación de contado 72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derecho se puede formalizar desde el día en que liquida la prima hasta el día inmediato anterior a la fecha de ven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6ED56-440B-4971-B236-3C59D0FE0C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Compra compra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usted la ejer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compr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Compra vendi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se la ejerc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vent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venta comprada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, si usted la ejer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le 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vent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• 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una </a:t>
            </a:r>
            <a:r>
              <a:rPr b="1" lang="es-AR" sz="2800" spc="-1" strike="noStrike">
                <a:solidFill>
                  <a:srgbClr val="ff0000"/>
                </a:solidFill>
                <a:latin typeface="Frutiger-Bold"/>
                <a:ea typeface="Times New Roman"/>
              </a:rPr>
              <a:t>Opción venta vendida</a:t>
            </a:r>
            <a:r>
              <a:rPr b="1" lang="es-AR" sz="2800" spc="-1" strike="noStrike">
                <a:solidFill>
                  <a:srgbClr val="ff0000"/>
                </a:solidFill>
                <a:latin typeface="Frutiger-Light"/>
                <a:ea typeface="Times New Roman"/>
              </a:rPr>
              <a:t>,</a:t>
            </a: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 si se la ejercen, 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Frutiger-Light"/>
                <a:ea typeface="Times New Roman"/>
              </a:rPr>
              <a:t>origina una operación de </a:t>
            </a:r>
            <a:r>
              <a:rPr b="1" lang="es-AR" sz="2800" spc="-1" strike="noStrike">
                <a:solidFill>
                  <a:srgbClr val="000000"/>
                </a:solidFill>
                <a:latin typeface="Frutiger-Bold"/>
                <a:ea typeface="Times New Roman"/>
              </a:rPr>
              <a:t>compra de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BB0EF-621F-445A-8B4C-651064B8C2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44956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cio de Ejerci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29718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precio por al cual el titular tendrá  el derecho a comprar o vender cada uno de los activos subyacentes  que integran el lote objeto de la o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6B273-4D3D-4692-9523-0D5D4A961B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6386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echa de venci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fecha en la expira la o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7EBEC-3C9A-4ACF-B426-84D5A803A7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2133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saldo resultante, en valor nominal, de una o mas opciones sobre la misma serie realizados por un comit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su saldo la posición será titular o lanzad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68174-E0D6-4CF5-B649-CEB6243014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acuerdo a la garantía ser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ub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Descub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Opuesta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pciones del mismo tipo(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y de  naturaleza inversa(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)sobre un mismo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ruzad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Combinan opciones con operaciones de plazo que impliquen posiciones inversas por similar cantidad y sobre el mimo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9810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819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911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5B057-19F9-45B4-BC0D-CAE2E333EF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Posición de un clien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tular  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nzador    cruzad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     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Posición 1.000 pc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Compra 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Pc al 30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PC.C2.20oc                  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C.C2.40oc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50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1B4B7-9E85-441A-87DF-2CC4A99300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sicione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981080"/>
          <a:ext cx="8458200" cy="4557960"/>
        </p:xfrm>
        <a:graphic>
          <a:graphicData uri="http://schemas.openxmlformats.org/drawingml/2006/table">
            <a:tbl>
              <a:tblPr/>
              <a:tblGrid>
                <a:gridCol w="2011320"/>
                <a:gridCol w="1554120"/>
                <a:gridCol w="1844640"/>
                <a:gridCol w="1447920"/>
                <a:gridCol w="1600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z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ierto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zador descu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ue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uz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0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2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,.c2.40o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.c2.60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BEA3E-C7E3-4932-BB90-F568396B73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609120"/>
            <a:ext cx="28195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ierre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54380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cierre de posición es realizar la operación inversa sobre una serie, extinguiendo su posición total o pa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845B2-58E9-40AA-9F36-F60213437B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 acto formal a través del cual un lanzador impide, el ejercicio total o parcial de uno o mas lotes  que integran un reciente cierre de posiciones  no distribuido, debiendo ser informado oportunamente al M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rval 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ún la tabla de horari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ta operación se puede realizar cualquier día  impidiendo  un posible ejercicio anticip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04760" y="304920"/>
            <a:ext cx="525780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loqueo de Posi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8380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4D6B1-D03D-4ABB-A248-B835A953EB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peración a plazo fi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mprador y el vendedor conciertan la operación en una fecha determinada y quedan definitivamente oblig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regula el riesgo mediante sistemas de garantías  y cupos oper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0D124-FD1E-487D-9221-14AB7E00B281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867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los lanza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lanzamientos cubiertos pueden realizarse sobre todas las acciones y sobre todos los títul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lanzamientos descubiertos solo por las acciones seleccionadas por el mercado y de acuerdo a los cupos estable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obligaciones derivadas del lanzamiento se extinguen por el ejercicio de las opciones, por su vencimiento o por cierre de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68137-C7EA-44F8-9E98-AC30FD639B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533412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pos oper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353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cupos son solamente para lanzamientos en descub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pos por espe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pos to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2E673-7B6F-4B83-A129-D77BFC40C1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3657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arant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26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garantía a constituir por el lanzador en descubierto equivale al doble de la prima (valor cierre diario) o el doble de la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 una tabla de garantía con menores exigencias ante grandes variaciones de precio de cada espe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garantías tienen recalculo diario de acuerdo a los precios de cierre con reposición di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3D1EE-0739-4C34-8709-6178C676BE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aturaleza de los bienes que integran la garant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ivo pesos o dólares  bil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ítulos públicos nacionales con sus afo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ítulos privados de la misma especie con el aforo de ca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zo fijo en el Banco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garantías a satisfacción del direc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85522-0043-44DF-80AB-A31060D3AC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umen opc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9112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omprador  (Tit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el derecho pero no la obligación de comprar el activo a un precio acordado durante un periodo determi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 a cambio del pago de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00"/>
                </a:solidFill>
                <a:latin typeface="Times New Roman"/>
              </a:rPr>
              <a:t>Vendedor (lanz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la obligación de vender el activo cuando así se lo solicite el comprador, al precio acordado a cambio de haber cobrado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8907C-1C58-4F05-98E7-6D6D22271D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152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umen Opción de ven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omprador ( tit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el derecho pero no la obligación de vender el activo a un precio acordado durante un periodo determi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 a cambio del pago de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Vendedor (lanz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la obligación de comprar el activo cuando así se lo solicite el comprador, al precio acordado a cambio de haber cobrado una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154F6-756A-45CB-9AD6-BDD34FB917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se bursá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solo contrato instrumentado en una o mas liquidaciones, que consiste en la compra o venta contado o para un plazo determinado y la simultanea operación inversa de venta o compra, para un mismo comitente y en un vencimiento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sta de títulos permitidos, cupos y  garant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FECAA-1452-42E2-A90E-82F0FC211278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aución bursá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pase en el cual el precio de venta al contado, es inferior al precio de cotización y resulta de la aplicación de aforos y el descuento de la tasa de interés del perio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hay garantías. Existe margen de reposición de márgenes de garant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sta de títulos valores y afo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8CE05-DF63-4E70-944D-6D8AF223B5E9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609480"/>
            <a:ext cx="121921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ndice mer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icador de rentabilidad de las acciones que toma como base de comparación de una inversión 100 al 30 de junio de 198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participación de la acción en la cartera teórica depende de la representatividad en la operatoria de contado.orden decreciente en la participación hasta computar el 80% del volumen, haber operado el 80% de las rue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ualización de la cartera cada tres meses en función de seis m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6A0CB-4722-43CC-94FA-733B21FC93D6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lquiler de tít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contrato por medio del cual un agente colocador, se obliga a transferir temporalmente la propiedad de ciertos títulos valores a otro agente tomador quien a su vez se obliga al vencimiento del plazo establecido, a restituir al primero los títulos y el pago de la contraprestación conven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realiza para cubrir operaciones de venta en corto para períodos de hasta un año de pla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07644-2D7D-403B-916C-459A0AD6ACEC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Venta en cor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la venta a 72hs de títulos valores que no dispongo en cartera y que simultáneamente los alquilo en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924CC-F0A9-4F8A-9A18-C0DD5CBCED94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280" y="692280"/>
            <a:ext cx="381636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finición de op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 contrato por el cual e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nzado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vende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 una determinada cantidad de dinero denomin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Prima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torga a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tul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comprador) el derech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gir a un lanzador dentro de un periodo de tiem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erminado, la compra o la venta de un  </a:t>
            </a:r>
            <a:r>
              <a:rPr b="0" i="1" lang="es-ES_tradnl" sz="2800" spc="-1" strike="noStrike">
                <a:solidFill>
                  <a:srgbClr val="99cc00"/>
                </a:solidFill>
                <a:latin typeface="Times New Roman"/>
              </a:rPr>
              <a:t>“lote”</a:t>
            </a:r>
            <a:r>
              <a:rPr b="0" i="1" lang="es-ES_tradnl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cantidad de títulos valores ) a un 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“precio   de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Ejercicio”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 precio fijo determin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is C. Alvarez Na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613D8-8054-4BBC-BEE1-B2BBB9C19A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2:30:07Z</dcterms:created>
  <dc:creator>Luis C. Alvarez Nani</dc:creator>
  <dc:description/>
  <dc:language>en-US</dc:language>
  <cp:lastModifiedBy>C.P.C.E.C.A.B.A.</cp:lastModifiedBy>
  <dcterms:modified xsi:type="dcterms:W3CDTF">2006-09-01T20:26:35Z</dcterms:modified>
  <cp:revision>25</cp:revision>
  <dc:subject/>
  <dc:title>Opciones: Definición</dc:title>
</cp:coreProperties>
</file>