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C438-5F97-4EF2-BEBD-7045E387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8DEA-8C3E-4973-8E14-6C86A70D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9F3-FE98-4D46-8B63-0F62A894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B02-29E6-4A22-A90E-D5040CAA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AA3E-FF91-46F4-9ACA-0F50B62F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963-5021-4D06-8108-2112932E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D7FB-0C91-4FD8-877E-7437B840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229-64E0-4F99-95CD-332C22B4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5FD-4A74-4249-84EE-CD4EA18B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D26C-D607-4C90-B4BD-9483ACD7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11C6-6F1E-48A5-8489-88FC4250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D3E7-1699-4F77-B6E8-A282EB4B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6F50-986B-4E7F-AE0C-B0C23A1DF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aso Prác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GEORGALOS H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tección del Probl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irectorio ( cinco diferentes Accionista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Unidades de Negocios no ren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Unidades de Producción descentraliza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ancamiento en el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lación Cmg / 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to costo de Funci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to nivel de endeud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s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0000"/>
                </a:solidFill>
                <a:latin typeface="Times New Roman"/>
              </a:rPr>
              <a:t>Resultado Operativo Neutro o Nega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¿ Como retornar a una razonable Ganancia Operativ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Elevar la Facturación</a:t>
            </a: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Reestructurar integralment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67080" y="380520"/>
            <a:ext cx="4572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estructur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evo Organigr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ificación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atég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omiso de la Gerencia con el mode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ión Inmedi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esupuesto a cinco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estructuración de Pas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estructuración de Gastos  y  Fun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lanzamiento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api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trol Presupues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Objetivos por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O.N.  (10 añ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ducción de un 50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centración Fabril con acuerdos de Produ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cremento en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enta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3962520" y="304920"/>
            <a:ext cx="48765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estructur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14440" y="304560"/>
            <a:ext cx="4800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estructur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Valoración del Resultado Ope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Valoración de las GANA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E01832_" descr=""/>
          <p:cNvPicPr/>
          <p:nvPr/>
        </p:nvPicPr>
        <p:blipFill>
          <a:blip r:embed="rId1"/>
          <a:stretch/>
        </p:blipFill>
        <p:spPr>
          <a:xfrm>
            <a:off x="4648320" y="2297160"/>
            <a:ext cx="38098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01:44:49Z</dcterms:created>
  <dc:creator>GUILLERMO RIMOLDI</dc:creator>
  <dc:description/>
  <dc:language>en-US</dc:language>
  <cp:lastModifiedBy>GUILLERMO RIMOLDI</cp:lastModifiedBy>
  <dcterms:modified xsi:type="dcterms:W3CDTF">2001-08-22T03:32:04Z</dcterms:modified>
  <cp:revision>3</cp:revision>
  <dc:subject/>
  <dc:title>Caso Práctico</dc:title>
</cp:coreProperties>
</file>