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1A4-B7BD-4E01-9EAC-DBC1709E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080-1B9A-4161-863B-A7A0BC3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06E-E2D3-4A07-9F73-A902BECA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84E-8CA8-4236-9BE1-36AA5763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E8B-4C72-4A6E-B4C4-8F4330A6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1A9-CF51-496B-9FE9-E825C5A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5E8-2666-46B3-9366-0953271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11E-0886-4BEF-A836-C67F315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73D-4E55-4724-BA4C-F26B73A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A7F-54BD-420E-B591-8906AEE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599-F9F5-4E13-941F-2B64196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E98-ED7B-42F6-8FBA-7667640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9DB2-E5AB-4194-A0D2-20FB0937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Prá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GEORGALOS H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c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rectorio ( cinco diferentes Accionist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Negocios no re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Producción descentraliz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ncamiento en el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lación Cmg / 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costo de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nivel de endeud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s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Resultado Operativo Neutro o Nega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¿ Como retornar a una razonable Ganancia Operativ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Elevar la Facturación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eestructurar integralment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o Organig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ificació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ég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omiso de la Gerencia con el mode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ión Inmedi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upuesto a cinco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Gastos  y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nzamient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bjetivos por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.N.  (10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ucción de un 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entración Fabril con acuerdos de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nta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l Resultad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 las GAN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1:44:49Z</dcterms:created>
  <dc:creator>GUILLERMO RIMOLDI</dc:creator>
  <dc:description/>
  <dc:language>en-US</dc:language>
  <cp:lastModifiedBy>GUILLERMO RIMOLDI</cp:lastModifiedBy>
  <dcterms:modified xsi:type="dcterms:W3CDTF">2001-08-22T03:32:04Z</dcterms:modified>
  <cp:revision>3</cp:revision>
  <dc:subject/>
  <dc:title>Caso Práctico</dc:title>
</cp:coreProperties>
</file>