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8E5-279E-472C-9BD0-E74E1FC2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B41-60F5-4318-B021-BC825762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224-E597-4DFC-AB4D-88357391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6D5-FF66-4AA3-A0A5-EE7FF076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DDE-2709-4E17-B352-832F74B1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16C-0043-4164-B7B9-1D4EE46E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CC0-0A0B-42A1-A62B-F11155FD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FA8-62DC-4F55-9723-C4F9325C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BD0-989D-429A-B8E0-37235587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F1E-0143-448F-80A8-D1782CF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B9C-E54B-43E7-9EE4-F318178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5D0-E94F-4606-B6D0-E2DDA7F6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115B-8165-4B7D-84BF-3561FECD5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52480" y="533520"/>
          <a:ext cx="5639040" cy="37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56390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vestment Bankers &amp; Consulting Partners 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9528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NEGOCIACION SECUNDARIA POR PRODUCT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NEGOCIACION SECUNDARIA POR PRODUCT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0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9600" y="2590920"/>
            <a:ext cx="236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INSOLV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D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362320"/>
            <a:ext cx="2743200" cy="20574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6520" y="1327320"/>
            <a:ext cx="296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REG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CAMBI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CONVER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066680"/>
            <a:ext cx="3505320" cy="16765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8440" y="4206960"/>
            <a:ext cx="20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886200"/>
            <a:ext cx="2514600" cy="14479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533520"/>
            <a:ext cx="1828800" cy="12952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0080" y="83808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Times New Roman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Times New Roman"/>
              </a:rPr>
              <a:t>ECO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876920"/>
            <a:ext cx="1981080" cy="12952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525780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Times New Roman"/>
              </a:rPr>
              <a:t>TIPO DE CAMBIO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76720" y="1828800"/>
            <a:ext cx="152388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657600"/>
            <a:ext cx="167616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74000" y="228600"/>
            <a:ext cx="80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TERMINANTES DEL RIESGO PAIS DE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868320"/>
            <a:ext cx="8839440" cy="583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2438280"/>
            <a:ext cx="883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INANCIAMIENTO EXTERNO DEL SECTOR PUBLICO Y RIESGO ARGENTINO P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8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686800" y="1295280"/>
            <a:ext cx="457200" cy="4953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1440" y="1306440"/>
            <a:ext cx="9145440" cy="555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1015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VOLUCION DE LAS CALIFICACIONES DE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7960" y="422280"/>
            <a:ext cx="68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EVOLUCION DEL RIESGO PAIS DE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7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RODUCTO INTERNO BRUTO DESESTACION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1828800"/>
            <a:ext cx="4496040" cy="1752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0" y="209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-6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IPO DE CAMBIO REAL MULT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62320" y="1447920"/>
            <a:ext cx="213336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JULIO 2001 : 0,8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TUACION FINANCIERA SECTOR PU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GA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CAUD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ORGANISMOS INTERNACIONALES (BLINDA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EGAC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INANCIAMIENTO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OMPARACION INTERNACIONAL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ROMEDIO 1993-1998. % P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STEMA FINANCI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ODIFICACION C.O. BANC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INTEGRACION DE R.L. CON TI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NECESIDAD DE FINANCIAMIENTO DEL SECTOR PU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EMORES POR IMPUESTOS A OPERA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ASE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TIRO DE DEPO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68560"/>
            <a:ext cx="8991720" cy="568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POSIT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POSITOS TOTALES EN P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5440" cy="5707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5440" cy="5713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POSITOS TOTALES EN DO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80360" y="152280"/>
            <a:ext cx="52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NALISIS DE DEPO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(Millones de 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86200" y="1905120"/>
            <a:ext cx="525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REGIMEN CAMBI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QUERIMIENTO DE FONDOS AL BANC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ONVERTIBILIDAD AMPL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ACTOR DE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ODIFICACION C.O. DEL BANC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EMORES POR USO DE RESER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EMORES POR DEVALUACION PARA BAJAR GASTO PU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REGIMEN CAMBI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TIRO DE DEPOSITOS Y CAIDA DE RESER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ASE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SERVAS INTERNACIONALES DEL SISTEMA FINANCI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5440" cy="568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SERVAS NETAS DEL B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992160"/>
            <a:ext cx="9145440" cy="586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80320" y="228600"/>
            <a:ext cx="645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ERVAS INTER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Variaciones en millones de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619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680" y="22096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MISION PRIMARIA</a:t>
            </a:r>
            <a:br>
              <a:rPr sz="2800"/>
            </a:b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9144000" cy="532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ATIO DE COBERTURA DE CONVERTIBILIDAD ACIDO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Oro y divisas/(Pases pasivos + base monetaria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220760"/>
            <a:ext cx="9145440" cy="563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27360" y="304920"/>
            <a:ext cx="56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VOLUCION DEL CRED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81200" y="87948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VALORES EN MILLONES DE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96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L CREDITO A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920" y="1131840"/>
            <a:ext cx="9126720" cy="569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L CREDITO POR DESCUENTOS E HIPOTEC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L CREDITO POR ADELANTOS, PRENDARIOS Y 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 LAS TASAS DE INTERES PASIVAS Y LA TASA P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0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87480" y="1143000"/>
            <a:ext cx="9320400" cy="5715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 LAS TASAS CALL Y BAIBOR EN PESOS Y DO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NECESIDADES DE FINAN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DEFICIT</a:t>
            </a:r>
            <a:r>
              <a:rPr b="1" lang="es-A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EVEN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STABILIZACION DEL NIVEL DE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IN DEL CROWDING OU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ACTOR DE AJU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EUDA DEL GOBIERNO NACINAL POR TI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981080"/>
          <a:ext cx="8915400" cy="403884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295280"/>
                <a:gridCol w="1486080"/>
                <a:gridCol w="14857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I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PT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7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3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9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ID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5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8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RESID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2057400" y="2895480"/>
            <a:ext cx="708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363680"/>
            <a:ext cx="8381880" cy="5494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MISION PRIMARIA (NETA)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EUDA EXTERNA BRUTA POR SECTOR RESID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600200"/>
          <a:ext cx="9144000" cy="4770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I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PT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6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9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6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55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tor Publico no Fciero y BC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7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0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tor Priv no Fci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5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tor Financi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3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9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2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3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447920" y="25146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GRAVITACION POTENCIAL DE LA DEUDA PUBLICA EN EL SISTEMA FINANCIERO Y EL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aises seleccionados. En %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752480" y="533520"/>
          <a:ext cx="5639040" cy="37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56390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vestment Bankers &amp; Consulting Partners 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9528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9144000" cy="5621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MISIONES PRIMARIAS NETAS 1996-2000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PRECIOS DE MERCADO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PRECIOS DE MERCADO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8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VALORES NOMINAL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VALORES NOMINAL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21:15:48Z</dcterms:created>
  <dc:creator>I.B.C.P.</dc:creator>
  <dc:description/>
  <dc:language>en-US</dc:language>
  <cp:lastModifiedBy>Gerencia de sistemas</cp:lastModifiedBy>
  <dcterms:modified xsi:type="dcterms:W3CDTF">2001-08-22T14:10:42Z</dcterms:modified>
  <cp:revision>42</cp:revision>
  <dc:subject/>
  <dc:title>Presentación de PowerPoint</dc:title>
</cp:coreProperties>
</file>