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2825" cy="6858000"/>
  <p:notesSz cx="6732588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320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96600" y="738000"/>
            <a:ext cx="533700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BF63-6121-4A04-A542-1B102C5719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121-10F3-4EF4-8587-31CB88E5DD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04E-73CB-49B9-A7A4-0EC08E12E7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018-A41B-4DAB-A6F2-514A675A75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98400" y="738360"/>
            <a:ext cx="5337360" cy="3695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ategie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Nachfrageprodukte für absterbende Ertragsre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rnkompetenzabke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uktur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alsche Einschätzung der Wettbewerb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Technologiebeherrs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gebni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msatzrückgang durch absterbendes „Star“-Produktfremdfinanzierter Lageraufb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iquidität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silberung von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solve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weigerung von Anschlusskrediten durch Hausban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CF4-B2D6-4F6D-BC4D-C248CAC8C9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46280" y="781200"/>
            <a:ext cx="5167080" cy="357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69560" y="4683240"/>
            <a:ext cx="45226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0F0-F804-434E-8CF2-30F2D071D4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1160" y="787320"/>
            <a:ext cx="4911840" cy="3402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2040" y="4702320"/>
            <a:ext cx="4867200" cy="437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Unternehmenssanierung, dh. die Bewältigung von existenzbedrohenden Unternehmenskrisen ist eine der schwierigsten und anspruchsvollsten Managementaufga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Komplexität der Aufgabe wird verursacht durch die Forderung nach einer ganzheitlich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se umfasst operative Maßnahmen zur Liquiditäts- und Ergebnisverbesser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ategische Neuausrichtung (von der Portfoliobereinigung bis zur Neugestaltung der Produkt-/Marktbeziehungen einzelner Geschäftsfel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ukturelle Veränderung (von der grundlegenden Umstrukturierung des Wertschöpfungsprozesses bis hin zur neuen Aufbaustrukt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inen umfassenden Wandel der Unternehmenskult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Unternehmenssanierungen, die lediglich Teile des Systems Unternehmens angehen, werden mittelfristig schei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409320"/>
            <a:ext cx="9902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" name=""/>
          <p:cNvSpPr/>
          <p:nvPr/>
        </p:nvSpPr>
        <p:spPr>
          <a:xfrm>
            <a:off x="5010120" y="6496920"/>
            <a:ext cx="36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120-1A77-491D-BB1A-C916E6F9BF15}" type="slidenum">
              <a:rPr b="0" lang="es-AR" sz="1200" spc="-1" strike="noStrike">
                <a:solidFill>
                  <a:srgbClr val="000000"/>
                </a:solidFill>
                <a:latin typeface="Univers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1° Jornada sobre Reestructuración Financier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7" name=""/>
          <p:cNvSpPr/>
          <p:nvPr/>
        </p:nvSpPr>
        <p:spPr>
          <a:xfrm>
            <a:off x="1890720" y="5105520"/>
            <a:ext cx="7020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384560"/>
            <a:ext cx="5193000" cy="105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rategias para recuperar una razonable ganancia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7320" y="4466160"/>
            <a:ext cx="345456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tilio Figueiras: afigueiras@kpmg.com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uenos Aires, 22 de agosto d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2885040"/>
            <a:ext cx="514224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ejo Profesional de Ciencias Económicas de la  Ciudad Autónoma de Buenos Aires - Instituto Argentino de Ejecutivos de Finan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0" y="447480"/>
            <a:ext cx="990612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3" name=""/>
          <p:cNvSpPr/>
          <p:nvPr/>
        </p:nvSpPr>
        <p:spPr>
          <a:xfrm>
            <a:off x="1633680" y="5308560"/>
            <a:ext cx="6788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1596960"/>
            <a:ext cx="77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Univers 55"/>
              </a:rPr>
              <a:t>1) </a:t>
            </a: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 y sus consecu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2) Cómo se identifican los distintos tipos de crisis y sus f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3) Cómo actuar ante las crisis para sanear las empres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4) Cómo enfocar los procesos de reestructur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5) Cómo lograr el reposicionamiento  de la empresa en el merc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0" y="523800"/>
            <a:ext cx="9906120" cy="60984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y sus consecuencias</a:t>
            </a:r>
            <a:endParaRPr b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800600"/>
            <a:ext cx="865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entorno de mercado cambia a un ritmo cada vez más intenso, el nivel de competitividad es cada vez mayor, esto requiere que las empresas se adapten constante, rapida, y consecuent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7720" y="4597560"/>
            <a:ext cx="528480" cy="444240"/>
          </a:xfrm>
          <a:prstGeom prst="rightArrow">
            <a:avLst>
              <a:gd name="adj1" fmla="val 50000"/>
              <a:gd name="adj2" fmla="val 2974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1884240"/>
            <a:ext cx="4105080" cy="259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Nuevas tecnologías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Comunicaciones, automatización, logística, informació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Globalización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apertura de mercados para bienes, capitales y personas (p.ej. Mercosur, NAFTA, Unión Europ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Altas tasa de interés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41800" y="1884240"/>
            <a:ext cx="4327560" cy="26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ompetidores y factores clave de éxito nuevos, estrategia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tradicionales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obsolet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iclos de vid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de los productos cada vez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más cor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in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Procesos y estructuras 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operativas y administra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ineficient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y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no competi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estru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Rendimien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inferior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al costo del capital,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liquidez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escas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2000" spc="-1" strike="noStrike">
                <a:solidFill>
                  <a:srgbClr val="cc3300"/>
                </a:solidFill>
                <a:latin typeface="Univers 55"/>
              </a:rPr>
              <a:t>¡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Univers 55"/>
              </a:rPr>
              <a:t>actu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250720" y="-485640"/>
            <a:ext cx="428760" cy="4092480"/>
          </a:xfrm>
          <a:custGeom>
            <a:avLst/>
            <a:gdLst>
              <a:gd name="textAreaLeft" fmla="*/ 0 w 428760"/>
              <a:gd name="textAreaRight" fmla="*/ 429120 w 428760"/>
              <a:gd name="textAreaTop" fmla="*/ 0 h 4092480"/>
              <a:gd name="textAreaBottom" fmla="*/ 4092840 h 409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990840" y="-603360"/>
            <a:ext cx="428760" cy="4327560"/>
          </a:xfrm>
          <a:custGeom>
            <a:avLst/>
            <a:gdLst>
              <a:gd name="textAreaLeft" fmla="*/ 0 w 428760"/>
              <a:gd name="textAreaRight" fmla="*/ 429120 w 4287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720" y="5321160"/>
            <a:ext cx="528480" cy="444600"/>
          </a:xfrm>
          <a:prstGeom prst="rightArrow">
            <a:avLst>
              <a:gd name="adj1" fmla="val 50000"/>
              <a:gd name="adj2" fmla="val 2971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1520" y="2082960"/>
            <a:ext cx="557280" cy="2196720"/>
            <a:chOff x="4511520" y="2082960"/>
            <a:chExt cx="557280" cy="2196720"/>
          </a:xfrm>
        </p:grpSpPr>
        <p:sp>
          <p:nvSpPr>
            <p:cNvPr id="66" name=""/>
            <p:cNvSpPr/>
            <p:nvPr/>
          </p:nvSpPr>
          <p:spPr>
            <a:xfrm>
              <a:off x="4511520" y="208296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1520" y="2847240"/>
              <a:ext cx="557280" cy="66780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800"/>
                <a:gd name="textAreaBottom" fmla="*/ 50112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11520" y="361224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50960" y="5638680"/>
            <a:ext cx="7323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1080" y="5397480"/>
            <a:ext cx="80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Decisiones equivocadas, el retraso o la falta de adaptación („continuar como siempre“) llevan a rendimientos inferiores a los de la competencia y en muchos casos a una aguda crisis económica y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ómo se identifican los distintos tipos de crisis y sus fases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3289320"/>
            <a:ext cx="233640" cy="25560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560" y="1579680"/>
            <a:ext cx="1015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Desempeño </a:t>
            </a:r>
            <a:r>
              <a:rPr b="0" lang="de-DE" sz="1200" spc="-1" strike="noStrike">
                <a:solidFill>
                  <a:srgbClr val="000000"/>
                </a:solidFill>
                <a:latin typeface="Univers 45 Light"/>
              </a:rPr>
              <a:t>(resultados, cash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4376880"/>
            <a:ext cx="106668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Fases / tipos de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1280" y="4978440"/>
            <a:ext cx="1960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45 Light"/>
              </a:rPr>
              <a:t>Progreso de la cr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8320" y="1752480"/>
            <a:ext cx="0" cy="3208320"/>
          </a:xfrm>
          <a:prstGeom prst="line">
            <a:avLst/>
          </a:prstGeom>
          <a:ln w="63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429000"/>
            <a:ext cx="7105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524560"/>
            <a:ext cx="693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Las diferentes fases de crisis tienen síntomas diferentes, el factor crítico es el TIEMPO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5840" y="549900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3600" y="3556080"/>
            <a:ext cx="34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Univers 55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1920" y="2768760"/>
            <a:ext cx="50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676920" y="2470320"/>
            <a:ext cx="2210040" cy="2441520"/>
            <a:chOff x="6676920" y="2470320"/>
            <a:chExt cx="2210040" cy="2441520"/>
          </a:xfrm>
        </p:grpSpPr>
        <p:sp>
          <p:nvSpPr>
            <p:cNvPr id="83" name=""/>
            <p:cNvSpPr/>
            <p:nvPr/>
          </p:nvSpPr>
          <p:spPr>
            <a:xfrm>
              <a:off x="7020000" y="3583080"/>
              <a:ext cx="884160" cy="404640"/>
            </a:xfrm>
            <a:custGeom>
              <a:avLst/>
              <a:gdLst/>
              <a:ahLst/>
              <a:rect l="l" t="t" r="r" b="b"/>
              <a:pathLst>
                <a:path w="756" h="396">
                  <a:moveTo>
                    <a:pt x="0" y="0"/>
                  </a:moveTo>
                  <a:lnTo>
                    <a:pt x="756" y="396"/>
                  </a:lnTo>
                </a:path>
              </a:pathLst>
            </a:custGeom>
            <a:noFill/>
            <a:ln cap="rnd" w="76320">
              <a:solidFill>
                <a:srgbClr val="ff1b1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5000" y="4003560"/>
              <a:ext cx="1150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liquidez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ndeud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76920" y="4384800"/>
              <a:ext cx="1824120" cy="52704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65880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Univers 55"/>
                </a:rPr>
                <a:t>Quie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497720" y="3106800"/>
              <a:ext cx="612720" cy="65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40480" y="2470320"/>
              <a:ext cx="144648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Negación de ampliar créditos bancari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56160" y="2451240"/>
            <a:ext cx="1825560" cy="2460600"/>
            <a:chOff x="5456160" y="2451240"/>
            <a:chExt cx="1825560" cy="2460600"/>
          </a:xfrm>
        </p:grpSpPr>
        <p:sp>
          <p:nvSpPr>
            <p:cNvPr id="89" name=""/>
            <p:cNvSpPr/>
            <p:nvPr/>
          </p:nvSpPr>
          <p:spPr>
            <a:xfrm>
              <a:off x="545616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quid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88040" y="3592440"/>
              <a:ext cx="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4000" y="3586320"/>
              <a:ext cx="11937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Liquidez escasa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cesación (parcial) de los pagos de interses y/o princip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83360" y="3041640"/>
              <a:ext cx="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2451240"/>
              <a:ext cx="1200240" cy="65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Venta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1360" y="3260880"/>
              <a:ext cx="1319400" cy="622080"/>
            </a:xfrm>
            <a:custGeom>
              <a:avLst/>
              <a:gdLst/>
              <a:ahLst/>
              <a:rect l="l" t="t" r="r" b="b"/>
              <a:pathLst>
                <a:path w="831" h="392">
                  <a:moveTo>
                    <a:pt x="0" y="392"/>
                  </a:moveTo>
                  <a:lnTo>
                    <a:pt x="368" y="0"/>
                  </a:lnTo>
                  <a:lnTo>
                    <a:pt x="831" y="215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54400" y="1676520"/>
            <a:ext cx="2301840" cy="3238560"/>
            <a:chOff x="4154400" y="1676520"/>
            <a:chExt cx="2301840" cy="3238560"/>
          </a:xfrm>
        </p:grpSpPr>
        <p:sp>
          <p:nvSpPr>
            <p:cNvPr id="96" name=""/>
            <p:cNvSpPr/>
            <p:nvPr/>
          </p:nvSpPr>
          <p:spPr>
            <a:xfrm>
              <a:off x="4154400" y="4379760"/>
              <a:ext cx="1824120" cy="53532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4320" y="3932280"/>
              <a:ext cx="1440" cy="43956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1" y="2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68680" y="3051000"/>
              <a:ext cx="1295640" cy="844560"/>
            </a:xfrm>
            <a:custGeom>
              <a:avLst/>
              <a:gdLst/>
              <a:ahLst/>
              <a:rect l="l" t="t" r="r" b="b"/>
              <a:pathLst>
                <a:path w="816" h="532">
                  <a:moveTo>
                    <a:pt x="0" y="0"/>
                  </a:moveTo>
                  <a:lnTo>
                    <a:pt x="816" y="532"/>
                  </a:lnTo>
                </a:path>
              </a:pathLst>
            </a:custGeom>
            <a:solidFill>
              <a:srgbClr val="b2b2b2"/>
            </a:solidFill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65800" y="3840120"/>
              <a:ext cx="1346040" cy="6706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mpeora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grave de resultados (hasta negativo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49480" y="2185920"/>
              <a:ext cx="35388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7920" y="1676520"/>
              <a:ext cx="2038320" cy="65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Caída de cifra de ventas, aumento de capacidades productivas no uti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690640" y="1295280"/>
            <a:ext cx="1976400" cy="3616560"/>
            <a:chOff x="2690640" y="1295280"/>
            <a:chExt cx="1976400" cy="3616560"/>
          </a:xfrm>
        </p:grpSpPr>
        <p:sp>
          <p:nvSpPr>
            <p:cNvPr id="103" name=""/>
            <p:cNvSpPr/>
            <p:nvPr/>
          </p:nvSpPr>
          <p:spPr>
            <a:xfrm>
              <a:off x="4452840" y="3071880"/>
              <a:ext cx="0" cy="12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08240" y="2824200"/>
              <a:ext cx="1346040" cy="217440"/>
            </a:xfrm>
            <a:custGeom>
              <a:avLst/>
              <a:gdLst/>
              <a:ahLst/>
              <a:rect l="l" t="t" r="r" b="b"/>
              <a:pathLst>
                <a:path w="1006" h="166">
                  <a:moveTo>
                    <a:pt x="0" y="2"/>
                  </a:moveTo>
                  <a:lnTo>
                    <a:pt x="769" y="0"/>
                  </a:lnTo>
                  <a:lnTo>
                    <a:pt x="1006" y="166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7920" y="3446640"/>
              <a:ext cx="1008000" cy="35208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stanca-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, pérdida de cuota de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148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6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uc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1295280"/>
              <a:ext cx="158904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Percepción equivocada de la posición competitiv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06640" y="1981080"/>
              <a:ext cx="38160" cy="82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9120" y="1892160"/>
            <a:ext cx="2117520" cy="3019680"/>
            <a:chOff x="1689120" y="1892160"/>
            <a:chExt cx="2117520" cy="3019680"/>
          </a:xfrm>
        </p:grpSpPr>
        <p:sp>
          <p:nvSpPr>
            <p:cNvPr id="110" name=""/>
            <p:cNvSpPr/>
            <p:nvPr/>
          </p:nvSpPr>
          <p:spPr>
            <a:xfrm>
              <a:off x="3105720" y="2825640"/>
              <a:ext cx="0" cy="15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360" y="2666880"/>
              <a:ext cx="558000" cy="56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4360" y="2820960"/>
              <a:ext cx="786600" cy="220680"/>
            </a:xfrm>
            <a:custGeom>
              <a:avLst/>
              <a:gdLst/>
              <a:ahLst/>
              <a:rect l="l" t="t" r="r" b="b"/>
              <a:pathLst>
                <a:path w="907" h="384">
                  <a:moveTo>
                    <a:pt x="0" y="384"/>
                  </a:moveTo>
                  <a:cubicBezTo>
                    <a:pt x="67" y="344"/>
                    <a:pt x="125" y="273"/>
                    <a:pt x="401" y="147"/>
                  </a:cubicBezTo>
                  <a:cubicBezTo>
                    <a:pt x="589" y="59"/>
                    <a:pt x="823" y="27"/>
                    <a:pt x="907" y="3"/>
                  </a:cubicBezTo>
                  <a:lnTo>
                    <a:pt x="907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1040" y="3554280"/>
              <a:ext cx="11437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volución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nferior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al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6520" y="4384800"/>
              <a:ext cx="1538640" cy="527040"/>
            </a:xfrm>
            <a:custGeom>
              <a:avLst/>
              <a:gdLst>
                <a:gd name="textAreaLeft" fmla="*/ 0 w 1538640"/>
                <a:gd name="textAreaRight" fmla="*/ 1539000 w 15386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26" y="0"/>
                  </a:lnTo>
                  <a:lnTo>
                    <a:pt x="21600" y="10800"/>
                  </a:lnTo>
                  <a:lnTo>
                    <a:pt x="186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4360" y="2335320"/>
              <a:ext cx="194760" cy="64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758600" y="2185560"/>
              <a:ext cx="2048040" cy="1141560"/>
            </a:xfrm>
            <a:prstGeom prst="line">
              <a:avLst/>
            </a:prstGeom>
            <a:ln w="76320">
              <a:solidFill>
                <a:srgbClr val="05b36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89120" y="1892160"/>
              <a:ext cx="1371960" cy="64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Falta de innov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46360" y="4932360"/>
            <a:ext cx="6937200" cy="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actuar ante las crisis para sanear las empresas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21" name=""/>
          <p:cNvSpPr/>
          <p:nvPr/>
        </p:nvSpPr>
        <p:spPr>
          <a:xfrm>
            <a:off x="1231920" y="984240"/>
            <a:ext cx="190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Cre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4560" y="4692600"/>
            <a:ext cx="10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6840" y="1521000"/>
            <a:ext cx="5668920" cy="3105000"/>
          </a:xfrm>
          <a:custGeom>
            <a:avLst/>
            <a:gdLst/>
            <a:ahLst/>
            <a:rect l="l" t="t" r="r" b="b"/>
            <a:pathLst>
              <a:path w="3648" h="1968">
                <a:moveTo>
                  <a:pt x="0" y="0"/>
                </a:moveTo>
                <a:lnTo>
                  <a:pt x="0" y="1968"/>
                </a:lnTo>
                <a:lnTo>
                  <a:pt x="3648" y="1968"/>
                </a:lnTo>
              </a:path>
            </a:pathLst>
          </a:custGeom>
          <a:noFill/>
          <a:ln w="633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7600" y="5283360"/>
            <a:ext cx="7621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El saneamiento de empresas comienza con la estabilización a través de acciones inmediatas para posibilitar la continuación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51609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65480" y="2540160"/>
            <a:ext cx="1589040" cy="2556000"/>
            <a:chOff x="2265480" y="2540160"/>
            <a:chExt cx="1589040" cy="2556000"/>
          </a:xfrm>
        </p:grpSpPr>
        <p:sp>
          <p:nvSpPr>
            <p:cNvPr id="127" name=""/>
            <p:cNvSpPr/>
            <p:nvPr/>
          </p:nvSpPr>
          <p:spPr>
            <a:xfrm>
              <a:off x="2293920" y="3833640"/>
              <a:ext cx="15350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deu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efec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6600" y="2540160"/>
              <a:ext cx="131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Generación de efe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5480" y="3095640"/>
              <a:ext cx="1589040" cy="64116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2120" y="4638600"/>
              <a:ext cx="1041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acción inmedi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013280" y="2043000"/>
            <a:ext cx="1733400" cy="3407040"/>
            <a:chOff x="4013280" y="2043000"/>
            <a:chExt cx="1733400" cy="3407040"/>
          </a:xfrm>
        </p:grpSpPr>
        <p:sp>
          <p:nvSpPr>
            <p:cNvPr id="132" name=""/>
            <p:cNvSpPr/>
            <p:nvPr/>
          </p:nvSpPr>
          <p:spPr>
            <a:xfrm>
              <a:off x="4027320" y="3257640"/>
              <a:ext cx="1719360" cy="127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Cambio de estructuras estratégicas, operati-vas, financieras, organizativ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Optimización de pro-cesos/ Reducción de cos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13280" y="2043000"/>
              <a:ext cx="1725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Reestructu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1040" y="2462040"/>
              <a:ext cx="1592280" cy="6796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6080" y="4627440"/>
              <a:ext cx="1068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medio (semanas, mes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18040" y="1440000"/>
            <a:ext cx="1714680" cy="3672000"/>
            <a:chOff x="5918040" y="1440000"/>
            <a:chExt cx="1714680" cy="3672000"/>
          </a:xfrm>
        </p:grpSpPr>
        <p:sp>
          <p:nvSpPr>
            <p:cNvPr id="137" name=""/>
            <p:cNvSpPr/>
            <p:nvPr/>
          </p:nvSpPr>
          <p:spPr>
            <a:xfrm>
              <a:off x="5918040" y="2637000"/>
              <a:ext cx="1714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Adquisi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2920" y="1440000"/>
              <a:ext cx="1541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2160" y="1811160"/>
              <a:ext cx="1589040" cy="6778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2120" y="4654440"/>
              <a:ext cx="105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largo (añ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473120" y="5778360"/>
            <a:ext cx="792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Continúa con la transición a una fase de reestructuración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77044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8280" y="1028880"/>
            <a:ext cx="9201240" cy="52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4360" y="1938240"/>
            <a:ext cx="8658000" cy="2562480"/>
            <a:chOff x="684360" y="1938240"/>
            <a:chExt cx="8658000" cy="2562480"/>
          </a:xfrm>
        </p:grpSpPr>
        <p:sp>
          <p:nvSpPr>
            <p:cNvPr id="145" name=""/>
            <p:cNvSpPr/>
            <p:nvPr/>
          </p:nvSpPr>
          <p:spPr>
            <a:xfrm>
              <a:off x="684360" y="1938240"/>
              <a:ext cx="8658000" cy="2562480"/>
            </a:xfrm>
            <a:prstGeom prst="rightArrow">
              <a:avLst>
                <a:gd name="adj1" fmla="val 75009"/>
                <a:gd name="adj2" fmla="val 425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6520" y="2451240"/>
              <a:ext cx="167724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marL="189000" indent="-189000">
                <a:lnSpc>
                  <a:spcPct val="90000"/>
                </a:lnSpc>
                <a:spcAft>
                  <a:spcPts val="75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Control del proceso de imple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Información a interes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6680" y="2362320"/>
              <a:ext cx="194832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noAutofit/>
            </a:bodyPr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Análisis detallad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mercado y competi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desarrollo financiero histór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Identificación de causas de cr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Elaboración de un plan de reestructu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omo enfocar los procesos de reestructuración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49" name=""/>
          <p:cNvSpPr/>
          <p:nvPr/>
        </p:nvSpPr>
        <p:spPr>
          <a:xfrm>
            <a:off x="419040" y="524520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4160" y="5346720"/>
            <a:ext cx="7947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Con un enfoque integral que se extiende a todos los ámbitos empresariales se analizan las causas de una crisis y se definen las medidas para superar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579132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9320" y="5765760"/>
            <a:ext cx="84582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proceso de implementación del plan de acción es acompañado y 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68720" y="1582560"/>
            <a:ext cx="3542040" cy="3306960"/>
            <a:chOff x="3168720" y="1582560"/>
            <a:chExt cx="3542040" cy="3306960"/>
          </a:xfrm>
        </p:grpSpPr>
        <p:sp>
          <p:nvSpPr>
            <p:cNvPr id="154" name=""/>
            <p:cNvSpPr/>
            <p:nvPr/>
          </p:nvSpPr>
          <p:spPr>
            <a:xfrm>
              <a:off x="3168720" y="1582560"/>
              <a:ext cx="3532320" cy="3306960"/>
            </a:xfrm>
            <a:prstGeom prst="ellipse">
              <a:avLst/>
            </a:prstGeom>
            <a:solidFill>
              <a:srgbClr val="ef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83120" y="1589400"/>
              <a:ext cx="3527640" cy="3272760"/>
              <a:chOff x="3183120" y="1589400"/>
              <a:chExt cx="3527640" cy="3272760"/>
            </a:xfrm>
          </p:grpSpPr>
          <p:sp>
            <p:nvSpPr>
              <p:cNvPr id="156" name=""/>
              <p:cNvSpPr/>
              <p:nvPr/>
            </p:nvSpPr>
            <p:spPr>
              <a:xfrm rot="60000">
                <a:off x="4844880" y="1590480"/>
                <a:ext cx="168120" cy="1073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060000">
                <a:off x="5660640" y="1842840"/>
                <a:ext cx="156960" cy="1173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160000">
                <a:off x="6055200" y="2575800"/>
                <a:ext cx="157320" cy="114588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7080000">
                <a:off x="5929920" y="313272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8760000">
                <a:off x="5514480" y="3628800"/>
                <a:ext cx="168120" cy="10508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2960000">
                <a:off x="4209840" y="3635280"/>
                <a:ext cx="171360" cy="1046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740000">
                <a:off x="4868640" y="3811320"/>
                <a:ext cx="174600" cy="104940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4520000">
                <a:off x="3844440" y="3215160"/>
                <a:ext cx="15696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9020000">
                <a:off x="4026600" y="1925640"/>
                <a:ext cx="168120" cy="107352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3677400" y="266436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187000" y="3337200"/>
            <a:ext cx="2936520" cy="1976760"/>
            <a:chOff x="2187000" y="3337200"/>
            <a:chExt cx="2936520" cy="1976760"/>
          </a:xfrm>
        </p:grpSpPr>
        <p:sp>
          <p:nvSpPr>
            <p:cNvPr id="167" name=""/>
            <p:cNvSpPr/>
            <p:nvPr/>
          </p:nvSpPr>
          <p:spPr>
            <a:xfrm>
              <a:off x="4122000" y="4284720"/>
              <a:ext cx="850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Estructur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7080" y="3960720"/>
              <a:ext cx="710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c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4640" y="3379680"/>
              <a:ext cx="707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Sistem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7000" y="4402080"/>
              <a:ext cx="129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rganizat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562400">
              <a:off x="3024360" y="3184920"/>
              <a:ext cx="1746360" cy="22809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243320" y="2592360"/>
            <a:ext cx="1382760" cy="130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Enfoqu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27760" y="1020600"/>
            <a:ext cx="2428200" cy="2529720"/>
            <a:chOff x="2327760" y="1020600"/>
            <a:chExt cx="2428200" cy="2529720"/>
          </a:xfrm>
        </p:grpSpPr>
        <p:sp>
          <p:nvSpPr>
            <p:cNvPr id="174" name=""/>
            <p:cNvSpPr/>
            <p:nvPr/>
          </p:nvSpPr>
          <p:spPr>
            <a:xfrm>
              <a:off x="4063680" y="1952640"/>
              <a:ext cx="692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Finanz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22080" y="2679840"/>
              <a:ext cx="843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7760" y="1270080"/>
              <a:ext cx="11556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perativo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financi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600">
              <a:off x="2842920" y="1143000"/>
              <a:ext cx="1744920" cy="22845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72800" y="1104480"/>
            <a:ext cx="2582640" cy="1964520"/>
            <a:chOff x="4672800" y="1104480"/>
            <a:chExt cx="2582640" cy="1964520"/>
          </a:xfrm>
        </p:grpSpPr>
        <p:sp>
          <p:nvSpPr>
            <p:cNvPr id="179" name=""/>
            <p:cNvSpPr/>
            <p:nvPr/>
          </p:nvSpPr>
          <p:spPr>
            <a:xfrm>
              <a:off x="5174640" y="1881360"/>
              <a:ext cx="631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Gest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27520" y="2508120"/>
              <a:ext cx="1030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omunicación interna y exte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52920" y="1320840"/>
              <a:ext cx="878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443400">
              <a:off x="4770000" y="1251000"/>
              <a:ext cx="2387520" cy="1671480"/>
            </a:xfrm>
            <a:custGeom>
              <a:avLst/>
              <a:gdLst/>
              <a:ahLst/>
              <a:rect l="l" t="t" r="r" b="b"/>
              <a:pathLst>
                <a:path w="1700" h="1300">
                  <a:moveTo>
                    <a:pt x="1699" y="1223"/>
                  </a:moveTo>
                  <a:lnTo>
                    <a:pt x="1454" y="1299"/>
                  </a:lnTo>
                  <a:lnTo>
                    <a:pt x="1448" y="1278"/>
                  </a:lnTo>
                  <a:lnTo>
                    <a:pt x="1442" y="1258"/>
                  </a:lnTo>
                  <a:lnTo>
                    <a:pt x="1434" y="1232"/>
                  </a:lnTo>
                  <a:lnTo>
                    <a:pt x="1428" y="1207"/>
                  </a:lnTo>
                  <a:lnTo>
                    <a:pt x="1419" y="1184"/>
                  </a:lnTo>
                  <a:lnTo>
                    <a:pt x="1412" y="1165"/>
                  </a:lnTo>
                  <a:lnTo>
                    <a:pt x="1402" y="1140"/>
                  </a:lnTo>
                  <a:lnTo>
                    <a:pt x="1395" y="1119"/>
                  </a:lnTo>
                  <a:lnTo>
                    <a:pt x="1384" y="1094"/>
                  </a:lnTo>
                  <a:lnTo>
                    <a:pt x="1376" y="1072"/>
                  </a:lnTo>
                  <a:lnTo>
                    <a:pt x="1363" y="1050"/>
                  </a:lnTo>
                  <a:lnTo>
                    <a:pt x="1352" y="1029"/>
                  </a:lnTo>
                  <a:lnTo>
                    <a:pt x="1343" y="1012"/>
                  </a:lnTo>
                  <a:lnTo>
                    <a:pt x="1333" y="994"/>
                  </a:lnTo>
                  <a:lnTo>
                    <a:pt x="1322" y="975"/>
                  </a:lnTo>
                  <a:lnTo>
                    <a:pt x="1310" y="955"/>
                  </a:lnTo>
                  <a:lnTo>
                    <a:pt x="1297" y="934"/>
                  </a:lnTo>
                  <a:lnTo>
                    <a:pt x="1284" y="915"/>
                  </a:lnTo>
                  <a:lnTo>
                    <a:pt x="1277" y="900"/>
                  </a:lnTo>
                  <a:lnTo>
                    <a:pt x="1265" y="882"/>
                  </a:lnTo>
                  <a:lnTo>
                    <a:pt x="1250" y="861"/>
                  </a:lnTo>
                  <a:lnTo>
                    <a:pt x="1233" y="840"/>
                  </a:lnTo>
                  <a:lnTo>
                    <a:pt x="1213" y="813"/>
                  </a:lnTo>
                  <a:lnTo>
                    <a:pt x="1194" y="788"/>
                  </a:lnTo>
                  <a:lnTo>
                    <a:pt x="1172" y="762"/>
                  </a:lnTo>
                  <a:lnTo>
                    <a:pt x="1150" y="738"/>
                  </a:lnTo>
                  <a:lnTo>
                    <a:pt x="1125" y="713"/>
                  </a:lnTo>
                  <a:lnTo>
                    <a:pt x="1104" y="693"/>
                  </a:lnTo>
                  <a:lnTo>
                    <a:pt x="1082" y="673"/>
                  </a:lnTo>
                  <a:lnTo>
                    <a:pt x="1059" y="650"/>
                  </a:lnTo>
                  <a:lnTo>
                    <a:pt x="1030" y="627"/>
                  </a:lnTo>
                  <a:lnTo>
                    <a:pt x="1001" y="603"/>
                  </a:lnTo>
                  <a:lnTo>
                    <a:pt x="975" y="583"/>
                  </a:lnTo>
                  <a:lnTo>
                    <a:pt x="944" y="561"/>
                  </a:lnTo>
                  <a:lnTo>
                    <a:pt x="911" y="538"/>
                  </a:lnTo>
                  <a:lnTo>
                    <a:pt x="881" y="521"/>
                  </a:lnTo>
                  <a:lnTo>
                    <a:pt x="851" y="503"/>
                  </a:lnTo>
                  <a:lnTo>
                    <a:pt x="823" y="487"/>
                  </a:lnTo>
                  <a:lnTo>
                    <a:pt x="796" y="473"/>
                  </a:lnTo>
                  <a:lnTo>
                    <a:pt x="765" y="457"/>
                  </a:lnTo>
                  <a:lnTo>
                    <a:pt x="735" y="443"/>
                  </a:lnTo>
                  <a:lnTo>
                    <a:pt x="706" y="431"/>
                  </a:lnTo>
                  <a:lnTo>
                    <a:pt x="672" y="418"/>
                  </a:lnTo>
                  <a:lnTo>
                    <a:pt x="643" y="407"/>
                  </a:lnTo>
                  <a:lnTo>
                    <a:pt x="609" y="395"/>
                  </a:lnTo>
                  <a:lnTo>
                    <a:pt x="574" y="384"/>
                  </a:lnTo>
                  <a:lnTo>
                    <a:pt x="539" y="373"/>
                  </a:lnTo>
                  <a:lnTo>
                    <a:pt x="503" y="365"/>
                  </a:lnTo>
                  <a:lnTo>
                    <a:pt x="465" y="356"/>
                  </a:lnTo>
                  <a:lnTo>
                    <a:pt x="431" y="351"/>
                  </a:lnTo>
                  <a:lnTo>
                    <a:pt x="398" y="344"/>
                  </a:lnTo>
                  <a:lnTo>
                    <a:pt x="355" y="340"/>
                  </a:lnTo>
                  <a:lnTo>
                    <a:pt x="321" y="338"/>
                  </a:lnTo>
                  <a:lnTo>
                    <a:pt x="280" y="335"/>
                  </a:lnTo>
                  <a:lnTo>
                    <a:pt x="274" y="423"/>
                  </a:lnTo>
                  <a:lnTo>
                    <a:pt x="0" y="200"/>
                  </a:lnTo>
                  <a:lnTo>
                    <a:pt x="304" y="0"/>
                  </a:lnTo>
                  <a:lnTo>
                    <a:pt x="298" y="84"/>
                  </a:lnTo>
                  <a:lnTo>
                    <a:pt x="344" y="87"/>
                  </a:lnTo>
                  <a:lnTo>
                    <a:pt x="385" y="91"/>
                  </a:lnTo>
                  <a:lnTo>
                    <a:pt x="428" y="97"/>
                  </a:lnTo>
                  <a:lnTo>
                    <a:pt x="466" y="103"/>
                  </a:lnTo>
                  <a:lnTo>
                    <a:pt x="502" y="108"/>
                  </a:lnTo>
                  <a:lnTo>
                    <a:pt x="537" y="115"/>
                  </a:lnTo>
                  <a:lnTo>
                    <a:pt x="575" y="125"/>
                  </a:lnTo>
                  <a:lnTo>
                    <a:pt x="608" y="133"/>
                  </a:lnTo>
                  <a:lnTo>
                    <a:pt x="641" y="141"/>
                  </a:lnTo>
                  <a:lnTo>
                    <a:pt x="675" y="152"/>
                  </a:lnTo>
                  <a:lnTo>
                    <a:pt x="719" y="165"/>
                  </a:lnTo>
                  <a:lnTo>
                    <a:pt x="752" y="177"/>
                  </a:lnTo>
                  <a:lnTo>
                    <a:pt x="785" y="189"/>
                  </a:lnTo>
                  <a:lnTo>
                    <a:pt x="817" y="203"/>
                  </a:lnTo>
                  <a:lnTo>
                    <a:pt x="854" y="220"/>
                  </a:lnTo>
                  <a:lnTo>
                    <a:pt x="888" y="236"/>
                  </a:lnTo>
                  <a:lnTo>
                    <a:pt x="920" y="251"/>
                  </a:lnTo>
                  <a:lnTo>
                    <a:pt x="950" y="268"/>
                  </a:lnTo>
                  <a:lnTo>
                    <a:pt x="986" y="289"/>
                  </a:lnTo>
                  <a:lnTo>
                    <a:pt x="1018" y="308"/>
                  </a:lnTo>
                  <a:lnTo>
                    <a:pt x="1050" y="326"/>
                  </a:lnTo>
                  <a:lnTo>
                    <a:pt x="1080" y="347"/>
                  </a:lnTo>
                  <a:lnTo>
                    <a:pt x="1107" y="364"/>
                  </a:lnTo>
                  <a:lnTo>
                    <a:pt x="1135" y="386"/>
                  </a:lnTo>
                  <a:lnTo>
                    <a:pt x="1161" y="406"/>
                  </a:lnTo>
                  <a:lnTo>
                    <a:pt x="1192" y="430"/>
                  </a:lnTo>
                  <a:lnTo>
                    <a:pt x="1222" y="453"/>
                  </a:lnTo>
                  <a:lnTo>
                    <a:pt x="1247" y="478"/>
                  </a:lnTo>
                  <a:lnTo>
                    <a:pt x="1273" y="504"/>
                  </a:lnTo>
                  <a:lnTo>
                    <a:pt x="1297" y="527"/>
                  </a:lnTo>
                  <a:lnTo>
                    <a:pt x="1321" y="550"/>
                  </a:lnTo>
                  <a:lnTo>
                    <a:pt x="1341" y="571"/>
                  </a:lnTo>
                  <a:lnTo>
                    <a:pt x="1366" y="599"/>
                  </a:lnTo>
                  <a:lnTo>
                    <a:pt x="1390" y="629"/>
                  </a:lnTo>
                  <a:lnTo>
                    <a:pt x="1410" y="652"/>
                  </a:lnTo>
                  <a:lnTo>
                    <a:pt x="1430" y="680"/>
                  </a:lnTo>
                  <a:lnTo>
                    <a:pt x="1450" y="707"/>
                  </a:lnTo>
                  <a:lnTo>
                    <a:pt x="1472" y="737"/>
                  </a:lnTo>
                  <a:lnTo>
                    <a:pt x="1491" y="766"/>
                  </a:lnTo>
                  <a:lnTo>
                    <a:pt x="1509" y="793"/>
                  </a:lnTo>
                  <a:lnTo>
                    <a:pt x="1530" y="824"/>
                  </a:lnTo>
                  <a:lnTo>
                    <a:pt x="1545" y="849"/>
                  </a:lnTo>
                  <a:lnTo>
                    <a:pt x="1560" y="876"/>
                  </a:lnTo>
                  <a:lnTo>
                    <a:pt x="1569" y="894"/>
                  </a:lnTo>
                  <a:lnTo>
                    <a:pt x="1580" y="911"/>
                  </a:lnTo>
                  <a:lnTo>
                    <a:pt x="1589" y="925"/>
                  </a:lnTo>
                  <a:lnTo>
                    <a:pt x="1594" y="939"/>
                  </a:lnTo>
                  <a:lnTo>
                    <a:pt x="1601" y="956"/>
                  </a:lnTo>
                  <a:lnTo>
                    <a:pt x="1609" y="975"/>
                  </a:lnTo>
                  <a:lnTo>
                    <a:pt x="1616" y="994"/>
                  </a:lnTo>
                  <a:lnTo>
                    <a:pt x="1625" y="1010"/>
                  </a:lnTo>
                  <a:lnTo>
                    <a:pt x="1631" y="1025"/>
                  </a:lnTo>
                  <a:lnTo>
                    <a:pt x="1639" y="1044"/>
                  </a:lnTo>
                  <a:lnTo>
                    <a:pt x="1647" y="1063"/>
                  </a:lnTo>
                  <a:lnTo>
                    <a:pt x="1654" y="1082"/>
                  </a:lnTo>
                  <a:lnTo>
                    <a:pt x="1662" y="1102"/>
                  </a:lnTo>
                  <a:lnTo>
                    <a:pt x="1668" y="1120"/>
                  </a:lnTo>
                  <a:lnTo>
                    <a:pt x="1674" y="1135"/>
                  </a:lnTo>
                  <a:lnTo>
                    <a:pt x="1679" y="1153"/>
                  </a:lnTo>
                  <a:lnTo>
                    <a:pt x="1686" y="1172"/>
                  </a:lnTo>
                  <a:lnTo>
                    <a:pt x="1690" y="1191"/>
                  </a:lnTo>
                  <a:lnTo>
                    <a:pt x="1693" y="1206"/>
                  </a:lnTo>
                  <a:lnTo>
                    <a:pt x="1699" y="122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971600" y="2895840"/>
            <a:ext cx="2626560" cy="2527560"/>
            <a:chOff x="4971600" y="2895840"/>
            <a:chExt cx="2626560" cy="2527560"/>
          </a:xfrm>
        </p:grpSpPr>
        <p:sp>
          <p:nvSpPr>
            <p:cNvPr id="184" name=""/>
            <p:cNvSpPr/>
            <p:nvPr/>
          </p:nvSpPr>
          <p:spPr>
            <a:xfrm rot="11260200">
              <a:off x="5127120" y="3017520"/>
              <a:ext cx="1976400" cy="228420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64680" y="3187800"/>
              <a:ext cx="871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Recurs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Product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Merc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93400" y="3884760"/>
              <a:ext cx="615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isión 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1600" y="4160880"/>
              <a:ext cx="7167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lane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miento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dire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0520" y="4502160"/>
              <a:ext cx="1187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lograr el reposicionamiento de la empresa en el mercado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90" name=""/>
          <p:cNvSpPr/>
          <p:nvPr/>
        </p:nvSpPr>
        <p:spPr>
          <a:xfrm>
            <a:off x="1270080" y="5578560"/>
            <a:ext cx="799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Se logra el reposicionamiento en el mercado mediante el desarrollo de estrategias competitivas y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4720" y="54561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78040" y="961920"/>
            <a:ext cx="5046480" cy="1233720"/>
            <a:chOff x="2678040" y="961920"/>
            <a:chExt cx="5046480" cy="1233720"/>
          </a:xfrm>
        </p:grpSpPr>
        <p:sp>
          <p:nvSpPr>
            <p:cNvPr id="193" name=""/>
            <p:cNvSpPr/>
            <p:nvPr/>
          </p:nvSpPr>
          <p:spPr>
            <a:xfrm flipV="1">
              <a:off x="3989520" y="1292400"/>
              <a:ext cx="1928160" cy="72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5120" y="1065240"/>
              <a:ext cx="1131480" cy="11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8040" y="1111320"/>
              <a:ext cx="132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Innovació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5200" y="961920"/>
              <a:ext cx="220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oncentración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entr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8280" y="2265480"/>
            <a:ext cx="2010240" cy="1686240"/>
            <a:chOff x="3968280" y="2265480"/>
            <a:chExt cx="2010240" cy="1686240"/>
          </a:xfrm>
        </p:grpSpPr>
        <p:sp>
          <p:nvSpPr>
            <p:cNvPr id="198" name=""/>
            <p:cNvSpPr/>
            <p:nvPr/>
          </p:nvSpPr>
          <p:spPr>
            <a:xfrm>
              <a:off x="4991040" y="2265480"/>
              <a:ext cx="0" cy="5652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68280" y="3668400"/>
              <a:ext cx="491040" cy="28332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8920" y="3638880"/>
              <a:ext cx="489600" cy="2826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91080" y="2141280"/>
            <a:ext cx="2601360" cy="2149560"/>
            <a:chOff x="3691080" y="2141280"/>
            <a:chExt cx="2601360" cy="2149560"/>
          </a:xfrm>
        </p:grpSpPr>
        <p:sp>
          <p:nvSpPr>
            <p:cNvPr id="202" name=""/>
            <p:cNvSpPr/>
            <p:nvPr/>
          </p:nvSpPr>
          <p:spPr>
            <a:xfrm flipV="1">
              <a:off x="3691080" y="2141280"/>
              <a:ext cx="101736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4760" y="4290840"/>
              <a:ext cx="1977840" cy="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5273640" y="2141280"/>
              <a:ext cx="101880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71760" y="2792520"/>
            <a:ext cx="1461240" cy="1199520"/>
            <a:chOff x="4271760" y="2792520"/>
            <a:chExt cx="1461240" cy="1199520"/>
          </a:xfrm>
        </p:grpSpPr>
        <p:sp>
          <p:nvSpPr>
            <p:cNvPr id="206" name=""/>
            <p:cNvSpPr/>
            <p:nvPr/>
          </p:nvSpPr>
          <p:spPr>
            <a:xfrm>
              <a:off x="4570560" y="2895480"/>
              <a:ext cx="90468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9480" y="3205080"/>
              <a:ext cx="76176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665600" y="3048120"/>
              <a:ext cx="762120" cy="60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798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Estrategia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21582000">
              <a:off x="4757400" y="3619080"/>
              <a:ext cx="45576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55257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irigi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3502800">
              <a:off x="5088960" y="2989800"/>
              <a:ext cx="654120" cy="34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lane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7917800">
              <a:off x="4244040" y="3020040"/>
              <a:ext cx="676080" cy="33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Control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03920" y="3416400"/>
            <a:ext cx="3542760" cy="2161440"/>
            <a:chOff x="5803920" y="3416400"/>
            <a:chExt cx="3542760" cy="2161440"/>
          </a:xfrm>
        </p:grpSpPr>
        <p:sp>
          <p:nvSpPr>
            <p:cNvPr id="213" name=""/>
            <p:cNvSpPr/>
            <p:nvPr/>
          </p:nvSpPr>
          <p:spPr>
            <a:xfrm flipV="1">
              <a:off x="6164640" y="3686040"/>
              <a:ext cx="112032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296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66800" y="3416400"/>
              <a:ext cx="227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accionis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har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3920" y="505764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interes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tak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23640" y="3540240"/>
            <a:ext cx="3381120" cy="1886400"/>
            <a:chOff x="1223640" y="3540240"/>
            <a:chExt cx="3381120" cy="1886400"/>
          </a:xfrm>
        </p:grpSpPr>
        <p:sp>
          <p:nvSpPr>
            <p:cNvPr id="218" name=""/>
            <p:cNvSpPr/>
            <p:nvPr/>
          </p:nvSpPr>
          <p:spPr>
            <a:xfrm flipH="1" flipV="1">
              <a:off x="2619360" y="3706560"/>
              <a:ext cx="112068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00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Mercado, Producto, 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7680" y="5119560"/>
              <a:ext cx="192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derazgo de co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3640" y="3540240"/>
              <a:ext cx="147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ferenci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tilio Figueiras</cp:lastModifiedBy>
  <cp:lastPrinted>2001-08-21T14:43:35Z</cp:lastPrinted>
  <dcterms:modified xsi:type="dcterms:W3CDTF">2001-08-21T14:44:26Z</dcterms:modified>
  <cp:revision>683</cp:revision>
  <dc:subject/>
  <dc:title>Plan de Marketing - Coporate Recovery - Resumen -</dc:title>
</cp:coreProperties>
</file>