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620FA-ADAE-4907-8FAE-FB1DB8525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38033-3F59-4C47-9770-F986B8DE9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07FBF-B9FE-4072-9507-994D4A0DE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9A528-520E-48C3-9E17-08688E5E8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C982B-64D4-466F-9A26-A957A2453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A3ED7-7047-4066-81AB-CE2329334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B7D3-3729-4992-9733-D70B2FEA0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13A51-055C-40C2-B7B5-302F85B5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66DD0-DE36-4875-8F15-9E1F886E6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CD0F-FA34-45D7-A40D-EAB485AE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023F-4FD9-4683-B1F6-C70373CE3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47CBB-DB4A-499E-90E7-81EFBB3F6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BB2A-108F-475F-A598-FA83B168B8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1" name=""/>
          <p:cNvSpPr/>
          <p:nvPr/>
        </p:nvSpPr>
        <p:spPr>
          <a:xfrm>
            <a:off x="380880" y="2514600"/>
            <a:ext cx="838224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A CRISIS ECONÓMICA Y LA REESTRUCTURACIÓN FINANCIERA EMPRESA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5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Modalidades de acuerdos extra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promoción de acuerdos extrajudiciales está orientado a minimizar el número de  concursos y quiebras. Sin embargo, la posibilidad de la aplicación efectiva de la legislación sobre concursos y quiebras es crítica para el éxito de los procedimientos informales dado que provee los incentivos necesarios para las negociacion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or ello, además de la aprobación de leyes y regulaciones que promuevan los acuerdos extrajudiciales resulta necesario actualizar y, de ser posible, mejorar la legislación sobre concursos y quiebr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 aspecto clave de los acuerdos extra-judiciales es contar con un periodo de Standstill durante el cual se producen las negociacion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algunos países la legislación permite periodos de hasta seis meses antes del comienzo del proceso concursal para facilitar las negociaciones entre deudores y acreedor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3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ara aumentar la eficiencia de la negociación extrajudicial otros países permiten la aprobación de planes “prepackaged”. En estos casos la negociación y el voto del plan tienen lugar antes del inicio del proceso concursal y se requiere la aprobación del tribunal en la fecha de la apertura del concur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Como una variante, el plan puede ser negociado antes del comienzo del proceso concursal pero el voto formal se efectúa tan pronto como se inicia el concur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planes “prepackaged” o “prenegociados” utilizan las ventajas más significativas de un acuerdo concursal, es decir la posibilidad de imponer un plan a los acreedores disidentes en el caso de no lograrse la unanimidad, y al mismo tiempo tiene los beneficios de un proceso informal.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7000"/>
          </a:bodyPr>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Otras consideraciones</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gislación debe permitir el otorgamiento de garantías y otorgar prioridad absoluta de cobro al dinero nuevo que los acreedores contribuyen para mantener la empresa solvente durante la negociación ya sea extrajudicial como en el marco de un proceso concursal.</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el caso de compañías autorizadas para la oferta pública se cuenta con lo general con información frecuente, transparente y consistente lo que facilita el logro de acuerdos en menor tiempo. Las regulaciones deben autorizar la entrega de información fuera de las reglas habituales de confidencialidad aún en el marco de conversiones de deuda en capital.</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Conviene facilitar la creación de un mercado secundario de deuda de compañías en crisis a fin de que  algunos acreedores puedan transferir sus acreencias a compañías especializadas en work-outs.</a:t>
            </a:r>
            <a:endParaRPr b="0" lang="en-US" sz="2000" spc="-1" strike="noStrike">
              <a:solidFill>
                <a:srgbClr val="000000"/>
              </a:solidFill>
              <a:latin typeface="Times New Roman"/>
            </a:endParaRPr>
          </a:p>
        </p:txBody>
      </p:sp>
      <p:sp>
        <p:nvSpPr>
          <p:cNvPr id="6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Principios a ser tenidos en cuenta para legislar y reglamentar los acuerdos extra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siguientes ocho principios han sido preparados por INSOL Lenders Group de los Estados Unidos. Este grupo incluye a bancos de inversión y firmas de abogados especializados en work out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principios reflejan tanto la experiencia de los Estados Unidos como el denominado London Approach del Reino Unido y las legislaciones francesa y alemana.</a:t>
            </a:r>
            <a:endParaRPr b="0" lang="en-US" sz="2000" spc="-1" strike="noStrike">
              <a:solidFill>
                <a:srgbClr val="000000"/>
              </a:solidFill>
              <a:latin typeface="Times New Roman"/>
            </a:endParaRPr>
          </a:p>
        </p:txBody>
      </p:sp>
      <p:sp>
        <p:nvSpPr>
          <p:cNvPr id="6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Primer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Cuando un deudor se encuentra en dificultades financieras, todos los acreedores deben estar preparados para cooperar a fin de otorgar al deudor un tiempo limitado (Standstill Period) pero suficiente para poder obtener y evaluar información acerca del deudor y para formular y evaluar propuestas para resolver las dificultades financieras del deudor</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entario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s necesario definir primero las clases de acreedores y luego cuales acreedores deben ser incluidos en cada clase a fin de lograr su cooperación.</a:t>
            </a:r>
            <a:endParaRPr b="0" lang="en-US" sz="2000" spc="-1" strike="noStrike">
              <a:solidFill>
                <a:srgbClr val="000000"/>
              </a:solidFill>
              <a:latin typeface="Times New Roman"/>
            </a:endParaRPr>
          </a:p>
        </p:txBody>
      </p:sp>
      <p:sp>
        <p:nvSpPr>
          <p:cNvPr id="6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no debe ceder a presiones de ningún acreedor y buscar un Standstill Period en cuanto perciba que se encuentra en crisi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pueden salir del Standstill Agreement si la conducta del deudor no es la adecuada.</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egund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todos los acreedores deben acordar no iniciar acciones contra el deudor a fin de recuperar sus créditos pero tienen el derecho de preservar calidad de sus acreencias</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n muchos países la legislación acuerda un “breathing space” al deudor antes del comienzo del proceso concursal. Se le suele denominar moratoria pre-concursal.</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2000"/>
          </a:bodyPr>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Standstill Agreements pueden incluir:</a:t>
            </a:r>
            <a:endParaRPr b="0" lang="en-US" sz="2000" spc="-1" strike="noStrike">
              <a:solidFill>
                <a:srgbClr val="000000"/>
              </a:solidFill>
              <a:latin typeface="Times New Roman"/>
            </a:endParaRPr>
          </a:p>
          <a:p>
            <a:pPr lvl="2" marL="1051560" indent="-210240" algn="just">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promiso de no iniciar acciones legales.</a:t>
            </a:r>
            <a:endParaRPr b="0" lang="en-US" sz="2000" spc="-1" strike="noStrike">
              <a:solidFill>
                <a:srgbClr val="000000"/>
              </a:solidFill>
              <a:latin typeface="Times New Roman"/>
            </a:endParaRPr>
          </a:p>
          <a:p>
            <a:pPr lvl="2" marL="1051560" indent="-210240" algn="just">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promiso de no mejorar la posición acreedora (garantías, pagos u otro trato preferencial).</a:t>
            </a:r>
            <a:endParaRPr b="0" lang="en-US" sz="2000" spc="-1" strike="noStrike">
              <a:solidFill>
                <a:srgbClr val="000000"/>
              </a:solidFill>
              <a:latin typeface="Times New Roman"/>
            </a:endParaRPr>
          </a:p>
          <a:p>
            <a:pPr lvl="2" marL="1051560" indent="-210240" algn="just">
              <a:lnSpc>
                <a:spcPct val="90000"/>
              </a:lnSpc>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cuerdo para la utilización de líneas de crédito o facilidades existentes.</a:t>
            </a:r>
            <a:endParaRPr b="0" lang="en-US" sz="2000" spc="-1" strike="noStrike">
              <a:solidFill>
                <a:srgbClr val="000000"/>
              </a:solidFill>
              <a:latin typeface="Times New Roman"/>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Standstill Agreement debe asegurar que no se deteriore la posición de los acreedores por actos u omisiones del deudor.</a:t>
            </a:r>
            <a:endParaRPr b="0" lang="en-US" sz="2000" spc="-1" strike="noStrike">
              <a:solidFill>
                <a:srgbClr val="000000"/>
              </a:solidFill>
              <a:latin typeface="Times New Roman"/>
            </a:endParaRPr>
          </a:p>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uerdos entre los acreedores deben asegurar el mantenimiento de sus posiciones relativas durante el Standstill Period.</a:t>
            </a:r>
            <a:endParaRPr b="0" lang="en-US" sz="2000" spc="-1" strike="noStrike">
              <a:solidFill>
                <a:srgbClr val="000000"/>
              </a:solidFill>
              <a:latin typeface="Times New Roman"/>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Tercer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el deudor no debe ejecutar ninguna acción que pueda afectar adversamente las posibilidades de recupero de los créditos por parte de los acreedores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debe pagar sólo a los empleados y obreros y los créditos comerciales rotativo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podrá garantizar el dinero nuevo.</a:t>
            </a:r>
            <a:endParaRPr b="0" lang="en-US" sz="2000" spc="-1" strike="noStrike">
              <a:solidFill>
                <a:srgbClr val="000000"/>
              </a:solidFill>
              <a:latin typeface="Times New Roman"/>
            </a:endParaRPr>
          </a:p>
        </p:txBody>
      </p:sp>
      <p:sp>
        <p:nvSpPr>
          <p:cNvPr id="7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Cuar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os intereses de los acreedores se preservan mejor a través de una respuesta coordinada al deudor. Esta coordinación se facilita a través de la designación de uno o más representantes en los comités de coordinación que se constituyan y a través de la designación de asesores profesionales para asesorar y asistir a los comités y, cuando fuera conveniente, a través de la participación directa de los acreedores en el proce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comités de acreedores son una gran ayuda para el rescate o reestructuración de un deudor.</a:t>
            </a:r>
            <a:endParaRPr b="0" lang="en-US" sz="2000" spc="-1" strike="noStrike">
              <a:solidFill>
                <a:srgbClr val="000000"/>
              </a:solidFill>
              <a:latin typeface="Times New Roman"/>
            </a:endParaRPr>
          </a:p>
        </p:txBody>
      </p:sp>
      <p:sp>
        <p:nvSpPr>
          <p:cNvPr id="7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
        <p:nvSpPr>
          <p:cNvPr id="43" name="PlaceHolder 2"/>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Times New Roman"/>
              </a:rPr>
              <a:t>El impacto de la crisi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s crisis económicas y financieras internacionales tienen un fuerte impacto sobre la capacidad de las empresas privadas para administrar sus estructuras de financiamient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xisten innumerables experiencias al respecto en la mayoría de los países involucrados y en los más variados grupos de empresas. El caso de los países asiáticos en la década de los noventa es especialmente significativ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pregunta importante que debe responderse es qué medidas resulta necesaria adoptar para prevenir la destrucción de valor y preservar la capacidad productiva de las economí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l escenario económico financiero post-crisis debe dar oportunidad a las empresas a reestructurar sus pasivos al menor costo pos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comités de acreedores facilitan el proceso pero no tienen poder para tomar decisiones por los acreedores. </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Muchas veces, cada clase o grupo de acreedores contrata sus propios asesores aunque pueden existir asesores comune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sesores deben ser independientes del deudor.</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se hace cargo del pago de los asesores que incluyen asesores financieros especializados, abogados, auditores y valuadore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Quin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el deudor debe permitir a los acreedores y/o a sus asesores profesionales, el acceso a toda la información sobre sus activos, pasivos, negocios y perspectivas a fin de hacer posible una adecuada evaluación de su posición financiera y de las propuestas que el deudor efectúe a los acreedores</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debe aceptar que los asesores de los acreedores examinen con el grado de detalle que ellos requieran sus cuentas, proyecciones y planes de negocio.</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deben poder determinar el impacto sobre sus créditos del acuerdo de reestructuración o de la falta de acuerdo.</a:t>
            </a:r>
            <a:endParaRPr b="0" lang="en-US" sz="2000" spc="-1" strike="noStrike">
              <a:solidFill>
                <a:srgbClr val="000000"/>
              </a:solidFill>
              <a:latin typeface="Times New Roman"/>
            </a:endParaRPr>
          </a:p>
        </p:txBody>
      </p:sp>
      <p:sp>
        <p:nvSpPr>
          <p:cNvPr id="8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propuestas del deudor pueden incluir: dinero nuevo, quitas, canje de bonos, conversión de deuda en capital, daciones en pago, etc.</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n algunos países, los acuerdos deben ser aprobados judicialmente, sobre todo cuando no exista unanimidad.</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079640"/>
            <a:ext cx="7772400" cy="449568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ex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as propuestas para resolver las dificultades financieras del deudor y los acuerdos entre los acreedores con relación al Standstill Period deben efectuarse dentro del marco legal aplicable y reflejar las posiciones relativas entre los diferentes acreedores al comienzo del Standstill Period.</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analizan habitualmente su posición en el marco de un acuerdo extrajudicial, de un acuerdo concursal y de la liquidación del deudor en quiebr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or ello es importante que el due diligence sobre activos, pasivos y plan de negocios sea hecho a conocer a todos los acreedores.</a:t>
            </a:r>
            <a:endParaRPr b="0" lang="en-US" sz="2000" spc="-1" strike="noStrike">
              <a:solidFill>
                <a:srgbClr val="000000"/>
              </a:solidFill>
              <a:latin typeface="Times New Roman"/>
            </a:endParaRPr>
          </a:p>
        </p:txBody>
      </p:sp>
      <p:sp>
        <p:nvSpPr>
          <p:cNvPr id="8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éptim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a información acerca de los activos, pasivos y negocios del deudor y las propuestas para la resolución de sus dificultadores debe ser entregada a todos los acreedores y tratada en forma confidencial</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 confidencialidad y el trading de los créditos crea serios problem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uando la deuda está en manos de traders conviene excluirlos de la información y de la confidencialidad.</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trading de la deuda no debe ser restringido de ninguna manera ya que da un camino de salida a los acreedores que no desean formar parte de un arreglo.</a:t>
            </a:r>
            <a:endParaRPr b="0" lang="en-US" sz="2000" spc="-1" strike="noStrike">
              <a:solidFill>
                <a:srgbClr val="000000"/>
              </a:solidFill>
              <a:latin typeface="Times New Roman"/>
            </a:endParaRPr>
          </a:p>
        </p:txBody>
      </p:sp>
      <p:sp>
        <p:nvSpPr>
          <p:cNvPr id="8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1430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Octav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Si durante el Standstill Period los acreedores otorgan al deudor dinero nuevo o comprometen dinero nuevo como parte de propuestas de rescate o reestructuración, el repago de las nuevas facilidades crediticias deber tener prioridad en relación a las deudas existentes al comienzo del Standstill Period</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inero nuevo debe tener  prioridad frente a las restantes acreencias aún en el caso de liquidación en quiebra.</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Todos los acreedores deben tener derecho a participar en el dinero nuevo.</a:t>
            </a:r>
            <a:endParaRPr b="0" lang="en-US" sz="2000" spc="-1" strike="noStrike">
              <a:solidFill>
                <a:srgbClr val="000000"/>
              </a:solidFill>
              <a:latin typeface="Times New Roman"/>
            </a:endParaRPr>
          </a:p>
        </p:txBody>
      </p:sp>
      <p:sp>
        <p:nvSpPr>
          <p:cNvPr id="8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Nuestro país</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Nuestro país no es ni será una excepción a los señalado en cuanto a la repercusión de la crisis económica sobre la situación financiera de las empresas.</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 título de ejemplo resulta útil reseñar los aspectos más relevantes de una nota de Bloomberg del 17 de agosto pasado:</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Impsat Fiber Networks y Multicanal pueden ser las próximas compañías que no cumplan con el pago de sus deudas este año mientras la nación permanece sumergida en la recesión y aislada por los inversores…”</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Multicanal e Impsat son muestras de una creciente presión financiera sobre las compañías Argentinas mientras el Gobierno da batalla a los comentarios sobre un posible incumplimient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Compañía de Alimentos Fargo, el mayor productor de pan del país, dejó caer un vencimiento la semana pasada generando dudas acerca de si otras compañías harán lo mism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Times New Roman"/>
              </a:rPr>
              <a:t>Objetivos de las medidas</a:t>
            </a: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experiencias de otros países que experimentaron crisis económicas similares en muchos aspectos a la actual crisis Argentina y la simple observación de la realidad indican que resulta necesario crear un marco dentro del cual los deudores puedan renegociar sus obligaciones con los acreedores destruyendo el menor valor posible, en forma expeditiva, y a un costo relativamente baj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medidas tratarían de lograr metas de política económica: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 Evitar o reducir el impacto social y económico de la quiebra de grandes y medianas empresas;</a:t>
            </a: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b. Limitar el daño de las grandes quiebras sobre las instituciones financieras locales y su impacto sobre las internacionales;</a:t>
            </a: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 Evitar impactos negativos sobre la actividad económica en general.</a:t>
            </a:r>
            <a:endParaRPr b="0" lang="en-US" sz="2000" spc="-1" strike="noStrike">
              <a:solidFill>
                <a:srgbClr val="000000"/>
              </a:solidFill>
              <a:latin typeface="Times New Roman"/>
            </a:endParaRPr>
          </a:p>
        </p:txBody>
      </p:sp>
      <p:sp>
        <p:nvSpPr>
          <p:cNvPr id="4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Los camin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xisten dos grandes caminos para la resolución de conflictos entre acreedores y deudores:</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ea typeface="Times New Roman"/>
              </a:rPr>
              <a:t>a.</a:t>
            </a:r>
            <a:r>
              <a:rPr b="0" lang="es-AR" sz="2000" spc="-1" strike="noStrike">
                <a:solidFill>
                  <a:srgbClr val="ffff00"/>
                </a:solidFill>
                <a:latin typeface="Times New Roman"/>
                <a:ea typeface="Times New Roman"/>
              </a:rPr>
              <a:t>	</a:t>
            </a:r>
            <a:r>
              <a:rPr b="0" lang="es-AR" sz="2000" spc="-1" strike="noStrike">
                <a:solidFill>
                  <a:srgbClr val="ffff00"/>
                </a:solidFill>
                <a:latin typeface="Times New Roman"/>
              </a:rPr>
              <a:t>El camino judicial de concursos y quiebras;</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ea typeface="Times New Roman"/>
              </a:rPr>
              <a:t>b.</a:t>
            </a:r>
            <a:r>
              <a:rPr b="0" lang="es-AR" sz="2000" spc="-1" strike="noStrike">
                <a:solidFill>
                  <a:srgbClr val="ffff00"/>
                </a:solidFill>
                <a:latin typeface="Times New Roman"/>
                <a:ea typeface="Times New Roman"/>
              </a:rPr>
              <a:t>	</a:t>
            </a:r>
            <a:r>
              <a:rPr b="0" lang="es-AR" sz="2000" spc="-1" strike="noStrike">
                <a:solidFill>
                  <a:srgbClr val="ffff00"/>
                </a:solidFill>
                <a:latin typeface="Times New Roman"/>
              </a:rPr>
              <a:t>El camino de la negociación entre las partes en un marco extra judicial.</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unque a primera vista aparecen como divergentes, en realidad ambos caminos se complementan el uno con el otro.</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a ley de quiebras y concursos que otorgue a los acreedores la posibilidad de actuar con firmeza frente a los deudores que se nieguen a cooperar en un acuerdo extrajudicial constituye un elemento clave para la negociación de acuerdos extrajudiciales.</a:t>
            </a:r>
            <a:endParaRPr b="0" lang="en-US" sz="2000" spc="-1" strike="noStrike">
              <a:solidFill>
                <a:srgbClr val="000000"/>
              </a:solidFill>
              <a:latin typeface="Times New Roman"/>
            </a:endParaRPr>
          </a:p>
        </p:txBody>
      </p:sp>
      <p:sp>
        <p:nvSpPr>
          <p:cNvPr id="5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y de concursos y quiebras para ser efectiva debe ser aplicada por jueces eficientes, éticos y adecuadamente entrenados en temas financieros y comerciales además de, por supuesto, en temas legales específic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y debe ser aplicada de modo consistente a través de procedimientos legales ordenados y efectiv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Que la ley sea pro-deudor o pro-acreedor es menos importante que la previsibilidad en su aplicació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Solución extra-judicial de crisis financier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acreedores financieros consideran que pueden lograr mejores resultados en el reestablecimiento de la calidad de sus créditos a través de la reestructuración de los mismos en un marco de negociación extra judicial.</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acuerdos extrajudiciales se realizan como regla general con un menor costo, en plazos más breves y sin las incertidumbres que pueden generar los procedimientos 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rueba de ello es que en muchos países de la OECD, las autoridades políticas y regulatorias han promovido leyes y regulaciones destinadas a promover y facilitar la cooperación entre las entidades financieras y entre los acreedores y los deudores.</a:t>
            </a:r>
            <a:endParaRPr b="0" lang="en-US" sz="2000" spc="-1" strike="noStrike">
              <a:solidFill>
                <a:srgbClr val="000000"/>
              </a:solidFill>
              <a:latin typeface="Times New Roman"/>
            </a:endParaRPr>
          </a:p>
        </p:txBody>
      </p:sp>
      <p:sp>
        <p:nvSpPr>
          <p:cNvPr id="5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La experiencia de países en crisi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 importante número de países que han experimentado recientemente crisis económicas y financieras internacionales han adoptado a través de leyes y regulaciones, en algunos casos no compulsivas, una serie de principios que tienen como finalidad promover la reestructuración de empresas en un marco extrajudicial (por ejemplo la denominada Iniciativa de Jakarta).</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s leyes y regulaciones establecen un marco para las negociaciones y hacen posible el otorgamiento de dinero nuevo a las empresas por parte de sus acreedores.</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demás, regulan el suministro de información por parte de las empresas a sus acreedores de modo de que los mismos puedan evaluar adecuadamente las propuestas de reestructuración.</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el marco señalado, los gobiernos juegan el rol limitado pero importante de facilitar las negociaciones.</a:t>
            </a: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3:15:45Z</dcterms:created>
  <dc:creator>AyG</dc:creator>
  <dc:description/>
  <dc:language>en-US</dc:language>
  <cp:lastModifiedBy>AyG</cp:lastModifiedBy>
  <cp:lastPrinted>2001-08-21T17:32:10Z</cp:lastPrinted>
  <dcterms:modified xsi:type="dcterms:W3CDTF">2001-08-21T18:51:12Z</dcterms:modified>
  <cp:revision>58</cp:revision>
  <dc:subject/>
  <dc:title>Los principios</dc:title>
</cp:coreProperties>
</file>