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DA52F5-CE9F-482C-8C4B-EC013F42AF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2075F-8807-4501-8C21-B65F34699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10E9C4-FA1A-4C17-A402-2075399304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27945B-5F8E-42B1-8CAE-D8C635B144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4E774-949D-417D-AFD2-86DDD266C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E0745-F76D-44BD-999F-6A1BF1E1C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8B473-3E09-4DDC-BC6A-3D03750EC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70571-CD00-4291-957E-E3655C2E0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75044-33E9-4C3E-BB61-74D2F0E0B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FAF2D-3D0A-41BD-998A-9B145405F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B39A5-AED2-4169-B6CC-40AE4441B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C9B5A-D530-4429-BEE3-78B7D5F83F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E103E-278B-4E9B-98D4-F07B399D5F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41" name=""/>
          <p:cNvSpPr/>
          <p:nvPr/>
        </p:nvSpPr>
        <p:spPr>
          <a:xfrm>
            <a:off x="380880" y="2514600"/>
            <a:ext cx="838224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LA CRISIS ECONÓMICA Y LA REESTRUCTURACIÓN FINANCIERA EMPRESAR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fontScale="85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ffff00"/>
                </a:solidFill>
                <a:latin typeface="Times New Roman"/>
              </a:rPr>
              <a:t>Modalidades de acuerdos extrajudiciale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La promoción de acuerdos extrajudiciales está orientado a minimizar el número de  concursos y quiebras. Sin embargo, la posibilidad de la aplicación efectiva de la legislación sobre concursos y quiebras es crítica para el éxito de los procedimientos informales dado que provee los incentivos necesarios para las negociacione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Por ello, además de la aprobación de leyes y regulaciones que promuevan los acuerdos extrajudiciales resulta necesario actualizar y, de ser posible, mejorar la legislación sobre concursos y quiebra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Un aspecto clave de los acuerdos extra-judiciales es contar con un periodo de Standstill durante el cual se producen las negociacione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En algunos países la legislación permite periodos de hasta seis meses antes del comienzo del proceso concursal para facilitar las negociaciones entre deudores y acreedore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fontScale="93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Para aumentar la eficiencia de la negociación extrajudicial otros países permiten la aprobación de planes “prepackaged”. En estos casos la negociación y el voto del plan tienen lugar antes del inicio del proceso concursal y se requiere la aprobación del tribunal en la fecha de la apertura del concurs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Como una variante, el plan puede ser negociado antes del comienzo del proceso concursal pero el voto formal se efectúa tan pronto como se inicia el concurs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Los planes “prepackaged” o “prenegociados” utilizan las ventajas más significativas de un acuerdo concursal, es decir la posibilidad de imponer un plan a los acreedores disidentes en el caso de no lograrse la unanimidad, y al mismo tiempo tiene los beneficios de un proceso informal.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fontScale="97000"/>
          </a:bodyPr>
          <a:p>
            <a:pPr indent="0" algn="just">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ffff00"/>
                </a:solidFill>
                <a:latin typeface="Times New Roman"/>
              </a:rPr>
              <a:t>Otras consideraciones</a:t>
            </a:r>
            <a:endParaRPr b="0" lang="en-US" sz="2000" spc="-1" strike="noStrike">
              <a:solidFill>
                <a:srgbClr val="000000"/>
              </a:solidFill>
              <a:latin typeface="Times New Roman"/>
            </a:endParaRPr>
          </a:p>
          <a:p>
            <a:pPr indent="0" algn="just">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La legislación debe permitir el otorgamiento de garantías y otorgar prioridad absoluta de cobro al dinero nuevo que los acreedores contribuyen para mantener la empresa solvente durante la negociación ya sea extrajudicial como en el marco de un proceso concursal.</a:t>
            </a:r>
            <a:endParaRPr b="0" lang="en-US" sz="2000" spc="-1" strike="noStrike">
              <a:solidFill>
                <a:srgbClr val="000000"/>
              </a:solidFill>
              <a:latin typeface="Times New Roman"/>
            </a:endParaRPr>
          </a:p>
          <a:p>
            <a:pPr indent="0" algn="just">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En el caso de compañías autorizadas para la oferta pública se cuenta con lo general con información frecuente, transparente y consistente lo que facilita el logro de acuerdos en menor tiempo. Las regulaciones deben autorizar la entrega de información fuera de las reglas habituales de confidencialidad aún en el marco de conversiones de deuda en capital.</a:t>
            </a:r>
            <a:endParaRPr b="0" lang="en-US" sz="2000" spc="-1" strike="noStrike">
              <a:solidFill>
                <a:srgbClr val="000000"/>
              </a:solidFill>
              <a:latin typeface="Times New Roman"/>
            </a:endParaRPr>
          </a:p>
          <a:p>
            <a:pPr indent="0" algn="just">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Conviene facilitar la creación de un mercado secundario de deuda de compañías en crisis a fin de que  algunos acreedores puedan transferir sus acreencias a compañías especializadas en work-outs.</a:t>
            </a:r>
            <a:endParaRPr b="0" lang="en-US" sz="2000" spc="-1" strike="noStrike">
              <a:solidFill>
                <a:srgbClr val="000000"/>
              </a:solidFill>
              <a:latin typeface="Times New Roman"/>
            </a:endParaRPr>
          </a:p>
        </p:txBody>
      </p:sp>
      <p:sp>
        <p:nvSpPr>
          <p:cNvPr id="63"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ffff00"/>
                </a:solidFill>
                <a:latin typeface="Times New Roman"/>
              </a:rPr>
              <a:t>Principios a ser tenidos en cuenta para legislar y reglamentar los acuerdos extrajudiciale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Los siguientes ocho principios han sido preparados por INSOL Lenders Group de los Estados Unidos. Este grupo incluye a bancos de inversión y firmas de abogados especializados en work out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Los principios reflejan tanto la experiencia de los Estados Unidos como el denominado London Approach del Reino Unido y las legislaciones francesa y alemana.</a:t>
            </a:r>
            <a:endParaRPr b="0" lang="en-US" sz="2000" spc="-1" strike="noStrike">
              <a:solidFill>
                <a:srgbClr val="000000"/>
              </a:solidFill>
              <a:latin typeface="Times New Roman"/>
            </a:endParaRPr>
          </a:p>
        </p:txBody>
      </p:sp>
      <p:sp>
        <p:nvSpPr>
          <p:cNvPr id="65"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ff00"/>
                </a:solidFill>
                <a:uFillTx/>
                <a:latin typeface="Times New Roman"/>
              </a:rPr>
              <a:t>Primer principi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imes New Roman"/>
              </a:rPr>
              <a:t>Cuando un deudor se encuentra en dificultades financieras, todos los acreedores deben estar preparados para cooperar a fin de otorgar al deudor un tiempo limitado (Standstill Period) pero suficiente para poder obtener y evaluar información acerca del deudor y para formular y evaluar propuestas para resolver las dificultades financieras del deudor</a:t>
            </a:r>
            <a:r>
              <a:rPr b="0" lang="es-ES_tradnl" sz="2000" spc="-1" strike="noStrike">
                <a:solidFill>
                  <a:srgbClr val="ffff00"/>
                </a:solidFill>
                <a:latin typeface="Times New Roman"/>
              </a:rPr>
              <a:t>.</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Comentarios:</a:t>
            </a:r>
            <a:endParaRPr b="0" lang="en-US" sz="2000" spc="-1" strike="noStrike">
              <a:solidFill>
                <a:srgbClr val="000000"/>
              </a:solidFill>
              <a:latin typeface="Times New Roman"/>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Es necesario definir primero las clases de acreedores y luego cuales acreedores deben ser incluidos en cada clase a fin de lograr su cooperación.</a:t>
            </a:r>
            <a:endParaRPr b="0" lang="en-US" sz="2000" spc="-1" strike="noStrike">
              <a:solidFill>
                <a:srgbClr val="000000"/>
              </a:solidFill>
              <a:latin typeface="Times New Roman"/>
            </a:endParaRPr>
          </a:p>
        </p:txBody>
      </p:sp>
      <p:sp>
        <p:nvSpPr>
          <p:cNvPr id="67"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a:bodyPr>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El deudor no debe ceder a presiones de ningún acreedor y buscar un Standstill Period en cuanto perciba que se encuentra en crisis.</a:t>
            </a:r>
            <a:endParaRPr b="0" lang="en-US" sz="2000" spc="-1" strike="noStrike">
              <a:solidFill>
                <a:srgbClr val="000000"/>
              </a:solidFill>
              <a:latin typeface="Times New Roman"/>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Los acreedores pueden salir del Standstill Agreement si la conducta del deudor no es la adecuada.</a:t>
            </a:r>
            <a:endParaRPr b="0" lang="en-US" sz="2000" spc="-1" strike="noStrike">
              <a:solidFill>
                <a:srgbClr val="000000"/>
              </a:solidFill>
              <a:latin typeface="Times New Roman"/>
            </a:endParaRPr>
          </a:p>
          <a:p>
            <a:pPr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ff00"/>
                </a:solidFill>
                <a:uFillTx/>
                <a:latin typeface="Times New Roman"/>
              </a:rPr>
              <a:t>Segundo principi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imes New Roman"/>
              </a:rPr>
              <a:t>Durante el Standstill Period, todos los acreedores deben acordar no iniciar acciones contra el deudor a fin de recuperar sus créditos pero tienen el derecho de preservar calidad de sus acreencias</a:t>
            </a:r>
            <a:r>
              <a:rPr b="0" lang="es-ES_tradnl" sz="2000" spc="-1" strike="noStrike">
                <a:solidFill>
                  <a:srgbClr val="ffff00"/>
                </a:solidFill>
                <a:latin typeface="Times New Roman"/>
              </a:rPr>
              <a:t>.</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En muchos países la legislación acuerda un “breathing space” al deudor antes del comienzo del proceso concursal. Se le suele denominar moratoria pre-concursal.</a:t>
            </a:r>
            <a:endParaRPr b="0" lang="en-US" sz="2000" spc="-1" strike="noStrike">
              <a:solidFill>
                <a:srgbClr val="000000"/>
              </a:solidFill>
              <a:latin typeface="Times New Roman"/>
            </a:endParaRPr>
          </a:p>
          <a:p>
            <a:pPr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fontScale="92000"/>
          </a:bodyPr>
          <a:p>
            <a:pPr lvl="1" marL="6832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832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83280" indent="-262800" algn="just">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Los Standstill Agreements pueden incluir:</a:t>
            </a:r>
            <a:endParaRPr b="0" lang="en-US" sz="2000" spc="-1" strike="noStrike">
              <a:solidFill>
                <a:srgbClr val="000000"/>
              </a:solidFill>
              <a:latin typeface="Times New Roman"/>
            </a:endParaRPr>
          </a:p>
          <a:p>
            <a:pPr lvl="2" marL="1051560" indent="-210240" algn="just">
              <a:spcBef>
                <a:spcPts val="499"/>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Compromiso de no iniciar acciones legales.</a:t>
            </a:r>
            <a:endParaRPr b="0" lang="en-US" sz="2000" spc="-1" strike="noStrike">
              <a:solidFill>
                <a:srgbClr val="000000"/>
              </a:solidFill>
              <a:latin typeface="Times New Roman"/>
            </a:endParaRPr>
          </a:p>
          <a:p>
            <a:pPr lvl="2" marL="1051560" indent="-210240" algn="just">
              <a:spcBef>
                <a:spcPts val="499"/>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Compromiso de no mejorar la posición acreedora (garantías, pagos u otro trato preferencial).</a:t>
            </a:r>
            <a:endParaRPr b="0" lang="en-US" sz="2000" spc="-1" strike="noStrike">
              <a:solidFill>
                <a:srgbClr val="000000"/>
              </a:solidFill>
              <a:latin typeface="Times New Roman"/>
            </a:endParaRPr>
          </a:p>
          <a:p>
            <a:pPr lvl="2" marL="1051560" indent="-210240" algn="just">
              <a:lnSpc>
                <a:spcPct val="90000"/>
              </a:lnSpc>
              <a:spcBef>
                <a:spcPts val="499"/>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cuerdo para la utilización de líneas de crédito o facilidades existentes.</a:t>
            </a:r>
            <a:endParaRPr b="0" lang="en-US" sz="2000" spc="-1" strike="noStrike">
              <a:solidFill>
                <a:srgbClr val="000000"/>
              </a:solidFill>
              <a:latin typeface="Times New Roman"/>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83280" indent="-262800" algn="just">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El Standstill Agreement debe asegurar que no se deteriore la posición de los acreedores por actos u omisiones del deudor.</a:t>
            </a:r>
            <a:endParaRPr b="0" lang="en-US" sz="2000" spc="-1" strike="noStrike">
              <a:solidFill>
                <a:srgbClr val="000000"/>
              </a:solidFill>
              <a:latin typeface="Times New Roman"/>
            </a:endParaRPr>
          </a:p>
          <a:p>
            <a:pPr lvl="1" marL="6832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83280" indent="-262800" algn="just">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Los acuerdos entre los acreedores deben asegurar el mantenimiento de sus posiciones relativas durante el Standstill Period.</a:t>
            </a:r>
            <a:endParaRPr b="0" lang="en-US" sz="2000" spc="-1" strike="noStrike">
              <a:solidFill>
                <a:srgbClr val="000000"/>
              </a:solidFill>
              <a:latin typeface="Times New Roman"/>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ff00"/>
                </a:solidFill>
                <a:uFillTx/>
                <a:latin typeface="Times New Roman"/>
              </a:rPr>
              <a:t>Tercer principi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imes New Roman"/>
              </a:rPr>
              <a:t>Durante el Standstill Period, el deudor no debe ejecutar ninguna acción que pueda afectar adversamente las posibilidades de recupero de los créditos por parte de los acreedores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El deudor debe pagar sólo a los empleados y obreros y los créditos comerciales rotativos.</a:t>
            </a:r>
            <a:endParaRPr b="0" lang="en-US" sz="2000" spc="-1" strike="noStrike">
              <a:solidFill>
                <a:srgbClr val="000000"/>
              </a:solidFill>
              <a:latin typeface="Times New Roman"/>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El deudor podrá garantizar el dinero nuevo.</a:t>
            </a:r>
            <a:endParaRPr b="0" lang="en-US" sz="2000" spc="-1" strike="noStrike">
              <a:solidFill>
                <a:srgbClr val="000000"/>
              </a:solidFill>
              <a:latin typeface="Times New Roman"/>
            </a:endParaRPr>
          </a:p>
        </p:txBody>
      </p:sp>
      <p:sp>
        <p:nvSpPr>
          <p:cNvPr id="75"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ff00"/>
                </a:solidFill>
                <a:uFillTx/>
                <a:latin typeface="Times New Roman"/>
              </a:rPr>
              <a:t>Cuarto principi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imes New Roman"/>
              </a:rPr>
              <a:t>Los intereses de los acreedores se preservan mejor a través de una respuesta coordinada al deudor. Esta coordinación se facilita a través de la designación de uno o más representantes en los comités de coordinación que se constituyan y a través de la designación de asesores profesionales para asesorar y asistir a los comités y, cuando fuera conveniente, a través de la participación directa de los acreedores en el proces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Los comités de acreedores son una gran ayuda para el rescate o reestructuración de un deudor.</a:t>
            </a:r>
            <a:endParaRPr b="0" lang="en-US" sz="2000" spc="-1" strike="noStrike">
              <a:solidFill>
                <a:srgbClr val="000000"/>
              </a:solidFill>
              <a:latin typeface="Times New Roman"/>
            </a:endParaRPr>
          </a:p>
        </p:txBody>
      </p:sp>
      <p:sp>
        <p:nvSpPr>
          <p:cNvPr id="77"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
        <p:nvSpPr>
          <p:cNvPr id="43" name="PlaceHolder 2"/>
          <p:cNvSpPr>
            <a:spLocks noGrp="1"/>
          </p:cNvSpPr>
          <p:nvPr>
            <p:ph/>
          </p:nvPr>
        </p:nvSpPr>
        <p:spPr>
          <a:xfrm>
            <a:off x="685800" y="1079640"/>
            <a:ext cx="7772400" cy="4495680"/>
          </a:xfrm>
          <a:prstGeom prst="rect">
            <a:avLst/>
          </a:prstGeom>
          <a:noFill/>
          <a:ln w="0">
            <a:noFill/>
          </a:ln>
        </p:spPr>
        <p:txBody>
          <a:bodyPr lIns="90000" rIns="90000" tIns="46800" bIns="46800" anchor="t">
            <a:normAutofit fontScale="89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00"/>
                </a:solidFill>
                <a:latin typeface="Times New Roman"/>
              </a:rPr>
              <a:t>El impacto de la crisi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Las crisis económicas y financieras internacionales tienen un fuerte impacto sobre la capacidad de las empresas privadas para administrar sus estructuras de financiamient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Existen innumerables experiencias al respecto en la mayoría de los países involucrados y en los más variados grupos de empresas. El caso de los países asiáticos en la década de los noventa es especialmente significativ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La pregunta importante que debe responderse es qué medidas resulta necesaria adoptar para prevenir la destrucción de valor y preservar la capacidad productiva de las economía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El escenario económico financiero post-crisis debe dar oportunidad a las empresas a reestructurar sus pasivos al menor costo posib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a:bodyPr>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Los comités de acreedores facilitan el proceso pero no tienen poder para tomar decisiones por los acreedores. </a:t>
            </a:r>
            <a:endParaRPr b="0" lang="en-US" sz="2000" spc="-1" strike="noStrike">
              <a:solidFill>
                <a:srgbClr val="000000"/>
              </a:solidFill>
              <a:latin typeface="Times New Roman"/>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Muchas veces, cada clase o grupo de acreedores contrata sus propios asesores aunque pueden existir asesores comunes.</a:t>
            </a:r>
            <a:endParaRPr b="0" lang="en-US" sz="2000" spc="-1" strike="noStrike">
              <a:solidFill>
                <a:srgbClr val="000000"/>
              </a:solidFill>
              <a:latin typeface="Times New Roman"/>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Los asesores deben ser independientes del deudor.</a:t>
            </a:r>
            <a:endParaRPr b="0" lang="en-US" sz="2000" spc="-1" strike="noStrike">
              <a:solidFill>
                <a:srgbClr val="000000"/>
              </a:solidFill>
              <a:latin typeface="Times New Roman"/>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El deudor se hace cargo del pago de los asesores que incluyen asesores financieros especializados, abogados, auditores y valuadores.</a:t>
            </a:r>
            <a:endParaRPr b="0" lang="en-US" sz="2000" spc="-1" strike="noStrike">
              <a:solidFill>
                <a:srgbClr val="000000"/>
              </a:solidFill>
              <a:latin typeface="Times New Roman"/>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ff00"/>
                </a:solidFill>
                <a:uFillTx/>
                <a:latin typeface="Times New Roman"/>
              </a:rPr>
              <a:t>Quinto principi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imes New Roman"/>
              </a:rPr>
              <a:t>Durante el Standstill Period, el deudor debe permitir a los acreedores y/o a sus asesores profesionales, el acceso a toda la información sobre sus activos, pasivos, negocios y perspectivas a fin de hacer posible una adecuada evaluación de su posición financiera y de las propuestas que el deudor efectúe a los acreedores</a:t>
            </a:r>
            <a:r>
              <a:rPr b="0" lang="es-ES_tradnl" sz="2000" spc="-1" strike="noStrike">
                <a:solidFill>
                  <a:srgbClr val="ffff00"/>
                </a:solidFill>
                <a:latin typeface="Times New Roman"/>
              </a:rPr>
              <a:t>.</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El deudor debe aceptar que los asesores de los acreedores examinen con el grado de detalle que ellos requieran sus cuentas, proyecciones y planes de negocio.</a:t>
            </a:r>
            <a:endParaRPr b="0" lang="en-US" sz="2000" spc="-1" strike="noStrike">
              <a:solidFill>
                <a:srgbClr val="000000"/>
              </a:solidFill>
              <a:latin typeface="Times New Roman"/>
            </a:endParaRPr>
          </a:p>
          <a:p>
            <a:pPr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Los acreedores deben poder determinar el impacto sobre sus créditos del acuerdo de reestructuración o de la falta de acuerdo.</a:t>
            </a:r>
            <a:endParaRPr b="0" lang="en-US" sz="2000" spc="-1" strike="noStrike">
              <a:solidFill>
                <a:srgbClr val="000000"/>
              </a:solidFill>
              <a:latin typeface="Times New Roman"/>
            </a:endParaRPr>
          </a:p>
        </p:txBody>
      </p:sp>
      <p:sp>
        <p:nvSpPr>
          <p:cNvPr id="81"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a:bodyPr>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Las propuestas del deudor pueden incluir: dinero nuevo, quitas, canje de bonos, conversión de deuda en capital, daciones en pago, etc.</a:t>
            </a:r>
            <a:endParaRPr b="0" lang="en-US" sz="2000" spc="-1" strike="noStrike">
              <a:solidFill>
                <a:srgbClr val="000000"/>
              </a:solidFill>
              <a:latin typeface="Times New Roman"/>
            </a:endParaRPr>
          </a:p>
          <a:p>
            <a:pPr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En algunos países, los acuerdos deben ser aprobados judicialmente, sobre todo cuando no exista unanimidad.</a:t>
            </a:r>
            <a:endParaRPr b="0" lang="en-US" sz="2000" spc="-1" strike="noStrike">
              <a:solidFill>
                <a:srgbClr val="000000"/>
              </a:solidFill>
              <a:latin typeface="Times New Roman"/>
            </a:endParaRPr>
          </a:p>
          <a:p>
            <a:pPr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800" y="1079640"/>
            <a:ext cx="7772400" cy="449568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ff00"/>
                </a:solidFill>
                <a:uFillTx/>
                <a:latin typeface="Times New Roman"/>
              </a:rPr>
              <a:t>Sexto principi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imes New Roman"/>
              </a:rPr>
              <a:t>Las propuestas para resolver las dificultades financieras del deudor y los acuerdos entre los acreedores con relación al Standstill Period deben efectuarse dentro del marco legal aplicable y reflejar las posiciones relativas entre los diferentes acreedores al comienzo del Standstill Period.</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Los acreedores analizan habitualmente su posición en el marco de un acuerdo extrajudicial, de un acuerdo concursal y de la liquidación del deudor en quiebra.</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Por ello es importante que el due diligence sobre activos, pasivos y plan de negocios sea hecho a conocer a todos los acreedores.</a:t>
            </a:r>
            <a:endParaRPr b="0" lang="en-US" sz="2000" spc="-1" strike="noStrike">
              <a:solidFill>
                <a:srgbClr val="000000"/>
              </a:solidFill>
              <a:latin typeface="Times New Roman"/>
            </a:endParaRPr>
          </a:p>
        </p:txBody>
      </p:sp>
      <p:sp>
        <p:nvSpPr>
          <p:cNvPr id="85"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fontScale="96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ff00"/>
                </a:solidFill>
                <a:uFillTx/>
                <a:latin typeface="Times New Roman"/>
              </a:rPr>
              <a:t>Séptimo principi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imes New Roman"/>
              </a:rPr>
              <a:t>La información acerca de los activos, pasivos y negocios del deudor y las propuestas para la resolución de sus dificultadores debe ser entregada a todos los acreedores y tratada en forma confidencial</a:t>
            </a:r>
            <a:r>
              <a:rPr b="0" lang="es-ES_tradnl" sz="2000" spc="-1" strike="noStrike">
                <a:solidFill>
                  <a:srgbClr val="ffff00"/>
                </a:solidFill>
                <a:latin typeface="Times New Roman"/>
              </a:rPr>
              <a:t>.</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13160" indent="-27432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La confidencialidad y el trading de los créditos crea serios problema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13160" indent="-27432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Cuando la deuda está en manos de traders conviene excluirlos de la información y de la confidencialidad.</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13160" indent="-27432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El trading de la deuda no debe ser restringido de ninguna manera ya que da un camino de salida a los acreedores que no desean formar parte de un arreglo.</a:t>
            </a:r>
            <a:endParaRPr b="0" lang="en-US" sz="2000" spc="-1" strike="noStrike">
              <a:solidFill>
                <a:srgbClr val="000000"/>
              </a:solidFill>
              <a:latin typeface="Times New Roman"/>
            </a:endParaRPr>
          </a:p>
        </p:txBody>
      </p:sp>
      <p:sp>
        <p:nvSpPr>
          <p:cNvPr id="87"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800" y="1143000"/>
            <a:ext cx="7772400" cy="449568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ff00"/>
                </a:solidFill>
                <a:uFillTx/>
                <a:latin typeface="Times New Roman"/>
              </a:rPr>
              <a:t>Octavo principi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imes New Roman"/>
              </a:rPr>
              <a:t>Si durante el Standstill Period los acreedores otorgan al deudor dinero nuevo o comprometen dinero nuevo como parte de propuestas de rescate o reestructuración, el repago de las nuevas facilidades crediticias deber tener prioridad en relación a las deudas existentes al comienzo del Standstill Period</a:t>
            </a:r>
            <a:r>
              <a:rPr b="0" lang="es-ES_tradnl" sz="2000" spc="-1" strike="noStrike">
                <a:solidFill>
                  <a:srgbClr val="ffff00"/>
                </a:solidFill>
                <a:latin typeface="Times New Roman"/>
              </a:rPr>
              <a:t>.</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El dinero nuevo debe tener  prioridad frente a las restantes acreencias aún en el caso de liquidación en quiebra.</a:t>
            </a:r>
            <a:endParaRPr b="0" lang="en-US" sz="2000" spc="-1" strike="noStrike">
              <a:solidFill>
                <a:srgbClr val="000000"/>
              </a:solidFill>
              <a:latin typeface="Times New Roman"/>
            </a:endParaRPr>
          </a:p>
          <a:p>
            <a:pPr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Todos los acreedores deben tener derecho a participar en el dinero nuevo.</a:t>
            </a:r>
            <a:endParaRPr b="0" lang="en-US" sz="2000" spc="-1" strike="noStrike">
              <a:solidFill>
                <a:srgbClr val="000000"/>
              </a:solidFill>
              <a:latin typeface="Times New Roman"/>
            </a:endParaRPr>
          </a:p>
        </p:txBody>
      </p:sp>
      <p:sp>
        <p:nvSpPr>
          <p:cNvPr id="89"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ffff00"/>
                </a:solidFill>
                <a:latin typeface="Times New Roman"/>
              </a:rPr>
              <a:t>Nuestro país</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Nuestro país no es ni será una excepción a los señalado en cuanto a la repercusión de la crisis económica sobre la situación financiera de las empresas.</a:t>
            </a:r>
            <a:endParaRPr b="0" lang="en-US" sz="20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A título de ejemplo resulta útil reseñar los aspectos más relevantes de una nota de Bloomberg del 17 de agosto pasado:</a:t>
            </a:r>
            <a:endParaRPr b="0" lang="en-US" sz="20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a:t>
            </a:r>
            <a:r>
              <a:rPr b="0" lang="es-AR" sz="2000" spc="-1" strike="noStrike">
                <a:solidFill>
                  <a:srgbClr val="ffff00"/>
                </a:solidFill>
                <a:latin typeface="Times New Roman"/>
              </a:rPr>
              <a:t>Impsat Fiber Networks y Multicanal pueden ser las próximas compañías que no cumplan con el pago de sus deudas este año mientras la nación permanece sumergida en la recesión y aislada por los inversores…”</a:t>
            </a:r>
            <a:endParaRPr b="0" lang="en-US" sz="20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a:t>
            </a:r>
            <a:r>
              <a:rPr b="0" lang="es-AR" sz="2000" spc="-1" strike="noStrike">
                <a:solidFill>
                  <a:srgbClr val="ffff00"/>
                </a:solidFill>
                <a:latin typeface="Times New Roman"/>
              </a:rPr>
              <a:t>Multicanal e Impsat son muestras de una creciente presión financiera sobre las compañías Argentinas mientras el Gobierno da batalla a los comentarios sobre un posible incumplimiento…”</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a:t>
            </a:r>
            <a:r>
              <a:rPr b="0" lang="es-AR" sz="2000" spc="-1" strike="noStrike">
                <a:solidFill>
                  <a:srgbClr val="ffff00"/>
                </a:solidFill>
                <a:latin typeface="Times New Roman"/>
              </a:rPr>
              <a:t>Compañía de Alimentos Fargo, el mayor productor de pan del país, dejó caer un vencimiento la semana pasada generando dudas acerca de si otras compañías harán lo mismo…”</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fontScale="91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00"/>
                </a:solidFill>
                <a:latin typeface="Times New Roman"/>
              </a:rPr>
              <a:t>Objetivos de las medidas</a:t>
            </a:r>
            <a:endParaRPr b="0" lang="en-US" sz="2000" spc="-1" strike="noStrike">
              <a:solidFill>
                <a:srgbClr val="000000"/>
              </a:solidFill>
              <a:latin typeface="Times New Roman"/>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Las experiencias de otros países que experimentaron crisis económicas similares en muchos aspectos a la actual crisis Argentina y la simple observación de la realidad indican que resulta necesario crear un marco dentro del cual los deudores puedan renegociar sus obligaciones con los acreedores destruyendo el menor valor posible, en forma expeditiva, y a un costo relativamente baj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Las medidas tratarían de lograr metas de política económica: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76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 Evitar o reducir el impacto social y económico de la quiebra de grandes y medianas empresas;</a:t>
            </a:r>
            <a:endParaRPr b="0" lang="en-US" sz="2000" spc="-1" strike="noStrike">
              <a:solidFill>
                <a:srgbClr val="000000"/>
              </a:solidFill>
              <a:latin typeface="Times New Roman"/>
            </a:endParaRPr>
          </a:p>
          <a:p>
            <a:pPr lvl="1" marL="676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b. Limitar el daño de las grandes quiebras sobre las instituciones financieras locales y su impacto sobre las internacionales;</a:t>
            </a:r>
            <a:endParaRPr b="0" lang="en-US" sz="2000" spc="-1" strike="noStrike">
              <a:solidFill>
                <a:srgbClr val="000000"/>
              </a:solidFill>
              <a:latin typeface="Times New Roman"/>
            </a:endParaRPr>
          </a:p>
          <a:p>
            <a:pPr lvl="1" marL="676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c. Evitar impactos negativos sobre la actividad económica en general.</a:t>
            </a:r>
            <a:endParaRPr b="0" lang="en-US" sz="2000" spc="-1" strike="noStrike">
              <a:solidFill>
                <a:srgbClr val="000000"/>
              </a:solidFill>
              <a:latin typeface="Times New Roman"/>
            </a:endParaRPr>
          </a:p>
        </p:txBody>
      </p:sp>
      <p:sp>
        <p:nvSpPr>
          <p:cNvPr id="49"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fontScale="89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ffff00"/>
                </a:solidFill>
                <a:latin typeface="Times New Roman"/>
              </a:rPr>
              <a:t>Los camino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Existen dos grandes caminos para la resolución de conflictos entre acreedores y deudores:</a:t>
            </a:r>
            <a:endParaRPr b="0" lang="en-US" sz="2000" spc="-1" strike="noStrike">
              <a:solidFill>
                <a:srgbClr val="000000"/>
              </a:solidFill>
              <a:latin typeface="Times New Roman"/>
            </a:endParaRPr>
          </a:p>
          <a:p>
            <a:pPr lvl="2" marL="1017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17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ea typeface="Times New Roman"/>
              </a:rPr>
              <a:t>a.</a:t>
            </a:r>
            <a:r>
              <a:rPr b="0" lang="es-AR" sz="2000" spc="-1" strike="noStrike">
                <a:solidFill>
                  <a:srgbClr val="ffff00"/>
                </a:solidFill>
                <a:latin typeface="Times New Roman"/>
                <a:ea typeface="Times New Roman"/>
              </a:rPr>
              <a:t>	</a:t>
            </a:r>
            <a:r>
              <a:rPr b="0" lang="es-AR" sz="2000" spc="-1" strike="noStrike">
                <a:solidFill>
                  <a:srgbClr val="ffff00"/>
                </a:solidFill>
                <a:latin typeface="Times New Roman"/>
              </a:rPr>
              <a:t>El camino judicial de concursos y quiebras;</a:t>
            </a:r>
            <a:endParaRPr b="0" lang="en-US" sz="2000" spc="-1" strike="noStrike">
              <a:solidFill>
                <a:srgbClr val="000000"/>
              </a:solidFill>
              <a:latin typeface="Times New Roman"/>
            </a:endParaRPr>
          </a:p>
          <a:p>
            <a:pPr lvl="2" marL="1017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ea typeface="Times New Roman"/>
              </a:rPr>
              <a:t>b.</a:t>
            </a:r>
            <a:r>
              <a:rPr b="0" lang="es-AR" sz="2000" spc="-1" strike="noStrike">
                <a:solidFill>
                  <a:srgbClr val="ffff00"/>
                </a:solidFill>
                <a:latin typeface="Times New Roman"/>
                <a:ea typeface="Times New Roman"/>
              </a:rPr>
              <a:t>	</a:t>
            </a:r>
            <a:r>
              <a:rPr b="0" lang="es-AR" sz="2000" spc="-1" strike="noStrike">
                <a:solidFill>
                  <a:srgbClr val="ffff00"/>
                </a:solidFill>
                <a:latin typeface="Times New Roman"/>
              </a:rPr>
              <a:t>El camino de la negociación entre las partes en un marco extra judicial.</a:t>
            </a:r>
            <a:endParaRPr b="0" lang="en-US" sz="2000" spc="-1" strike="noStrike">
              <a:solidFill>
                <a:srgbClr val="000000"/>
              </a:solidFill>
              <a:latin typeface="Times New Roman"/>
            </a:endParaRPr>
          </a:p>
          <a:p>
            <a:pPr lvl="2" marL="1017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Aunque a primera vista aparecen como divergentes, en realidad ambos caminos se complementan el uno con el otro.</a:t>
            </a:r>
            <a:endParaRPr b="0" lang="en-US" sz="2000" spc="-1" strike="noStrike">
              <a:solidFill>
                <a:srgbClr val="000000"/>
              </a:solidFill>
              <a:latin typeface="Times New Roman"/>
            </a:endParaRPr>
          </a:p>
          <a:p>
            <a:pPr lvl="2" marL="1017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Una ley de quiebras y concursos que otorgue a los acreedores la posibilidad de actuar con firmeza frente a los deudores que se nieguen a cooperar en un acuerdo extrajudicial constituye un elemento clave para la negociación de acuerdos extrajudiciales.</a:t>
            </a:r>
            <a:endParaRPr b="0" lang="en-US" sz="2000" spc="-1" strike="noStrike">
              <a:solidFill>
                <a:srgbClr val="000000"/>
              </a:solidFill>
              <a:latin typeface="Times New Roman"/>
            </a:endParaRPr>
          </a:p>
        </p:txBody>
      </p:sp>
      <p:sp>
        <p:nvSpPr>
          <p:cNvPr id="51"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La ley de concursos y quiebras para ser efectiva debe ser aplicada por jueces eficientes, éticos y adecuadamente entrenados en temas financieros y comerciales además de, por supuesto, en temas legales específico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La ley debe ser aplicada de modo consistente a través de procedimientos legales ordenados y efectivo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Que la ley sea pro-deudor o pro-acreedor es menos importante que la previsibilidad en su aplicación.</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fontScale="98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ffff00"/>
                </a:solidFill>
                <a:latin typeface="Times New Roman"/>
              </a:rPr>
              <a:t>Solución extra-judicial de crisis financiera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Los acreedores financieros consideran que pueden lograr mejores resultados en el reestablecimiento de la calidad de sus créditos a través de la reestructuración de los mismos en un marco de negociación extra judicial.</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Los acuerdos extrajudiciales se realizan como regla general con un menor costo, en plazos más breves y sin las incertidumbres que pueden generar los procedimientos judiciale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Prueba de ello es que en muchos países de la OECD, las autoridades políticas y regulatorias han promovido leyes y regulaciones destinadas a promover y facilitar la cooperación entre las entidades financieras y entre los acreedores y los deudores.</a:t>
            </a:r>
            <a:endParaRPr b="0" lang="en-US" sz="2000" spc="-1" strike="noStrike">
              <a:solidFill>
                <a:srgbClr val="000000"/>
              </a:solidFill>
              <a:latin typeface="Times New Roman"/>
            </a:endParaRPr>
          </a:p>
        </p:txBody>
      </p:sp>
      <p:sp>
        <p:nvSpPr>
          <p:cNvPr id="55"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fontScale="88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ffff00"/>
                </a:solidFill>
                <a:latin typeface="Times New Roman"/>
              </a:rPr>
              <a:t>La experiencia de países en crisi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Un importante número de países que han experimentado recientemente crisis económicas y financieras internacionales han adoptado a través de leyes y regulaciones, en algunos casos no compulsivas, una serie de principios que tienen como finalidad promover la reestructuración de empresas en un marco extrajudicial (por ejemplo la denominada Iniciativa de Jakarta).</a:t>
            </a:r>
            <a:endParaRPr b="0" lang="en-US" sz="2000" spc="-1" strike="noStrike">
              <a:solidFill>
                <a:srgbClr val="000000"/>
              </a:solidFill>
              <a:latin typeface="Times New Roman"/>
            </a:endParaRPr>
          </a:p>
          <a:p>
            <a:pPr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Las leyes y regulaciones establecen un marco para las negociaciones y hacen posible el otorgamiento de dinero nuevo a las empresas por parte de sus acreedores.</a:t>
            </a:r>
            <a:endParaRPr b="0" lang="en-US" sz="2000" spc="-1" strike="noStrike">
              <a:solidFill>
                <a:srgbClr val="000000"/>
              </a:solidFill>
              <a:latin typeface="Times New Roman"/>
            </a:endParaRPr>
          </a:p>
          <a:p>
            <a:pPr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Además, regulan el suministro de información por parte de las empresas a sus acreedores de modo de que los mismos puedan evaluar adecuadamente las propuestas de reestructuración.</a:t>
            </a:r>
            <a:endParaRPr b="0" lang="en-US" sz="2000" spc="-1" strike="noStrike">
              <a:solidFill>
                <a:srgbClr val="000000"/>
              </a:solidFill>
              <a:latin typeface="Times New Roman"/>
            </a:endParaRPr>
          </a:p>
          <a:p>
            <a:pPr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En el marco señalado, los gobiernos juegan el rol limitado pero importante de facilitar las negociaciones.</a:t>
            </a:r>
            <a:endParaRPr b="0" lang="en-US" sz="2000" spc="-1" strike="noStrike">
              <a:solidFill>
                <a:srgbClr val="000000"/>
              </a:solidFill>
              <a:latin typeface="Times New Roman"/>
            </a:endParaRPr>
          </a:p>
        </p:txBody>
      </p:sp>
      <p:sp>
        <p:nvSpPr>
          <p:cNvPr id="57"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13:15:45Z</dcterms:created>
  <dc:creator>AyG</dc:creator>
  <dc:description/>
  <dc:language>en-US</dc:language>
  <cp:lastModifiedBy>AyG</cp:lastModifiedBy>
  <cp:lastPrinted>2001-08-21T17:32:10Z</cp:lastPrinted>
  <dcterms:modified xsi:type="dcterms:W3CDTF">2001-08-21T18:51:12Z</dcterms:modified>
  <cp:revision>58</cp:revision>
  <dc:subject/>
  <dc:title>Los principios</dc:title>
</cp:coreProperties>
</file>