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EF1E-1376-413F-A86A-2E7A36E2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837-32BD-400E-BF03-D48AB1E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BCCE-018A-476B-8F91-BB1D6539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3B1-2A37-42A2-A767-51E849B2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CBC-77D2-4A2F-9AC2-6A3D0F42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17D-2307-49F4-BA66-ED1878D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5F3-E33E-47F9-97A1-5ADBC1A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41B-3A33-47EE-AA03-9B1D2D9E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AEB-6925-4AF1-BCA1-51AD585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F30-9761-4627-A927-C32DB9E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85A-E92F-4E00-8DB1-08B1D754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DE35-E853-4198-803A-51419ED5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0314-CBAA-4DBB-8597-69BDDB529652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987640" y="299736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RANTIZAR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0" y="3860640"/>
            <a:ext cx="321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ociedad de Garantía Recíproca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32432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381720"/>
            <a:ext cx="3529080" cy="476280"/>
          </a:xfrm>
          <a:prstGeom prst="rect">
            <a:avLst/>
          </a:prstGeom>
          <a:gradFill rotWithShape="0">
            <a:gsLst>
              <a:gs pos="0">
                <a:srgbClr val="004b58"/>
              </a:gs>
              <a:gs pos="100000">
                <a:srgbClr val="024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FIDICOMISOS FINANCIEROS CON OFERTA PUBLICA REALIZADOS EN LOS ULTIMOS 12 MES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2920" y="1773360"/>
          <a:ext cx="8821800" cy="4497120"/>
        </p:xfrm>
        <a:graphic>
          <a:graphicData uri="http://schemas.openxmlformats.org/drawingml/2006/table">
            <a:tbl>
              <a:tblPr/>
              <a:tblGrid>
                <a:gridCol w="1117440"/>
                <a:gridCol w="1727280"/>
                <a:gridCol w="2016000"/>
                <a:gridCol w="1873440"/>
                <a:gridCol w="208764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e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y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Monto u$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ant. Product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echa integración V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oduc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5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/12/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o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04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85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0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echa Grue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I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/11/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o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7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/02/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oto, Soja y Maíz Pisingal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718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03280" y="2205000"/>
            <a:ext cx="5977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DEICOMISO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NANCIEROS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EN DESARROLL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00244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ffff66"/>
                </a:solidFill>
                <a:latin typeface="Arial"/>
              </a:rPr>
              <a:t>Productores 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secha F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ngorde de Novil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osecha Gru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im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Fru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rr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66"/>
                </a:solidFill>
                <a:latin typeface="Arial"/>
              </a:rPr>
              <a:t>Adquisición de bienes de capit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236000" y="6359400"/>
            <a:ext cx="1908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87640" y="2997360"/>
            <a:ext cx="424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ARANTIZAR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0" y="3860640"/>
            <a:ext cx="3211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ociedad de Garantía Recíproca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4324320" cy="1866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381720"/>
            <a:ext cx="3529080" cy="476280"/>
          </a:xfrm>
          <a:prstGeom prst="rect">
            <a:avLst/>
          </a:prstGeom>
          <a:gradFill rotWithShape="0">
            <a:gsLst>
              <a:gs pos="0">
                <a:srgbClr val="004b58"/>
              </a:gs>
              <a:gs pos="100000">
                <a:srgbClr val="024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63640" y="1916280"/>
            <a:ext cx="5256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SECUPYME V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63640" y="3176640"/>
            <a:ext cx="5256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FIDEICOMISO FINANCIER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260280"/>
            <a:ext cx="7993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FINANCIA A PYMES PRODUCTORES DE POROTO, SOJA Y MAIZ PISINGALLO DESDE EL PERIODO DE SIEMBRA HASTA LA COSECHA Y SU POSTERIOR INDUSTRIALIZACION Y COMERCIALIZACION EN EL EXTERIOR, A TRAVES DE UN EXPORTADOR HABITU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93080" y="6340320"/>
            <a:ext cx="19778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2960"/>
            <a:ext cx="7885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RGANIZADOR y OPERADOR TE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Garantizar S.G.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FIDUCIARI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anco de Valores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ESTRUCTURACION E IMPLEMENTACION COMER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Pereyra Zorraquín, Ichaso &amp; Aso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SESOR LEGAL DEL ORGANIZ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Estudio Alchouron, Beriso, Bradyalet &amp; Fernández Pela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6340320"/>
            <a:ext cx="19778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36360" y="333360"/>
            <a:ext cx="8135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ORGANIZADOR DE LA COLOCAC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anco de Valores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OLOCADORES PRINCIP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Nación Bursatil Sociedad de Bols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Mercado de Valores del Litoral S.A. y sus A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UDITORES ASESORES IMPOSI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Bértora &amp; Aso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CALIFICADORA DE RIES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Moody’s Latin Americ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AV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66"/>
                </a:solidFill>
                <a:latin typeface="Arial"/>
              </a:rPr>
              <a:t>Garantizar S.G.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4000" y="115920"/>
          <a:ext cx="8496000" cy="6378480"/>
        </p:xfrm>
        <a:graphic>
          <a:graphicData uri="http://schemas.openxmlformats.org/drawingml/2006/table">
            <a:tbl>
              <a:tblPr/>
              <a:tblGrid>
                <a:gridCol w="3749400"/>
                <a:gridCol w="4746600"/>
              </a:tblGrid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ULOS E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es representativos de deu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NOMINAL DE EM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HASTA VN u$s 2.671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ZO DE AMORTIZAC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0 días fecha de emisió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A DE INTE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,5% anual vencida (sobre un divisor de 360) pagadero sobre el saldo de capital en cada fecha de liquidación (4,15% anual según precio de emisió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O DE EM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1.8929  (Sobre la par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294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ENES FIDEICO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tras de cambio a la vista avaladas y aceptadas por Garantizar S.G.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s de cobro s/ boletos de compra – venta de cereales de poroto, soja y maiz pisingall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s s/ las cobranzas de futuras exportaciones cedidas por el exportado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garé librado por el exportador a favor del Fiduciario en el momento de recibir el producto comprometido en los boletos de compraven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7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LIFICACION DE TITULOS EMIT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“</a:t>
                      </a:r>
                      <a:r>
                        <a:rPr b="1" lang="es-MX" sz="1700" spc="-1" strike="noStrike">
                          <a:solidFill>
                            <a:srgbClr val="ffff66"/>
                          </a:solidFill>
                          <a:latin typeface="Verdana"/>
                        </a:rPr>
                        <a:t>A 1”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137240" y="460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404640"/>
          <a:ext cx="6994440" cy="5715000"/>
        </p:xfrm>
        <a:graphic>
          <a:graphicData uri="http://schemas.openxmlformats.org/drawingml/2006/table">
            <a:tbl>
              <a:tblPr/>
              <a:tblGrid>
                <a:gridCol w="3498840"/>
                <a:gridCol w="3495600"/>
              </a:tblGrid>
              <a:tr h="85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OR NOMINAL INTE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.N. u$s 2.671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TIZACION DE TITU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sa de Comercio de Buenos 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lsa de Comercio de Santa 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CHA DE INTEGR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de febrero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CHA DE ADQUISICIÓN DE LETRAS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 de febrero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YMES SELECCION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OR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erros S.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o Cremer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5800" y="6350040"/>
            <a:ext cx="194328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620640"/>
          <a:ext cx="8064360" cy="5645160"/>
        </p:xfrm>
        <a:graphic>
          <a:graphicData uri="http://schemas.openxmlformats.org/drawingml/2006/table">
            <a:tbl>
              <a:tblPr/>
              <a:tblGrid>
                <a:gridCol w="3558960"/>
                <a:gridCol w="4505400"/>
              </a:tblGrid>
              <a:tr h="64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ULTADO DE LA COLOCAC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TODO DE COLOC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licitación de tasa de interés sistema holandés (dutch auc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ERTAS TOTALES RECIB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r u$s 8.810.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O DE LA EMI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$s 2.671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CIO DE EMIS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1.892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SA DE INTERÉS LICIT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,15% An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cccccc"/>
                      </a:solidFill>
                    </a:lnL>
                    <a:lnR w="4320">
                      <a:solidFill>
                        <a:srgbClr val="cccccc"/>
                      </a:solidFill>
                    </a:lnR>
                    <a:lnT w="4320">
                      <a:solidFill>
                        <a:srgbClr val="cccccc"/>
                      </a:solidFill>
                    </a:lnT>
                    <a:lnB w="4320">
                      <a:solidFill>
                        <a:srgbClr val="cccc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ffffff"/>
                </a:solidFill>
                <a:latin typeface="Arial"/>
              </a:rPr>
              <a:t>UBICACIÓN GEOGRÁFICA DE LAS PYMES SELECCIONAD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236000" y="6378480"/>
            <a:ext cx="1834920" cy="479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1612800"/>
            <a:ext cx="756108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S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Juju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Buenos 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Catama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Córdob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ntidad de PyMes:</a:t>
            </a: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mporte Financiado: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ffff66"/>
                </a:solidFill>
                <a:latin typeface="Arial"/>
              </a:rPr>
              <a:t>u$s 2.671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14:21:11Z</dcterms:created>
  <dc:creator>Marcela Festa</dc:creator>
  <dc:description/>
  <dc:language>en-US</dc:language>
  <cp:lastModifiedBy>Dr. Marcelo Artana</cp:lastModifiedBy>
  <dcterms:modified xsi:type="dcterms:W3CDTF">2004-05-24T15:37:13Z</dcterms:modified>
  <cp:revision>161</cp:revision>
  <dc:subject/>
  <dc:title>Secupyme V</dc:title>
</cp:coreProperties>
</file>