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2D2-0921-4095-B98A-C51F5691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634-39C5-40DB-BD07-0271444E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C4A5-5E1C-4644-ACA5-77E09F57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6D0-F838-4AE9-B73A-70D7B546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351-1541-4F51-958B-93D31D5C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291-9785-4B92-B4E3-49D5EE67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11F-0C63-488D-A6E5-27AED05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D6A-03F4-4AEA-A750-4B3F3C77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58F-F726-41FA-BBCB-C621E578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9C9-AAAE-4DA3-9FBE-FE5B8244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03C-9DDB-4020-8524-9E45A0A2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EEA-6F6C-476B-9E4F-74E65D1E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FC77-91B9-4B8F-B3A8-FB9F19018ADB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87640" y="299736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RANTIZAR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0" y="3860640"/>
            <a:ext cx="3211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Sociedad de Garantía Recíproca</a:t>
            </a:r>
            <a:endParaRPr b="1" lang="en-US" sz="16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432432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381720"/>
            <a:ext cx="3529080" cy="476280"/>
          </a:xfrm>
          <a:prstGeom prst="rect">
            <a:avLst/>
          </a:prstGeom>
          <a:gradFill rotWithShape="0">
            <a:gsLst>
              <a:gs pos="0">
                <a:srgbClr val="004b58"/>
              </a:gs>
              <a:gs pos="100000">
                <a:srgbClr val="024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FIDICOMISOS FINANCIEROS CON OFERTA PUBLICA REALIZADOS EN LOS ULTIMOS 12 ME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2920" y="1773360"/>
          <a:ext cx="8821800" cy="4497120"/>
        </p:xfrm>
        <a:graphic>
          <a:graphicData uri="http://schemas.openxmlformats.org/drawingml/2006/table">
            <a:tbl>
              <a:tblPr/>
              <a:tblGrid>
                <a:gridCol w="1117440"/>
                <a:gridCol w="1727280"/>
                <a:gridCol w="2016000"/>
                <a:gridCol w="1873440"/>
                <a:gridCol w="208764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e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y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onto u$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ant. Product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echa integración V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duc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5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/12/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ro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/04/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o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85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0/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echa Grue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/11/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ro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71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/02/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oto, Soja y Maíz Pisingal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71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03280" y="2205000"/>
            <a:ext cx="5977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FIDEICOMISOS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FINANCIEROS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EN DESARROLL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00244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ff66"/>
                </a:solidFill>
                <a:latin typeface="Arial"/>
              </a:rPr>
              <a:t>Productores d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secha F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ngorde de Novil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secha Gru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im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ru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rr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66"/>
                </a:solidFill>
                <a:latin typeface="Arial"/>
              </a:rPr>
              <a:t>Adquisición de bienes de capit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236000" y="6359400"/>
            <a:ext cx="1908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987640" y="299736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RANTIZAR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0" y="3860640"/>
            <a:ext cx="3211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Sociedad de Garantía Recíproca</a:t>
            </a:r>
            <a:endParaRPr b="1" lang="en-US" sz="16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4324320" cy="1866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381720"/>
            <a:ext cx="3529080" cy="476280"/>
          </a:xfrm>
          <a:prstGeom prst="rect">
            <a:avLst/>
          </a:prstGeom>
          <a:gradFill rotWithShape="0">
            <a:gsLst>
              <a:gs pos="0">
                <a:srgbClr val="004b58"/>
              </a:gs>
              <a:gs pos="100000">
                <a:srgbClr val="024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63640" y="1916280"/>
            <a:ext cx="5256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SECUPYME V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63640" y="3176640"/>
            <a:ext cx="5256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FIDEICOMISO FINANCIER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260280"/>
            <a:ext cx="79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FINANCIA A PYMES PRODUCTORES DE POROTO, SOJA Y MAIZ PISINGALLO DESDE EL PERIODO DE SIEMBRA HASTA LA COSECHA Y SU POSTERIOR INDUSTRIALIZACION Y COMERCIALIZACION EN EL EXTERIOR, A TRAVES DE UN EXPORTADOR HABITU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93080" y="6340320"/>
            <a:ext cx="1977840" cy="5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2960"/>
            <a:ext cx="78850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ORGANIZADOR y OPERADOR TEC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Garantizar S.G.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FIDUCIARI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Banco de Valores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ESTRUCTURACION E IMPLEMENTACION COMER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Pereyra Zorraquín, Ichaso &amp; Aso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ASESOR LEGAL DEL ORGANIZ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Estudio Alchouron, Beriso, Bradyalet &amp; Fernández Pela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6340320"/>
            <a:ext cx="1977840" cy="5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36360" y="333360"/>
            <a:ext cx="81356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ORGANIZADOR DE LA COLOCAC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Banco de Valores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LOCADORES PRINCIP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Nación Bursatil Sociedad de Bolsa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Mercado de Valores del Litoral S.A. y sus Ag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AUDITORES ASESORES IMPOSI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Bértora &amp; Aso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ALIFICADORA DE RI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Moody’s Latin America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AV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Garantizar S.G.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4000" y="115920"/>
          <a:ext cx="8496000" cy="6378480"/>
        </p:xfrm>
        <a:graphic>
          <a:graphicData uri="http://schemas.openxmlformats.org/drawingml/2006/table">
            <a:tbl>
              <a:tblPr/>
              <a:tblGrid>
                <a:gridCol w="3749400"/>
                <a:gridCol w="4746600"/>
              </a:tblGrid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ULOS EMIT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es representativos de deu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 NOMINAL DE EM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 HASTA VN u$s 2.671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ZO DE AMORTIZAC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 días fecha de emisió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SA DE INTE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,5% anual vencida (sobre un divisor de 360) pagadero sobre el saldo de capital en cada fecha de liquidación (4,15% anual según precio de emisió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IO DE EM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1.8929  (Sobre la par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ENES FIDEICOMIT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tras de cambio a la vista avaladas y aceptadas por Garantizar S.G.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s de cobro s/ boletos de compra – venta de cereales de poroto, soja y maiz pisingallo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s s/ las cobranzas de futuras exportaciones cedidas por el exportado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garé librado por el exportador a favor del Fiduciario en el momento de recibir el producto comprometido en los boletos de compraven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LIFICACION DE TITULOS EMIT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“</a:t>
                      </a:r>
                      <a:r>
                        <a:rPr b="1" lang="es-MX" sz="17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 1”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137240" y="460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404640"/>
          <a:ext cx="6994440" cy="5715000"/>
        </p:xfrm>
        <a:graphic>
          <a:graphicData uri="http://schemas.openxmlformats.org/drawingml/2006/table">
            <a:tbl>
              <a:tblPr/>
              <a:tblGrid>
                <a:gridCol w="3498840"/>
                <a:gridCol w="3495600"/>
              </a:tblGrid>
              <a:tr h="85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 NOMINAL INTE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.N. u$s 2.67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TIZACION DE TITU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lsa de Comercio de Buenos 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lsa de Comercio de Santa 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CHA DE INTEGR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 de febrero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CHA DE ADQUISICIÓN DE LETRAS DE CAM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 de febrero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YMES SELECCION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OR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erros S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po Creme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5800" y="6350040"/>
            <a:ext cx="194328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620640"/>
          <a:ext cx="8064360" cy="5645160"/>
        </p:xfrm>
        <a:graphic>
          <a:graphicData uri="http://schemas.openxmlformats.org/drawingml/2006/table">
            <a:tbl>
              <a:tblPr/>
              <a:tblGrid>
                <a:gridCol w="3558960"/>
                <a:gridCol w="4505400"/>
              </a:tblGrid>
              <a:tr h="647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ULTADO DE LA COLOCAC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TODO DE COLOC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 licitación de tasa de interés sistema holandés (dutch auc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ERTAS TOTALES RECIBID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 u$s 8.810.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O DE LA EMI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$s 2.671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IO DE EMI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1.892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SA DE INTERÉS LICIT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15% An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ffffff"/>
                </a:solidFill>
                <a:latin typeface="Arial"/>
              </a:rPr>
              <a:t>UBICACIÓN GEOGRÁFICA DE LAS PYMES SELECCIONAD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612800"/>
            <a:ext cx="756108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Sa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Juju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Buenos 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Catama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Córdo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ntidad de PyMes:</a:t>
            </a: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 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mporte Financiado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u$s 2.671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9T14:21:11Z</dcterms:created>
  <dc:creator>Marcela Festa</dc:creator>
  <dc:description/>
  <dc:language>en-US</dc:language>
  <cp:lastModifiedBy>Dr. Marcelo Artana</cp:lastModifiedBy>
  <dcterms:modified xsi:type="dcterms:W3CDTF">2004-05-24T15:37:13Z</dcterms:modified>
  <cp:revision>161</cp:revision>
  <dc:subject/>
  <dc:title>Secupyme V</dc:title>
</cp:coreProperties>
</file>