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D9F9-5F87-4847-952C-3C63DB2E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9B91-B30E-45CE-91E2-FD2F00C9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B29A-91F6-4195-BC3C-9C9B6BB2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ADCE-CE06-434B-9B10-123AEE54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6F18-6B8C-4E5D-A62A-F35AFC10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FC99-03E9-4A91-99BD-D5E2F04B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62C-3E13-46B0-8EBA-6B972082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9582-AF2F-4EA3-8C20-11F3FF50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C7B-32B6-449A-AF59-6C90649C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E7C5-D9BA-42B6-8BF2-6A30F6C8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436D-E122-4325-9978-969A7BEC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2FD0-BB4C-4047-BC52-835275DA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3E1D-F4D5-4227-8BCE-43C34670F87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rimera Jornada sobre Mercado de Capitales</a:t>
            </a:r>
            <a:br>
              <a:rPr sz="40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turos, Opciones y Nuevos Instrumentos de Nego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món Altkorn Mo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tkorn@ciudad.com.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 de may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ituación en Latinoamé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BM&amp;F de San Pablo sigue creciendo y consolida su clearinghouse para negocios financieros, cambiarios, agropecuarios y sobre ac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xder de México, a punto de quebrar, se convierte luego en la segunda bolsa de derivados de la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bas tienen como principal producto subyacente a la tasa de interés de corto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guen muy de cerca los cambios e innovaciones de los mercados interna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ituación en Argent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mercado está segme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ltan produ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corporación de estructuras del O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enfrenta un nuevo proceso binario: la constitución de un gran mercado, con integridad financiera, liquidez y multiplicidad de productos, o la coexistencia de pequeñas unidades sin masa crí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inúa el riesgo de que el mercado de productos argentinos sea absorbido por alguna bolsa intern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Ventajas de tener un mercado de derivados lo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o de coberturas integrales para las empresas, sobre múltiples produ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dustria de servicios sofisticada, con grandes efectos multiplicadores sobre la economía real y sobre el sector financi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lida los procesos de entrada de capital, genera mayor rotación de recursos financieros internos, y provee de un marco de financiamiento anticícl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troalimenta al mercado de capitales lo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vee de mejora crediticia para el sector privado y públ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ndice de te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asificación de los productos deriv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istoria y evolución en los mercados interna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tintos productos para cubrir las necesidades de cobertura de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tuación actual en Latinoamérica y en la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jas de tener un mercado local de deriv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istintos tipos de Deriv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04880" y="2232000"/>
          <a:ext cx="7886520" cy="563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232000"/>
                    <a:ext cx="7886520" cy="56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Historia de los productos deriv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1848 se funda la Chicago Board of Trade (CB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 principio se negociaban sólo productos agríco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1903 son las primeras discusiones para armar una Clearinghouse centrali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1936 se crea la Commodity Exchange Authority, quien prohibe la negociación de opciones agrícolas por más de 50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1967 se devalúa la libra, que pasa de 2,80 a 2,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1968 la CBOT plantea la negociaci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ón del índice Dow Jones Industrial Average.  Fracasa en el int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71 cae el acuerdo de Bretton Woods.  El oro deja de venderse a $35 la onza.  Fin de los tipos de cambio fi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Historia de los productos deriv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Mayo de 1972.  La CME introduce los futuros sobre divi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74 la NYMEX lista su primer contrato sobre petról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75 comienza la negociación de futuros sobre oro, y la CBOT lanza el primer contrato mundial sobre tasas de interés (GNM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77 la CBOT habilita futuros sobre los T-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octubre de 1979 Paul Volcker anuncia que la Fed se focalizará en la oferta monetaria, no en la tasa de interés para bajar la inf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81 se lanza el Eurodollar, primer contrato de tasa de interés sin entrega fís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Historia de los productos deriv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82 se lista el futuro sobre S&amp;P 500 en C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84 se firma acuerdo entre la CME y la bolsa de Singapur (SIMEX): comienza la globalización de derivado.   También se autorizan las opciones agríco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87 la CME y Reuters anuncian el desarrollo de Globex (plataforma electrón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90 nace la bolsa de futuros de Alemania (DTB).  Dará luego lugar al Eurex, actual líder mund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97 la bolsa de Sydney decide eliminar totalmente la negociación a viva voz, mientras la CBOT abre el mayor piso de la hist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99 LIFFE cierra su piso y se vuelve 100% electrón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Situaciones rec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hicago y Frankfurt se pelean por el mercado mund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Se desarrollan los futuros energéticos y ambien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gue el proceso de fusión de bolsas y clearingho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inua la incorporación en bolsa de productos over the cou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negociación electrónica ganó la bata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gue creciendo el volumen negociado y la cantidad de produ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vez hay más productos estructu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Antes y ahora en los Deriv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ommod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oberturas si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Piso de 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Membres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oop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A viva 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on entrega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Ti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Ruedas o cor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Bol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uturos con ingeni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Manejo integral de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Negociación electró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Derechos de 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Sociedades for pro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asamient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Liquidación por di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Tic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P.C.´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.C.N.´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istintos productos para cubrir las necesidades empresar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s de interés de corto y largo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nedas y cross r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dices y subíndices bursá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si todos los commodities agrarios y pecu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ergía (petróleo, gas, electricida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enómenos de la naturaleza (lluvia, terremotos, temperatur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tintos indicadores de evolución de pre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oss entre inflación, tasa de interés y tipo de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20:07:31Z</dcterms:created>
  <dc:creator>x</dc:creator>
  <dc:description/>
  <dc:language>en-US</dc:language>
  <cp:lastModifiedBy>pagina</cp:lastModifiedBy>
  <dcterms:modified xsi:type="dcterms:W3CDTF">2004-05-26T13:29:01Z</dcterms:modified>
  <cp:revision>33</cp:revision>
  <dc:subject/>
  <dc:title>Seminario sobre Futuros y Opciones Herramientas financieras para el manejo empresario</dc:title>
</cp:coreProperties>
</file>