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601-6AA1-4B26-9A2B-A2F25A8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7C8-4B13-4DA9-9002-F73B000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64F-FDF6-4A37-BF52-B7E6C6F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B61-AD78-4D5F-AAE6-9D1DC15C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E02-A88E-43A4-B673-8CC0B6F0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81C-4E25-40D1-8545-550DC2D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49D-52CD-4528-9214-755CDCA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C25-C017-4033-AEE6-BBDBD360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F8D-EA8C-488F-B892-71A13D6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B45-D8A2-447F-9E1B-0876915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B4F-DDF2-48DB-A620-CE52782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341-1DE2-4D59-A8E8-DE53763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44C-6DB0-4195-998A-0C42B9B0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7924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924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009800"/>
            <a:ext cx="76197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verificarse un evento de incumplimiento en el pago del MTM diario MAE procede a utilizar las garantías que acordaron  las par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utilizarse las garantías se procede a bloquear al agente incumplidor hasta la reposición de las 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agente incumplidor debe reponer la garantía hasta las 12hs. del día hábil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la cancelación anticipada a volunt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7320" y="2286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4160"/>
            <a:ext cx="86868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Times New Roman"/>
              </a:rPr>
              <a:t>Disposiciones del BCRA</a:t>
            </a: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istros contables de las operaciones: Comunicación “A” 4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importe correspondiente al valor nocional del activo subyacente se registra en cuentas de orden. Los depósitos en la Cuenta OCT MAE Garantía se registran en cuentas patrimon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fectación de Activos en Garantía: Las Entidades deberán ajustarse a lo dispuesto en la Comunicación “A” 4083 y 4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Global Neta en moneda extranjera (PGN): Comunicación “A” 4135  si la PGN es - entran dentro del 30% de la RPC del mes anterior. Si es + el importe no puede superar el 30% anterior o los recursos propios líquidos, de los el menor e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raccionamiento de riesgo crediticio (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en función de la RPC)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graduación del crédito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( en función de la contraparte):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Comunicación “A”4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219320"/>
            <a:ext cx="586728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</a:rPr>
              <a:t>O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</a:rPr>
              <a:t>PERACI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C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OMPENSAD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T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r>
              <a:rPr b="0" lang="es-AR" sz="60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MA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534160" cy="9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rear un producto de cobertura exclusivamente para 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tidades financieras : Contratos de Divisas, Contra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asa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producto se asimila a los contratos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</a:rPr>
              <a:t>NDF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se negocia 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na fecha futura un contrato de divisa y se liquid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pensación en pesos la diferencia entre el 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ctado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el valor spot del activo subyacente sin entrega del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negociación es bilateral entre las entidade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l sistema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as entidad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371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"/>
            <a:ext cx="762012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Esquema bá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se negociacian contratos standariz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relaciones legales entre los participantes se realizan a través de la firma de un Acuerdo Marco bilateral que se registra en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puede trabajar con o sin garantía a voluntad de la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es y forma parte del Acuerdo M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registra en MAE los acuerdos de gara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ncelación anticipada por even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cumpl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icionalmente a los acuerdos de garantía se trabaj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 líneas de crédito que acuerdan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sistema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6280" y="879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762120"/>
            <a:ext cx="693432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CO LE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cuerdo Marco bilateral entre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gentes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lamento Operativo de OCT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trato de Fideicomiso para la cuent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duciaria de garantía y para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181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El Marco Legal está aprobado por el Banco Central de la República Argentina y la Comisión nacional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153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FUNCIONES DE MA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uministra el ámbito de negociación y registro de las operaciones de compra-venta a término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meses de plazo: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I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aliza el MTM diario de las posiciones bilaterales y multilaterales netas de las e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iquida diariamente la posición deudora o acreedora multilateral en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ministra las garantías que las entidades financieras pactaron bilat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unica a la contraparte, al resto del mercado y a las autoridades de contralor los eventos de incumpl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38188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ODELO OPER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ción por trading por pantallas ciega con verificación de línes de crédito y garantía b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una primera etapa se negociará el producto Contrato de Divisa ( dólares –euro-real) y se trabajará con  plazos correspondiente a tres settlements: mes corriente y los siguientes dos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Operación mínima de u$s 100.000 y múltiplos de u$s 10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de cada agente MAE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on line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acumulada en términos brutos y netos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228600"/>
            <a:ext cx="640080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K TO 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icing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l precio de cierre por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 la posición neta bilateral diaria de cada agente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neta multilateral di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go de los saldos deudores en la cuenta fiduciaria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ubiertos los saldos deudores MAE procede a transferir los fondos a los agentes con saldos netos acr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8382240" cy="61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operaciones no tienen garantía de liquidación de M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o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Garantías bilaterales entre los ag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trabajar sin garantías a riesgo de contra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garantías pueden depositarse antes de operar o por el neto operado al finalizar la rueda antes del vencimiento del MTM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2:44:40Z</dcterms:created>
  <dc:creator>..</dc:creator>
  <dc:description/>
  <dc:language>en-US</dc:language>
  <cp:lastModifiedBy>pagina</cp:lastModifiedBy>
  <dcterms:modified xsi:type="dcterms:W3CDTF">2004-05-26T13:29:50Z</dcterms:modified>
  <cp:revision>25</cp:revision>
  <dc:subject/>
  <dc:title>Sin título de diapositiva</dc:title>
</cp:coreProperties>
</file>