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6C42-91B3-461A-B45C-DD097805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D944-41D9-47CF-96F9-87B3769A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87CE-BE26-42E3-9EDC-92027CB9B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9677-39DD-4B5F-A2F4-8A4776E87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3C01-0064-45D3-989E-3B721A35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5354-BFEC-4FE8-ACAD-29461A4B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D8BE-6D87-44D4-8B65-B572CF4C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704E-81F5-43AB-9E57-CA1A0FCC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A370-6243-4A6B-96A6-AB9CE76A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7835-0139-4865-99F5-BB03B386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1B21-F1BD-4E6E-90F7-B121F09C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B644-8BB8-4418-B062-8E2F152F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334D-791C-4113-9E90-0F90665A1FB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ohen.com.ar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106668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DMINISTRACION DE CARTE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35053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INTRODUCCION A HERRAMIENTAS DISPONIBLES EN EL MERCADO ARGEN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58672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00"/>
                </a:solidFill>
                <a:latin typeface="Times New Roman"/>
              </a:rPr>
              <a:t>Expositor: Cdor. Alfredo C. Ferrari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893680" y="457200"/>
            <a:ext cx="283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NewRoman"/>
              </a:rPr>
              <a:t>Ventas en Cor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05720" y="3139920"/>
            <a:ext cx="653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3300"/>
                </a:solidFill>
                <a:latin typeface="TimesNewRoman,Bold"/>
              </a:rPr>
              <a:t>Negociación a Plazo del Indice Mer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22960" y="182880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NewRoman"/>
              </a:rPr>
              <a:t>CED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64120" y="4800600"/>
            <a:ext cx="598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NewRoman"/>
              </a:rPr>
              <a:t>Letras y Notas del BCRA lici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715080" cy="3333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419720" cy="389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6880" y="1828800"/>
            <a:ext cx="3638520" cy="1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362320" y="1828800"/>
            <a:ext cx="4281480" cy="3182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209680" y="685800"/>
            <a:ext cx="450540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734000" cy="3487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048120" y="762120"/>
            <a:ext cx="3085920" cy="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05120" y="10666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Links de interé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2438280"/>
            <a:ext cx="685800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Times New Roman"/>
              </a:rPr>
              <a:t>http://www.merval.sba.com.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Times New Roman"/>
              </a:rPr>
              <a:t>http://www.merval-indol.com.ar/index-indol.a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Times New Roman"/>
              </a:rPr>
              <a:t>http://www.iamc.sba.com.ar/informes/im_anuario_2003.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Times New Roman"/>
              </a:rPr>
              <a:t>http://www.merval-indol.com.ar/index-indol.a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Times New Roman"/>
              </a:rPr>
              <a:t>http://www.BCBA.SBA.COM.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Times New Roman"/>
              </a:rPr>
              <a:t>http://www.bolsar.com/principal/contenido.a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Times New Roman"/>
              </a:rPr>
              <a:t>http://www.garantizar.com.ar/home/index.htm</a:t>
            </a:r>
            <a:r>
              <a:rPr b="0" lang="es-MX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om.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cc33"/>
                </a:solidFill>
                <a:latin typeface="Times New Roman"/>
              </a:rPr>
              <a:t>www.cohen.com.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cc33"/>
                </a:solidFill>
                <a:latin typeface="Times New Roman"/>
              </a:rPr>
              <a:t>acferrarini@cohen.com.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N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ÍTULOS DE RENTA F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BLIGACIONES NEGOC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TROS VALORES CON COT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edears FCI Valores de cort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f31b5"/>
                </a:solidFill>
                <a:latin typeface="Times New Roman"/>
              </a:rPr>
              <a:t>EN PESOS, DÓLARES Y DÓLARES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981080" y="1676520"/>
            <a:ext cx="5220720" cy="3369960"/>
            <a:chOff x="1981080" y="1676520"/>
            <a:chExt cx="5220720" cy="3369960"/>
          </a:xfrm>
        </p:grpSpPr>
        <p:grpSp>
          <p:nvGrpSpPr>
            <p:cNvPr id="47" name=""/>
            <p:cNvGrpSpPr/>
            <p:nvPr/>
          </p:nvGrpSpPr>
          <p:grpSpPr>
            <a:xfrm>
              <a:off x="1990440" y="1684080"/>
              <a:ext cx="5199120" cy="3353400"/>
              <a:chOff x="1990440" y="1684080"/>
              <a:chExt cx="5199120" cy="335340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1990440" y="1684080"/>
                <a:ext cx="5199120" cy="991800"/>
                <a:chOff x="1990440" y="1684080"/>
                <a:chExt cx="5199120" cy="99180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1990440" y="1684080"/>
                  <a:ext cx="5199120" cy="991800"/>
                </a:xfrm>
                <a:prstGeom prst="rect">
                  <a:avLst/>
                </a:pr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Verdana"/>
                      <a:ea typeface="Times New Roman"/>
                    </a:rPr>
                    <a:t>CONTADO</a:t>
                  </a:r>
                  <a:r>
                    <a:rPr b="1" lang="en-US" sz="1400" spc="-1" strike="noStrike">
                      <a:solidFill>
                        <a:srgbClr val="ff3300"/>
                      </a:solidFill>
                      <a:latin typeface="Verdana"/>
                      <a:ea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1990440" y="1684080"/>
                  <a:ext cx="5199120" cy="99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1990440" y="2676240"/>
                <a:ext cx="1605240" cy="2361240"/>
                <a:chOff x="1990440" y="2676240"/>
                <a:chExt cx="1605240" cy="236124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1990440" y="2676240"/>
                  <a:ext cx="1605240" cy="23612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" name=""/>
                <p:cNvGrpSpPr/>
                <p:nvPr/>
              </p:nvGrpSpPr>
              <p:grpSpPr>
                <a:xfrm>
                  <a:off x="1990440" y="2676240"/>
                  <a:ext cx="1604520" cy="2360880"/>
                  <a:chOff x="1990440" y="2676240"/>
                  <a:chExt cx="1604520" cy="2360880"/>
                </a:xfrm>
              </p:grpSpPr>
              <p:sp>
                <p:nvSpPr>
                  <p:cNvPr id="54" name=""/>
                  <p:cNvSpPr/>
                  <p:nvPr/>
                </p:nvSpPr>
                <p:spPr>
                  <a:xfrm>
                    <a:off x="1990440" y="2676240"/>
                    <a:ext cx="1604520" cy="23608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cc3300"/>
                        </a:solidFill>
                        <a:latin typeface="Verdana"/>
                        <a:ea typeface="Times New Roman"/>
                      </a:rPr>
                      <a:t>PLAZ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1990440" y="2676240"/>
                    <a:ext cx="1604520" cy="2360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6" name=""/>
              <p:cNvGrpSpPr/>
              <p:nvPr/>
            </p:nvGrpSpPr>
            <p:grpSpPr>
              <a:xfrm>
                <a:off x="3596400" y="2676240"/>
                <a:ext cx="3593160" cy="2361240"/>
                <a:chOff x="3596400" y="2676240"/>
                <a:chExt cx="3593160" cy="236124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3596400" y="2676240"/>
                  <a:ext cx="3593160" cy="23612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" name=""/>
                <p:cNvGrpSpPr/>
                <p:nvPr/>
              </p:nvGrpSpPr>
              <p:grpSpPr>
                <a:xfrm>
                  <a:off x="3596400" y="2676240"/>
                  <a:ext cx="3592440" cy="2360880"/>
                  <a:chOff x="3596400" y="2676240"/>
                  <a:chExt cx="3592440" cy="236088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3596400" y="2676240"/>
                    <a:ext cx="3592440" cy="23608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3333ff"/>
                        </a:solidFill>
                        <a:latin typeface="Verdana"/>
                        <a:ea typeface="Times New Roman"/>
                      </a:rPr>
                      <a:t>PLAZO FIRME</a:t>
                    </a:r>
                    <a:br>
                      <a:rPr sz="2000"/>
                    </a:br>
                    <a:r>
                      <a:rPr b="0" lang="en-US" sz="2000" spc="-1" strike="noStrike">
                        <a:solidFill>
                          <a:srgbClr val="3333ff"/>
                        </a:solidFill>
                        <a:latin typeface="Verdana"/>
                        <a:ea typeface="Times New Roman"/>
                      </a:rPr>
                      <a:t>PASE</a:t>
                    </a:r>
                    <a:br>
                      <a:rPr sz="2000"/>
                    </a:br>
                    <a:r>
                      <a:rPr b="0" lang="en-US" sz="2000" spc="-1" strike="noStrike">
                        <a:solidFill>
                          <a:srgbClr val="3333ff"/>
                        </a:solidFill>
                        <a:latin typeface="Verdana"/>
                        <a:ea typeface="Times New Roman"/>
                      </a:rPr>
                      <a:t>CAUCION</a:t>
                    </a:r>
                    <a:br>
                      <a:rPr sz="2000"/>
                    </a:br>
                    <a:r>
                      <a:rPr b="0" lang="en-US" sz="2000" spc="-1" strike="noStrike">
                        <a:solidFill>
                          <a:srgbClr val="3333ff"/>
                        </a:solidFill>
                        <a:latin typeface="Verdana"/>
                        <a:ea typeface="Times New Roman"/>
                      </a:rPr>
                      <a:t>OPCIONES</a:t>
                    </a:r>
                    <a:br>
                      <a:rPr sz="2000"/>
                    </a:br>
                    <a:r>
                      <a:rPr b="0" lang="en-US" sz="2000" spc="-1" strike="noStrike">
                        <a:solidFill>
                          <a:srgbClr val="3333ff"/>
                        </a:solidFill>
                        <a:latin typeface="Verdana"/>
                        <a:ea typeface="Times New Roman"/>
                      </a:rPr>
                      <a:t>INDICES</a:t>
                    </a:r>
                    <a:br>
                      <a:rPr sz="2000"/>
                    </a:br>
                    <a:r>
                      <a:rPr b="0" lang="en-US" sz="2000" spc="-1" strike="noStrike">
                        <a:solidFill>
                          <a:srgbClr val="3333ff"/>
                        </a:solidFill>
                        <a:latin typeface="Verdana"/>
                        <a:ea typeface="Times New Roman"/>
                      </a:rPr>
                      <a:t>PRESTAMO DE VALORES</a:t>
                    </a:r>
                    <a:br>
                      <a:rPr sz="2000"/>
                    </a:br>
                    <a:r>
                      <a:rPr b="0" lang="en-US" sz="2000" spc="-1" strike="noStrike">
                        <a:solidFill>
                          <a:srgbClr val="3333ff"/>
                        </a:solidFill>
                        <a:latin typeface="Verdana"/>
                        <a:ea typeface="Times New Roman"/>
                      </a:rPr>
                      <a:t>VENTAS EN CORT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3596400" y="2676240"/>
                    <a:ext cx="3592440" cy="2360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61" name=""/>
            <p:cNvSpPr/>
            <p:nvPr/>
          </p:nvSpPr>
          <p:spPr>
            <a:xfrm>
              <a:off x="1981080" y="1676520"/>
              <a:ext cx="5220720" cy="33699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162920" cy="5113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66680" y="3505320"/>
            <a:ext cx="6019920" cy="380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33720" y="838080"/>
            <a:ext cx="4314600" cy="2475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200400" y="152280"/>
            <a:ext cx="2438280" cy="509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514600" y="3886200"/>
            <a:ext cx="3505320" cy="2749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200400" y="3505320"/>
            <a:ext cx="251460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8024760" cy="3564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752480" y="685800"/>
            <a:ext cx="561024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8001000" cy="3589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514600" y="914400"/>
            <a:ext cx="4876920" cy="3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828800" y="3429000"/>
            <a:ext cx="5151240" cy="1523880"/>
            <a:chOff x="1828800" y="3429000"/>
            <a:chExt cx="5151240" cy="1523880"/>
          </a:xfrm>
        </p:grpSpPr>
        <p:sp>
          <p:nvSpPr>
            <p:cNvPr id="74" name=""/>
            <p:cNvSpPr/>
            <p:nvPr/>
          </p:nvSpPr>
          <p:spPr>
            <a:xfrm>
              <a:off x="1828800" y="3429000"/>
              <a:ext cx="5151240" cy="152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1828800" y="3429000"/>
              <a:ext cx="5150880" cy="1310400"/>
              <a:chOff x="1828800" y="3429000"/>
              <a:chExt cx="5150880" cy="1310400"/>
            </a:xfrm>
          </p:grpSpPr>
          <p:sp>
            <p:nvSpPr>
              <p:cNvPr id="76" name=""/>
              <p:cNvSpPr/>
              <p:nvPr/>
            </p:nvSpPr>
            <p:spPr>
              <a:xfrm>
                <a:off x="1828800" y="3429000"/>
                <a:ext cx="5150880" cy="1310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828800" y="3429000"/>
                <a:ext cx="5150880" cy="106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3300"/>
                    </a:solidFill>
                    <a:latin typeface="Verdana"/>
                  </a:rPr>
                  <a:t>Negociación de Cheques GARANTIZADO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" name=""/>
          <p:cNvGrpSpPr/>
          <p:nvPr/>
        </p:nvGrpSpPr>
        <p:grpSpPr>
          <a:xfrm>
            <a:off x="1828800" y="838080"/>
            <a:ext cx="5151240" cy="1522080"/>
            <a:chOff x="1828800" y="838080"/>
            <a:chExt cx="5151240" cy="1522080"/>
          </a:xfrm>
        </p:grpSpPr>
        <p:sp>
          <p:nvSpPr>
            <p:cNvPr id="79" name=""/>
            <p:cNvSpPr/>
            <p:nvPr/>
          </p:nvSpPr>
          <p:spPr>
            <a:xfrm>
              <a:off x="1828800" y="838080"/>
              <a:ext cx="5151240" cy="152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1828800" y="838080"/>
              <a:ext cx="5150880" cy="1308960"/>
              <a:chOff x="1828800" y="838080"/>
              <a:chExt cx="5150880" cy="1308960"/>
            </a:xfrm>
          </p:grpSpPr>
          <p:sp>
            <p:nvSpPr>
              <p:cNvPr id="81" name=""/>
              <p:cNvSpPr/>
              <p:nvPr/>
            </p:nvSpPr>
            <p:spPr>
              <a:xfrm>
                <a:off x="1828800" y="838080"/>
                <a:ext cx="5150880" cy="130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828800" y="838080"/>
                <a:ext cx="5150880" cy="106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3300"/>
                    </a:solidFill>
                    <a:latin typeface="Verdana"/>
                  </a:rPr>
                  <a:t>Negociación de Cheques PATROCINADO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1752480" y="762120"/>
            <a:ext cx="5151240" cy="3993480"/>
            <a:chOff x="1752480" y="762120"/>
            <a:chExt cx="5151240" cy="3993480"/>
          </a:xfrm>
        </p:grpSpPr>
        <p:sp>
          <p:nvSpPr>
            <p:cNvPr id="84" name=""/>
            <p:cNvSpPr/>
            <p:nvPr/>
          </p:nvSpPr>
          <p:spPr>
            <a:xfrm>
              <a:off x="1752480" y="762120"/>
              <a:ext cx="5151240" cy="152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752480" y="762120"/>
              <a:ext cx="5150880" cy="3993480"/>
              <a:chOff x="1752480" y="762120"/>
              <a:chExt cx="5150880" cy="3993480"/>
            </a:xfrm>
          </p:grpSpPr>
          <p:sp>
            <p:nvSpPr>
              <p:cNvPr id="86" name=""/>
              <p:cNvSpPr/>
              <p:nvPr/>
            </p:nvSpPr>
            <p:spPr>
              <a:xfrm>
                <a:off x="1752480" y="762120"/>
                <a:ext cx="5150880" cy="1311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752480" y="762120"/>
                <a:ext cx="5150880" cy="399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3300"/>
                    </a:solidFill>
                    <a:latin typeface="Verdana"/>
                  </a:rPr>
                  <a:t>Garantizados</a:t>
                </a:r>
                <a:br>
                  <a:rPr sz="3200"/>
                </a:b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3300"/>
                    </a:solidFill>
                    <a:latin typeface="Verdana"/>
                  </a:rPr>
                  <a:t>SOCIEDAD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3300"/>
                    </a:solidFill>
                    <a:latin typeface="Verdana"/>
                  </a:rPr>
                  <a:t>DE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3300"/>
                    </a:solidFill>
                    <a:latin typeface="Verdana"/>
                  </a:rPr>
                  <a:t>GARANTIA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3300"/>
                    </a:solidFill>
                    <a:latin typeface="Verdana"/>
                  </a:rPr>
                  <a:t>RECIPROC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0T14:19:32Z</dcterms:created>
  <dc:creator>Cohen</dc:creator>
  <dc:description/>
  <dc:language>en-US</dc:language>
  <cp:lastModifiedBy>pagina</cp:lastModifiedBy>
  <dcterms:modified xsi:type="dcterms:W3CDTF">2004-05-26T13:32:07Z</dcterms:modified>
  <cp:revision>12</cp:revision>
  <dc:subject/>
  <dc:title>Presentación de PowerPoint</dc:title>
</cp:coreProperties>
</file>