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BD3-3B77-4290-B8BB-BB28B95E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310-84C2-468F-8260-FE43ED40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9A0-2F68-4612-BF95-AC439FB5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AF0-0C20-45A6-97C7-44F0F48B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9AB-F599-45DB-82E4-A6E11BAF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884-88E4-49F8-823B-AAADCF25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9CE-EAD7-4ED6-9305-3FF3FB4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87-722B-4D9E-BD2C-4BA12CF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D9E-6FA7-45DF-99D3-DFFF5230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CF-9BC5-42BF-8BA0-E0371E3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0AD-865B-4321-8AF5-E7E55BA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4C2-88E1-4DCC-8EE0-E938B68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6BFC-9837-4F3D-B88F-2FA1223F9B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hen.com.a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066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MINISTRACION DE CART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505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NTRODUCCION A HERRAMIENTAS DISPONIBLES EN EL MERCAD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867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Expositor: Cdor. Alfredo C. Ferrar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3680" y="45720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Ventas en C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5720" y="31399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TimesNewRoman,Bold"/>
              </a:rPr>
              <a:t>Negociación a Plazo del Indice M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2960" y="182880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4120" y="480060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Letras y Notas del BCRA li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15080" cy="33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419720" cy="38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1828800"/>
            <a:ext cx="363852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2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5054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34000" cy="348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762120"/>
            <a:ext cx="30859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1066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nks de inter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438280"/>
            <a:ext cx="6858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.sba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iamc.sba.com.ar/informes/im_anuario_2003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CBA.SBA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olsar.com/principal/contenido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garantizar.com.ar/home/index.htm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www.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acferrarini@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ÍTULOS DE RENTA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VALORES CON COT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dears FCI Valores de cort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31b5"/>
                </a:solidFill>
                <a:latin typeface="Times New Roman"/>
              </a:rPr>
              <a:t>EN PESOS, DÓLARES Y DÓLARES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981080" y="1676520"/>
            <a:ext cx="5220720" cy="3369960"/>
            <a:chOff x="1981080" y="1676520"/>
            <a:chExt cx="5220720" cy="3369960"/>
          </a:xfrm>
        </p:grpSpPr>
        <p:grpSp>
          <p:nvGrpSpPr>
            <p:cNvPr id="47" name=""/>
            <p:cNvGrpSpPr/>
            <p:nvPr/>
          </p:nvGrpSpPr>
          <p:grpSpPr>
            <a:xfrm>
              <a:off x="1990440" y="1684080"/>
              <a:ext cx="5199120" cy="3353400"/>
              <a:chOff x="1990440" y="1684080"/>
              <a:chExt cx="5199120" cy="33534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990440" y="1684080"/>
                <a:ext cx="5199120" cy="991800"/>
                <a:chOff x="1990440" y="1684080"/>
                <a:chExt cx="5199120" cy="991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CONTADO</a:t>
                  </a:r>
                  <a:r>
                    <a:rPr b="1" lang="en-US" sz="14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990440" y="2676240"/>
                <a:ext cx="1605240" cy="2361240"/>
                <a:chOff x="1990440" y="2676240"/>
                <a:chExt cx="1605240" cy="2361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990440" y="2676240"/>
                  <a:ext cx="1605240" cy="2361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1990440" y="2676240"/>
                  <a:ext cx="1604520" cy="2360880"/>
                  <a:chOff x="1990440" y="2676240"/>
                  <a:chExt cx="1604520" cy="23608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cc3300"/>
                        </a:solidFill>
                        <a:latin typeface="Verdana"/>
                        <a:ea typeface="Times New Roman"/>
                      </a:rPr>
                      <a:t>PLAZ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" name=""/>
              <p:cNvGrpSpPr/>
              <p:nvPr/>
            </p:nvGrpSpPr>
            <p:grpSpPr>
              <a:xfrm>
                <a:off x="3596400" y="2676240"/>
                <a:ext cx="3593160" cy="2361240"/>
                <a:chOff x="3596400" y="2676240"/>
                <a:chExt cx="3593160" cy="23612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596400" y="2676240"/>
                  <a:ext cx="3593160" cy="2361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96400" y="2676240"/>
                  <a:ext cx="3592440" cy="2360880"/>
                  <a:chOff x="3596400" y="2676240"/>
                  <a:chExt cx="3592440" cy="23608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LAZO FIRM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AS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CAUCION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OPCION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INDIC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RESTAMO DE VALOR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VENTAS EN COR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" name=""/>
            <p:cNvSpPr/>
            <p:nvPr/>
          </p:nvSpPr>
          <p:spPr>
            <a:xfrm>
              <a:off x="1981080" y="1676520"/>
              <a:ext cx="5220720" cy="3369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505320"/>
            <a:ext cx="60199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314600" cy="247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438280" cy="50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50532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00400" y="3505320"/>
            <a:ext cx="251460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024760" cy="35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6102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01000" cy="358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8769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28800" y="3429000"/>
            <a:ext cx="5151240" cy="1523880"/>
            <a:chOff x="1828800" y="3429000"/>
            <a:chExt cx="5151240" cy="1523880"/>
          </a:xfrm>
        </p:grpSpPr>
        <p:sp>
          <p:nvSpPr>
            <p:cNvPr id="74" name=""/>
            <p:cNvSpPr/>
            <p:nvPr/>
          </p:nvSpPr>
          <p:spPr>
            <a:xfrm>
              <a:off x="1828800" y="3429000"/>
              <a:ext cx="51512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828800" y="3429000"/>
              <a:ext cx="5150880" cy="1310400"/>
              <a:chOff x="1828800" y="3429000"/>
              <a:chExt cx="5150880" cy="1310400"/>
            </a:xfrm>
          </p:grpSpPr>
          <p:sp>
            <p:nvSpPr>
              <p:cNvPr id="76" name=""/>
              <p:cNvSpPr/>
              <p:nvPr/>
            </p:nvSpPr>
            <p:spPr>
              <a:xfrm>
                <a:off x="1828800" y="3429000"/>
                <a:ext cx="5150880" cy="131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28800" y="342900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GARANTIZ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828800" y="838080"/>
            <a:ext cx="5151240" cy="1522080"/>
            <a:chOff x="1828800" y="838080"/>
            <a:chExt cx="5151240" cy="1522080"/>
          </a:xfrm>
        </p:grpSpPr>
        <p:sp>
          <p:nvSpPr>
            <p:cNvPr id="79" name=""/>
            <p:cNvSpPr/>
            <p:nvPr/>
          </p:nvSpPr>
          <p:spPr>
            <a:xfrm>
              <a:off x="1828800" y="838080"/>
              <a:ext cx="5151240" cy="152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828800" y="838080"/>
              <a:ext cx="5150880" cy="1308960"/>
              <a:chOff x="1828800" y="838080"/>
              <a:chExt cx="5150880" cy="1308960"/>
            </a:xfrm>
          </p:grpSpPr>
          <p:sp>
            <p:nvSpPr>
              <p:cNvPr id="81" name=""/>
              <p:cNvSpPr/>
              <p:nvPr/>
            </p:nvSpPr>
            <p:spPr>
              <a:xfrm>
                <a:off x="1828800" y="838080"/>
                <a:ext cx="5150880" cy="130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83808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PATROCIN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752480" y="762120"/>
            <a:ext cx="5151240" cy="3993480"/>
            <a:chOff x="1752480" y="762120"/>
            <a:chExt cx="5151240" cy="3993480"/>
          </a:xfrm>
        </p:grpSpPr>
        <p:sp>
          <p:nvSpPr>
            <p:cNvPr id="84" name=""/>
            <p:cNvSpPr/>
            <p:nvPr/>
          </p:nvSpPr>
          <p:spPr>
            <a:xfrm>
              <a:off x="1752480" y="762120"/>
              <a:ext cx="515124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752480" y="762120"/>
              <a:ext cx="5150880" cy="3993480"/>
              <a:chOff x="1752480" y="762120"/>
              <a:chExt cx="5150880" cy="3993480"/>
            </a:xfrm>
          </p:grpSpPr>
          <p:sp>
            <p:nvSpPr>
              <p:cNvPr id="86" name=""/>
              <p:cNvSpPr/>
              <p:nvPr/>
            </p:nvSpPr>
            <p:spPr>
              <a:xfrm>
                <a:off x="1752480" y="762120"/>
                <a:ext cx="5150880" cy="131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52480" y="762120"/>
                <a:ext cx="5150880" cy="399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zados</a:t>
                </a:r>
                <a:br>
                  <a:rPr sz="3200"/>
                </a:b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SOCIEDA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DE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A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RECIPRO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4:19:32Z</dcterms:created>
  <dc:creator>Cohen</dc:creator>
  <dc:description/>
  <dc:language>en-US</dc:language>
  <cp:lastModifiedBy>pagina</cp:lastModifiedBy>
  <dcterms:modified xsi:type="dcterms:W3CDTF">2004-05-26T13:32:07Z</dcterms:modified>
  <cp:revision>12</cp:revision>
  <dc:subject/>
  <dc:title>Presentación de PowerPoint</dc:title>
</cp:coreProperties>
</file>