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870-D011-4E2F-8D04-F0DAA125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2B4-99EF-4C43-BB01-F1AC690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D1F-806C-416C-86AD-C242CC34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D42-6FA4-4B15-A1E3-0EAD8C9A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1CB-4B6F-4900-B84B-F54B150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2D23-97C8-414E-B851-B81D606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4E0C-9BE3-4334-AD0B-6F3ACE7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700-DA02-47BF-95D2-0C70898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37DD-02DA-4FC8-915B-388DE76D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02A8-523D-4CA7-8717-42BBC75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FA9-1953-4D3E-A2AB-9A2C80E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986-5CC2-4B84-AE16-78E3782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4A9-9D0C-43EF-A7F6-8317ACB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5BFC-E8ED-4347-B3C7-1FA7F46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9CE0-C77A-4A07-BF7E-19A969B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291-7A65-4C07-9228-5E32FCE8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919B-07F4-4416-8936-CEA2889E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52B-AECD-41A8-9856-16AAEFD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1FE-8E48-4248-8C8B-7AC69FA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652-2283-4095-8C01-14D89F2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C5E-A1E3-4232-A4FB-DC57CE5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AB0-5C13-4D2B-A0C6-9FA47D4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B08-6BC1-4E31-BF4D-E48505F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8B0-DEA8-4E2E-9984-1D135A9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DD7A-40A4-4F3C-999F-355F2FB13107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B298-0FC6-44F4-A653-14E08E9424D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uevas estrategias y oportunidades de financiamient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rcado de capit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s teóricas para la securitización de activos ilíquid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sset backed secur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y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ss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 garant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 con recurso limi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5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ón negoci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duci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ndos Comunes Cerr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99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76960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ideicomi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efinición Legal ( Art. 1 Ley 24.44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Habrá fideicomiso cuando una persona (fiduciante) transmite uno o más bienes en propiedad fiduciaria a otra parte (fiduciario) quien se obliga a ejercerla en beneficio de quien se designe en el acto respectivo (beneficiario), y a transmitirlo, al cumplimiento de un plazo o condición, al fiduciante, al beneficiario o al fideicomis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7696080" y="62485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asificación de Fideicomis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2133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existencia o no de titulización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omú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iduciarios Financieros: Autorizados por CNV ( Registro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atrimonio: $ 1 mill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obje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garant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35712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71" h="21600">
                <a:moveTo>
                  <a:pt x="0" y="0"/>
                </a:moveTo>
                <a:lnTo>
                  <a:pt x="46071" y="0"/>
                </a:lnTo>
                <a:lnTo>
                  <a:pt x="46071" y="21600"/>
                </a:lnTo>
                <a:lnTo>
                  <a:pt x="0" y="21600"/>
                </a:lnTo>
                <a:close/>
              </a:path>
              <a:path fill="lightenLess" w="46071" h="21600">
                <a:moveTo>
                  <a:pt x="0" y="0"/>
                </a:moveTo>
                <a:lnTo>
                  <a:pt x="46071" y="0"/>
                </a:lnTo>
                <a:lnTo>
                  <a:pt x="44671" y="1400"/>
                </a:lnTo>
                <a:lnTo>
                  <a:pt x="1400" y="1400"/>
                </a:lnTo>
                <a:close/>
              </a:path>
              <a:path fill="darken" w="46071" h="21600">
                <a:moveTo>
                  <a:pt x="46071" y="0"/>
                </a:moveTo>
                <a:lnTo>
                  <a:pt x="46071" y="21600"/>
                </a:lnTo>
                <a:lnTo>
                  <a:pt x="44671" y="20200"/>
                </a:lnTo>
                <a:lnTo>
                  <a:pt x="44671" y="1400"/>
                </a:lnTo>
                <a:close/>
              </a:path>
              <a:path fill="darkenLess" w="46071" h="21600">
                <a:moveTo>
                  <a:pt x="4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71" y="20200"/>
                </a:lnTo>
                <a:close/>
              </a:path>
              <a:path fill="lighten" w="4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71" h="21600">
                <a:moveTo>
                  <a:pt x="16029" y="3794"/>
                </a:moveTo>
                <a:lnTo>
                  <a:pt x="30042" y="10800"/>
                </a:lnTo>
                <a:lnTo>
                  <a:pt x="16029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3200400"/>
            <a:ext cx="175248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Fiduciante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3124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320040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du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30481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124080"/>
            <a:ext cx="2286000" cy="38124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9144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Introducción a una Operación Estructurada con FF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7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I; FFF; P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8568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D y/o 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828800"/>
            <a:ext cx="297180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Originante o generador d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los activos ilíqu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1600200" y="4267080"/>
            <a:ext cx="1905120" cy="53352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028480" y="41904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514600"/>
            <a:ext cx="0" cy="6094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819520"/>
            <a:ext cx="0" cy="4572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2057400"/>
            <a:ext cx="403884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8080" y="1981080"/>
            <a:ext cx="394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Ingeniería para transformarlos  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4572000"/>
            <a:ext cx="1905120" cy="15238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deicomis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idu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Mecanismos de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redit Enhanc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leg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uctura leg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obrecolater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ubordinació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ondo de reserva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n reserva para reemplazo por mo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x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Garantías de terceros: SGR; Fondos de Garant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rtas de crédi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eguros ( Hipotecas: ley 24.626 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licación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yectos de Invers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286000"/>
            <a:ext cx="1981080" cy="1828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362320"/>
            <a:ext cx="198108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2209680"/>
            <a:ext cx="2743200" cy="1981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CC/ 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plot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iversific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209680"/>
            <a:ext cx="2286000" cy="533520"/>
          </a:xfrm>
          <a:custGeom>
            <a:avLst/>
            <a:gdLst>
              <a:gd name="textAreaLeft" fmla="*/ 404640 w 2286000"/>
              <a:gd name="textAreaRight" fmla="*/ 1652760 w 228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11790" y="0"/>
                </a:lnTo>
                <a:arcTo wR="7650" hR="21600" stAng="-5400000" swAng="2702979"/>
                <a:lnTo>
                  <a:pt x="21162" y="14400"/>
                </a:lnTo>
                <a:lnTo>
                  <a:pt x="17370" y="21600"/>
                </a:lnTo>
                <a:lnTo>
                  <a:pt x="12702" y="14400"/>
                </a:lnTo>
                <a:lnTo>
                  <a:pt x="14862" y="14400"/>
                </a:lnTo>
                <a:arcTo wR="7650" hR="21600" stAng="-2697021" swAng="-2361886"/>
                <a:lnTo>
                  <a:pt x="9720" y="806"/>
                </a:lnTo>
                <a:arcTo wR="7650" hR="21600" stAng="-5741093" swAng="-505890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341093"/>
                <a:lnTo>
                  <a:pt x="9720" y="806"/>
                </a:lnTo>
                <a:arcTo wR="7650" hR="21600" stAng="-5741093" swAng="-5058907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74320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27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amp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ienes de uso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38680" y="1905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ul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negocio 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4191120"/>
            <a:ext cx="34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ertificados de participación en el nego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523160" y="3581280"/>
            <a:ext cx="2057400" cy="60984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7600" y="380880"/>
            <a:ext cx="21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YECT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715000" y="380880"/>
            <a:ext cx="322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r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nader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mobili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estal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2670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Participantes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: fiduciarios, operadores, organizadores, agentes colocadores, asesores legales, auditores externos, asesores impositivos, CNV, mercados autoregulados, calificador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ey 24441 ( modifica a la 24083 de FCI) ...Fondos con objetos especiales de inver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 14 de la Res. 271/97 de la CNV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ueden ser comprados por AFJP. Presentación del plan de inversión, producción y estrategia, antecedentes técnicos y empresarios de los participantes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21 decreto 133/99 de marzo´99 : definición de FID sobre la base legal de un FCC o 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tivo: instrumento moderno para lograr un esquema de financiación eficiente para impulsar procesos de invers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ntajas: posibilita potenciar la producción y rentabilidad de productores independientes; libera el proyecto de la carga por financiamiento; permite hacer líquida la inversión  antes de la maduración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ropietario (fiduciant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ede los activos al FID por  un tiempo determin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ranscurrido el plazo recupera el pleno dominio de lo ced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cibe Certificados de Participación de una de las Series, a través de los cuales participa de los beneficios del patrimonio fideicomit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733920"/>
            <a:ext cx="2286000" cy="533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termedi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85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1523880"/>
            <a:ext cx="2819520" cy="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124080" y="2819520"/>
            <a:ext cx="2819520" cy="1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000" y="103176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lujo de fon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3160" y="27846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308480"/>
            <a:ext cx="289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434340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426708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3560" y="5222880"/>
            <a:ext cx="2149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iesg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emis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 la emis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5562720"/>
            <a:ext cx="3504960" cy="14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5562720" y="2895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6019920" y="4495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381880" y="56386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2895480"/>
            <a:ext cx="2667240" cy="15242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rticula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stituciona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FJP, FC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ías de Segur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5800" y="2819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46188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mi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s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ntidades Financier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rimera Líne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y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rcado de Capitales y Econom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duciari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arrollo del fondo ( regl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tularidad fiduciaria de los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jecuta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ministra los bie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dos contables y valuación de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ción actualiza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icio de caj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stigio profes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versores (Beneficiarios)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radores de los certificados de particip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tienen seguridad y liquidez al participar en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ienen una participación proporcional en las utilidades a través de los certificados  de particip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ficadora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alificación trimest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ex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D: pa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viabilidad del proy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udio de comer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quema operativo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F o FC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acción del prosp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torización 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lif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asificación de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Primari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ítulos de deuda privada ( 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ucturados: FCC y F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3366"/>
                </a:solidFill>
                <a:latin typeface="Times New Roman"/>
              </a:rPr>
              <a:t>Derivad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utu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or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Swa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2670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5756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105520"/>
            <a:ext cx="3200400" cy="761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638680"/>
            <a:ext cx="2438280" cy="533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4952880"/>
            <a:ext cx="33526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bertura de riesg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idades especia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esoramiento integ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locación de los títulos val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67160" y="2214360"/>
            <a:ext cx="4213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goci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ursátiles o públ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xtrabursátiles (OT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3429000" y="56386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ratos de coloc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 stand b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est effo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620120" y="59436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strumento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419112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267080"/>
            <a:ext cx="1981440" cy="3812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50657"/>
                <a:lnTo>
                  <a:pt x="21478" y="17730"/>
                </a:lnTo>
                <a:lnTo>
                  <a:pt x="17280" y="21600"/>
                </a:lnTo>
                <a:lnTo>
                  <a:pt x="12838" y="17730"/>
                </a:lnTo>
                <a:lnTo>
                  <a:pt x="14998" y="17730"/>
                </a:lnTo>
                <a:arcTo wR="7560" hR="21600" stAng="-1649343" swAng="-339322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442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Clásicas: “on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62520" y="2664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601992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I, FFF,P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914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N; Accion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1752480" y="5562000"/>
            <a:ext cx="1981440" cy="60948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104800" y="5410080"/>
            <a:ext cx="1981080" cy="6098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0020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494034"/>
                <a:lnTo>
                  <a:pt x="21428" y="17025"/>
                </a:lnTo>
                <a:lnTo>
                  <a:pt x="17280" y="21600"/>
                </a:lnTo>
                <a:lnTo>
                  <a:pt x="12788" y="17025"/>
                </a:lnTo>
                <a:lnTo>
                  <a:pt x="14948" y="17025"/>
                </a:lnTo>
                <a:arcTo wR="7560" hR="21600" stAng="-1905966" swAng="-3136599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276000" y="25902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8036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35812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Títulos de deuda; Certificados de Particip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800" y="3200400"/>
            <a:ext cx="46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Estructuradas: “off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777240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dos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Emisiones off balance sheet</a:t>
            </a: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itulización: concep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nsformación de activos inmovilizados en activos líqui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lujo de fondos predecible; Estandarización de origen, administración y recupero; Análisis de flujo de información  (seguimiento después de la colocació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reales (recursos forestales, mineros, cultivos, ganado, inmuebl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financieros (hipotecas, prendas, facturas, contratos de suministro, warrants, contratos de leasing, letras de cambio, cupones de tarjetas de crédito, título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20T07:06:24Z</dcterms:created>
  <dc:creator>MERVAL</dc:creator>
  <dc:description/>
  <dc:language>en-US</dc:language>
  <cp:lastModifiedBy>pagina</cp:lastModifiedBy>
  <cp:lastPrinted>2001-10-01T20:28:03Z</cp:lastPrinted>
  <dcterms:modified xsi:type="dcterms:W3CDTF">2004-05-26T13:31:07Z</dcterms:modified>
  <cp:revision>53</cp:revision>
  <dc:subject/>
  <dc:title>DINAMICA DEL  MERCADO DE CAPITALES</dc:title>
</cp:coreProperties>
</file>