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14A0-6C80-4A7F-AF02-CE2B2C106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488A-A01D-4720-8E41-10C66690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81DB-99A3-47C3-81A4-7A30021CD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8E51-7631-4266-8BF9-099E1AF47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60DC-30F6-4536-823F-C3FC5589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5BEA-7DCA-455A-9B11-441CC6C9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2E7D-C6F2-4E4D-ADF0-4A6C8BE3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F66F-2738-4601-A46E-57BA868A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2E6C-17C9-4DA7-B662-42CC13C4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3FB3-3232-4FCA-830D-5E77A599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B7C5-408C-445D-96CF-CB1AB3DE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81DE-60A8-4977-B9A7-2CA40014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4E89-1EF5-43DE-8173-C0C4E4CD03CC}" type="slidenum">
              <a:rPr b="0" lang="es-A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6600" y="838080"/>
            <a:ext cx="793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UNIVERSIDAD NACIONAL DEL S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44520" y="2787480"/>
            <a:ext cx="48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Lic. FABIO ROTS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9200" y="4572000"/>
            <a:ext cx="50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frotstein@uns.edu.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A932-0190-4CE2-B146-E0D5232201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4000" y="640080"/>
            <a:ext cx="849780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Tahoma"/>
              </a:rPr>
              <a:t>Según HAX y MAJLUF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“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La estrategia </a:t>
            </a:r>
            <a:r>
              <a:rPr b="1" lang="es-AR" sz="1800" spc="-1" strike="noStrike">
                <a:solidFill>
                  <a:srgbClr val="0000cc"/>
                </a:solidFill>
                <a:latin typeface="Tahoma"/>
              </a:rPr>
              <a:t>[en general]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3300"/>
                </a:solidFill>
                <a:latin typeface="Tahoma"/>
              </a:rPr>
              <a:t>1. 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Determina y revela el propósito organizativo en términos de objetivos a largo plazo, programas de acción y prioridades de asignación de recur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3300"/>
                </a:solidFill>
                <a:latin typeface="Tahoma"/>
              </a:rPr>
              <a:t>2.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Selecciona los negocios en los que participa o debe participar la organ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DC86-126A-446C-909F-0813F9CBBE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574920"/>
            <a:ext cx="849780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3300"/>
                </a:solidFill>
                <a:latin typeface="Tahoma"/>
              </a:rPr>
              <a:t>3.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Intenta alcanzar una ventaja sostenible de largo plazo en cada uno de sus negocios, respondiendo en forma apropiada a las oportunidades y amenazas provenientes del medio en el que actúa la empresa y a los puntos fuertes y débiles de la organ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3300"/>
                </a:solidFill>
                <a:latin typeface="Tahoma"/>
              </a:rPr>
              <a:t>4.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Identifica las tareas de gestión específicas en los niveles corporativos, de negocios y fun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7FA8-D9F0-48D1-B3DA-C8ABD54815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0920" y="939600"/>
            <a:ext cx="86421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3300"/>
                </a:solidFill>
                <a:latin typeface="Tahoma"/>
              </a:rPr>
              <a:t>5.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Constituye un patrón de decisiones unificador e integ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3300"/>
                </a:solidFill>
                <a:latin typeface="Tahoma"/>
              </a:rPr>
              <a:t>6.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Define la naturaleza de las contribuciones económicas y no económicas que pretende hacer a sus “stakeholders”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3300"/>
                </a:solidFill>
                <a:latin typeface="Tahoma"/>
              </a:rPr>
              <a:t>7.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Es una expresión del propósito estratégico de la organ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F737-0E71-4E79-8840-8D46FE10D5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0920" y="789120"/>
            <a:ext cx="8642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3300"/>
                </a:solidFill>
                <a:latin typeface="Tahoma"/>
              </a:rPr>
              <a:t>8.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Apunta a desarrollar y fomentar las competencias centrales de la emp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3300"/>
                </a:solidFill>
                <a:latin typeface="Tahoma"/>
              </a:rPr>
              <a:t>9.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Es un medio para invertir selectivamente en recursos tangibles e intangibles a fin de desarrollar las capacidades que garanticen una ventaja competitiva sostenibl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2B57-D8EB-4553-B18A-19B6A53234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154600" y="549360"/>
            <a:ext cx="473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CARACTERÍSTICAS DE 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ESTRATEGIAS FINANCIERAS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2130120"/>
            <a:ext cx="8642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ff3300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S ESTRATEGIAS DEBEN ESTAR RELACIONADAS CON LOS OBJETIVOS A LARGO PLAZO DE UNA ORGANIZACIÓN. POR LO TANTO, SE REQUIERE UNA VISIÓN DE FUT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CAB6-EE85-4DB0-B3D3-64DEE2EB74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26240" y="549360"/>
            <a:ext cx="47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ESTRATEGIAS FINANCIERAS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1624320"/>
            <a:ext cx="8642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S ESTRATEGIAS DEBEN CREAR VALOR, LO QUE IMPLICA EL CRECIMIENTO DE LAS ORGANIZACIONES. EL CRECIMIENTO IMPLICA MAYORES NECESIDADES DE CAP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45CB-F54A-4A74-85E5-E3D896B942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0920" y="1557360"/>
            <a:ext cx="864216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SzPct val="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L CRECIMIENTO REQUIERE CREATIVIDAD E INNOVACIÓN; AL MENOS EN ALGÚN SENTIDO: FINANZAS, MARKETING, PRODUCCIÓN, PRODUCTOS Y/O SERVICIOS, TECNOLOGÍA DE LOS PRODUCTOS, DE LOS PROCESOS Y DE LA INFORMACIÓN, ADMINISTRACIÓN DEL CAPITAL INTELECTUAL, ETC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79640" y="54936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ESTRATEGIAS FINANCIERAS 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F2FB-3E12-4DC8-A593-CE6CB4CBE8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907920"/>
            <a:ext cx="8642520" cy="52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buClr>
                <a:srgbClr val="ff3300"/>
              </a:buClr>
              <a:buSzPct val="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 INNOVACIÓN Y LA CREATIVIDAD NO SIEMPRE REQUIEREN DE LA 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INVENCIÓN DE LA PÓLVORA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 PUEDEN SER MUCHAS VECES COMO LA PIMIENTA: UNA PEQUEÑA DOSIS ES SUFICIENTE PARA REALZAR Y SABORIZAR LAS COMIDAS. LA MÁS DE LAS VECES, TAMPOCO REQUIEREN 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SENTARSE A PENSAR HASTA QUE SE PRENDA LA LAMPARITA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, SINO MÁS BIEN NECESITAN DE UN ESTUDIO SISTEMÁTICO DE LOS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79640" y="2602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ESTRATEGIAS FINANCIERAS 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01E1-2FD8-47B4-80D9-E4FEA636F7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9280" y="1343160"/>
            <a:ext cx="87138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S ESTRATEGIAS EN FINANZAS DEBEN CUMPLIR CON EL OBJETIVO DE MAXIMIZAR EL VALOR ACTUAL DEL PATRIMONIO NETO A VALORES DE MERCADO. PERO SI ÉSTE NO SE CUMPLE, REALMENTE NO HABRÍA CREACIÓN DE VA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79640" y="620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ESTRATEGIAS FINANCIERAS 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E4CF-5A08-40AC-8F75-72974169FC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9280" y="1498680"/>
            <a:ext cx="8713800" cy="39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S FINANZAS DE LA EMPRESA, COMO DISCIPLINA, DEBEN DESARROLLAR MÉTODOS Y HERRAMIENTAS PARA MEDIR LA CREACIÓN DE VALOR. LA EFICACIA DE LAS ESTRATEGIAS SE DEBE MED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79640" y="54936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ESTRATEGIAS FINANCIERAS -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02BC-E16A-4FFC-867D-794F5B9CE0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1268280"/>
            <a:ext cx="8642160" cy="2562840"/>
          </a:xfrm>
          <a:prstGeom prst="rect">
            <a:avLst/>
          </a:prstGeom>
          <a:solidFill>
            <a:srgbClr val="fafe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cc"/>
                </a:solidFill>
                <a:latin typeface="Tahoma"/>
              </a:rPr>
              <a:t>FORMULACIÓN DE ESTRATEGIAS FINANCIERAS EN CONTEX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cc"/>
                </a:solidFill>
                <a:latin typeface="Tahoma"/>
              </a:rPr>
              <a:t>DE ALTA INCERTIDUMBRE</a:t>
            </a:r>
            <a:r>
              <a:rPr b="1" lang="es-AR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45920" y="4148640"/>
            <a:ext cx="5804280" cy="459720"/>
          </a:xfrm>
          <a:prstGeom prst="rect">
            <a:avLst/>
          </a:prstGeom>
          <a:solidFill>
            <a:srgbClr val="fafe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Tahoma"/>
              </a:rPr>
              <a:t>EL FINANCIAMIENTO EN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19CA-DA9D-4322-8441-9FC192EFE72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9280" y="1553040"/>
            <a:ext cx="871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cc"/>
              </a:buClr>
              <a:buSzPct val="25000"/>
              <a:buFont typeface="Wingdings 3" charset="2"/>
              <a:buChar char="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S ESTRATEGIAS DEBEN ADECUARSE AL ENTORNO EN EL QUE OPERA LA ORGANIZACIÓN, PERO VISTO CON UNA ÓPTICA PROSPECTIVA. ES EL AJUSTE ESTRATÉGICO NO DEL PRESENTE, SINO DEL FUT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ingdings 3" charset="2"/>
              <a:buChar char="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08000" y="62064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ESTRATEGIAS FINANCIERAS -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C2E2-CD76-44C7-8FF8-C6F5A2BD96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9280" y="1425960"/>
            <a:ext cx="871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Font typeface="Wingdings 3" charset="2"/>
              <a:buChar char="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N EL MUNDO MODERNO, EL ENTORNO EN EL QUE OPERAN LAS ORGANIZACIONES ES ALTAMENTE COMPETITIVO; Y LOS COMPETIDORES TIENEN UNA ALTA CAPACIDAD DE IM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63640" y="62064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ESTRATEGIAS FINANCIERAS -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370B-4DE1-41F9-BA87-CC05C5829D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9280" y="1409040"/>
            <a:ext cx="878544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TAMBIÉN PUEDEN SURGIR IMITADORES ILEGALES. LAS ESTRATEGIAS PERSIGUEN LA OBTENCIÓN DE VENTAJAS ESTRATÉGICAS; QUE SON VERDADERAS VENTAJAS COMPETI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08000" y="62064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ESTRATEGIAS FINANCIERAS -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0" y="0"/>
          <a:ext cx="91440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B50A-AA46-4D21-8DF6-9EA76A0E79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9280" y="1829520"/>
            <a:ext cx="878544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S ESTRATEGIAS DEBEN CREAR OPORTUNIDADES, Y/O CAPITALIZAR LAS QUE EXISTAN, TRATANDO DE SOSLAYAR LAS AMENAZAS. DEBEN APROVECHAR LAS FORTALEZAS DE LA ORGANIZACIÓN Y SUPERAR LAS DEBIL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62064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ESTRATEGIAS FINANCIERAS -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11D4-05F6-4C98-BC28-F73B589498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9280" y="1365120"/>
            <a:ext cx="871380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Resumen</a:t>
            </a:r>
            <a:r>
              <a:rPr b="1" lang="es-AR" sz="2400" spc="-1" strike="noStrike">
                <a:solidFill>
                  <a:srgbClr val="0000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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S ESTRATEGIAS SON CONJUNTOS DE POLÍTICAS, DECISIONES Y ACCIONES QUE LLEVAN A LAS ORGANIZACIONES DE UN ESTADIO ACTUAL DETERMINADO A UN ESTADIO FUTURO QUE MAXIMICE LA RIQUEZA DE SUS PROPIET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BC28-7267-44C2-BA4E-0860D07434C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723520" cy="362448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324000" y="49417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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DEBEMOS ACOTAR QUE LA ALTA INCERTIDUMBRE ATENTA CONTRA LAS ESTRATEGIAS DE LARGO PLAZ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61C5-8379-48F5-A968-C3A361C74E8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03640" y="1268280"/>
            <a:ext cx="2735280" cy="1152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4149720"/>
            <a:ext cx="2158920" cy="863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PROP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93080" y="4149720"/>
            <a:ext cx="1726920" cy="863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4149720"/>
            <a:ext cx="1942920" cy="863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899800">
            <a:off x="3142080" y="2166120"/>
            <a:ext cx="431640" cy="2376360"/>
          </a:xfrm>
          <a:prstGeom prst="downArrow">
            <a:avLst>
              <a:gd name="adj1" fmla="val 50000"/>
              <a:gd name="adj2" fmla="val 137636"/>
            </a:avLst>
          </a:prstGeom>
          <a:solidFill>
            <a:srgbClr val="00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8481200">
            <a:off x="5771520" y="2056320"/>
            <a:ext cx="431640" cy="2592360"/>
          </a:xfrm>
          <a:prstGeom prst="downArrow">
            <a:avLst>
              <a:gd name="adj1" fmla="val 50000"/>
              <a:gd name="adj2" fmla="val 150146"/>
            </a:avLst>
          </a:prstGeom>
          <a:solidFill>
            <a:srgbClr val="00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56000" y="2492280"/>
            <a:ext cx="432000" cy="1584360"/>
          </a:xfrm>
          <a:prstGeom prst="downArrow">
            <a:avLst>
              <a:gd name="adj1" fmla="val 50000"/>
              <a:gd name="adj2" fmla="val 91688"/>
            </a:avLst>
          </a:prstGeom>
          <a:solidFill>
            <a:srgbClr val="00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01AF-6C63-45CF-AB00-ACA70A28092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78040" y="260280"/>
            <a:ext cx="73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MODELOS FINANCIEROS DE L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796600" cy="409248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D6A2-E4BE-4A1A-991E-B16509B29CA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7842240" cy="603720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D736-CB8E-4126-90B5-95D6B1760AA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885080" cy="604044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E87F-75D6-40AF-B017-F3015C8408B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675640" y="6491160"/>
            <a:ext cx="4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2705760"/>
            <a:ext cx="8209080" cy="1922760"/>
          </a:xfrm>
          <a:prstGeom prst="rect">
            <a:avLst/>
          </a:prstGeom>
          <a:solidFill>
            <a:srgbClr val="fafe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L DINERO SE INMOVILIZA CON LA ESPERANZA DE SU RECUPERACIÓN EN EL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47640" y="47628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COMPLEJIDAD DE LAS FINANZAS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35EB-E253-4C27-86B8-FE314EE6E055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700360" y="260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ESTRATEGIA BÁ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1052640"/>
            <a:ext cx="7632720" cy="825480"/>
          </a:xfrm>
          <a:prstGeom prst="rect">
            <a:avLst/>
          </a:prstGeom>
          <a:solidFill>
            <a:srgbClr val="f7f7f7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FINANCIAMIENTO A MEDIANO Y LARG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A TRAVÉS DEL MERCADO DE CAPI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2852640"/>
            <a:ext cx="3168720" cy="1800360"/>
          </a:xfrm>
          <a:prstGeom prst="rect">
            <a:avLst/>
          </a:prstGeom>
          <a:solidFill>
            <a:srgbClr val="f7f7f7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APITAL AS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PRICING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64000" y="2852640"/>
            <a:ext cx="3527640" cy="1727280"/>
          </a:xfrm>
          <a:prstGeom prst="rect">
            <a:avLst/>
          </a:prstGeom>
          <a:solidFill>
            <a:srgbClr val="f7f7f7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HARRY MARKOVI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WILLIAM SHAR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95640" y="5516640"/>
            <a:ext cx="5184720" cy="936720"/>
          </a:xfrm>
          <a:prstGeom prst="rect">
            <a:avLst/>
          </a:prstGeom>
          <a:solidFill>
            <a:srgbClr val="f7f7f7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29560" y="5589720"/>
            <a:ext cx="49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Tahoma"/>
              </a:rPr>
              <a:t>PREMIOS NOBEL EN ECONOM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Tahoma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3908400">
            <a:off x="3309120" y="1564560"/>
            <a:ext cx="288720" cy="1728720"/>
          </a:xfrm>
          <a:prstGeom prst="downArrow">
            <a:avLst>
              <a:gd name="adj1" fmla="val 50000"/>
              <a:gd name="adj2" fmla="val 149688"/>
            </a:avLst>
          </a:prstGeom>
          <a:solidFill>
            <a:srgbClr val="00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7731200">
            <a:off x="5607000" y="1528560"/>
            <a:ext cx="304560" cy="1800360"/>
          </a:xfrm>
          <a:prstGeom prst="downArrow">
            <a:avLst>
              <a:gd name="adj1" fmla="val 50000"/>
              <a:gd name="adj2" fmla="val 147784"/>
            </a:avLst>
          </a:prstGeom>
          <a:solidFill>
            <a:srgbClr val="00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7709600">
            <a:off x="3267720" y="4229280"/>
            <a:ext cx="304920" cy="1728720"/>
          </a:xfrm>
          <a:prstGeom prst="downArrow">
            <a:avLst>
              <a:gd name="adj1" fmla="val 50000"/>
              <a:gd name="adj2" fmla="val 141736"/>
            </a:avLst>
          </a:prstGeom>
          <a:solidFill>
            <a:srgbClr val="00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3756600">
            <a:off x="5543280" y="4186080"/>
            <a:ext cx="289080" cy="1800000"/>
          </a:xfrm>
          <a:prstGeom prst="downArrow">
            <a:avLst>
              <a:gd name="adj1" fmla="val 50000"/>
              <a:gd name="adj2" fmla="val 155666"/>
            </a:avLst>
          </a:prstGeom>
          <a:solidFill>
            <a:srgbClr val="00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FCC5-F8DF-4566-8E93-3C299AB7F04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0920" y="104760"/>
            <a:ext cx="5329080" cy="6664320"/>
          </a:xfrm>
          <a:prstGeom prst="rect">
            <a:avLst/>
          </a:prstGeom>
          <a:ln w="38160">
            <a:solidFill>
              <a:srgbClr val="ff66ff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6012000" y="2133720"/>
            <a:ext cx="2793960" cy="2897280"/>
          </a:xfrm>
          <a:prstGeom prst="rect">
            <a:avLst/>
          </a:prstGeom>
          <a:solidFill>
            <a:srgbClr val="f7f7f7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REQUER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OSTO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7C17-ABBA-4472-9CA0-AEC7AD76B5D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195640" y="76500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SUPUESTOS “MUY” BÁS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23560" y="1773360"/>
            <a:ext cx="508356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MERCADO DE CAPI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RAZONABLEMENTE EFIC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DIVERSIFICACIÓN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ACTIVOS FINANCIEROS </a:t>
            </a:r>
            <a:r>
              <a:rPr b="1" lang="es-AR" sz="36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ver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DIVERSIFICACIÓN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ACTIVOS REALES </a:t>
            </a:r>
            <a:r>
              <a:rPr b="1" lang="es-AR" sz="3600" spc="-1" strike="noStrike">
                <a:solidFill>
                  <a:srgbClr val="ff3300"/>
                </a:solidFill>
                <a:latin typeface="Wingdings"/>
                <a:ea typeface="Wingdings"/>
              </a:rPr>
              <a:t>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160B-D07B-49F1-A7E4-B85C7C22116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29480" y="765000"/>
            <a:ext cx="646560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PRIORIDADES EN EL FINANCIAMI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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AUTOFINANCI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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DEU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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APITAL PROP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3933720"/>
            <a:ext cx="69120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STRUCTURA DE FINANCIAMI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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OSTOS DE CAP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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STRUCTURA FINANCIERA ÓPT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F00E-476F-467B-87ED-91DD571F48A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339280" y="476280"/>
            <a:ext cx="43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PROBLEMAS DE AGENCIA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2400" y="1557360"/>
            <a:ext cx="802476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1)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CONFLICTOS ENTRE PRINCIPAL Y AG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-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INEFICIENCIA DEL AG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                    </a:t>
            </a:r>
            <a:r>
              <a:rPr b="1" lang="es-A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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OSTOS DE MONITORE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-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DIFERENCIA DE OBJE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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OSTOS DE MONITORE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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PLAN DE INCEN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2)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CONFLICTOS ENTRE ACREEDORES Y ACCIONIST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-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MANIPULEO DEL VALOR DE LOS BO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-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MAYOR RIESGO PARA LOS ACREE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92C4-2EE6-46D6-BBE4-C4EB38D0A51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96560" y="1557360"/>
            <a:ext cx="690624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3)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CONFLICTOS ENTRE CLIENTE Y EMPRE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-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DUDAS RESPECTO AL CUMPL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DEL SERVICIO DE POSVE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-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USO DEL PRODUCTO ADQUIRI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~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fotocopias ileg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~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copia ilegal de C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~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copia ilegal d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4)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CONFLICTOS EN GENERAL 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ONTRATADOS Y CONTRAT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68360" y="47628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PROBLEMAS DE AGENCIA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28A6-9D7A-4341-819A-D2D7DD9D498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42600" y="404640"/>
            <a:ext cx="607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ASIMETRÍA DE LA INFORMACIÓN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Según COPELAND, WESTON &amp; SHAST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79480" y="99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3120" y="1712880"/>
            <a:ext cx="765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42920" y="2492280"/>
            <a:ext cx="705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 INFORMACIÓN ASIMÉTRICA OCURRE CUANDO UN GRUPO DE PARTICIPANTES TIENE MEJOR INFORMACIÓN O MÁS OPORTUNA, QUE LA DE OTROS GRUP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4ED7-96B5-45F4-B3DC-A1F68BE3104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9640" y="1844640"/>
            <a:ext cx="79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 INFORMACIÓN ASIMÉTRICA ES EL CONOCI-MIENTO SUPERIOR QUE TIENEN LOS ADMINIS-TRADORES ACERCA DE   LAS PERSPECTIVAS DE LA FIRMA, MIENTRAS QUE LOS INVERSORES EN LA MISMA FORMAN PARTE DEL GRUPO DESINFOR-M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58920" y="40464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ASIMETRÍA DE LA INFORMACIÓN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Según COPELAND, WESTON &amp; SHAST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12F6-3722-43B2-AE07-7F53C873104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79480" y="99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3120" y="1712880"/>
            <a:ext cx="765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42920" y="242100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UNA SEÑAL ES UNA ACCIÓN TOMADA POR LOS MÁS INFORMADOS, PROVEYENDO INFORMACIÓN CREÍBLE A LOS MENOS INFORM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32000" y="54936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SEÑAL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Según COPELAND, WESTON &amp; SHAST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3ECA-69A4-4B34-A1CF-FE3981A0E4A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16000" y="2349360"/>
            <a:ext cx="691200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 TEORÍA DE LA AGENCIA DERIVA DEL HECHO DE QUE LAS DECISIONES DENTRO DE LA FIRMA SON TOMADAS POR LOS ADMINISTRADORES, QUE SON AGENTES DE LOS INVERS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32000" y="47628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PROBLEMAS DE AGENCIA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Según COPELAND, WESTON &amp; SHAST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C641-65F2-4ED5-8ECE-814E2F3F872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675640" y="6491160"/>
            <a:ext cx="4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1509120"/>
            <a:ext cx="8729640" cy="4390920"/>
          </a:xfrm>
          <a:prstGeom prst="rect">
            <a:avLst/>
          </a:prstGeom>
          <a:solidFill>
            <a:srgbClr val="fafe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LLO SE MANIFIESTA EN UN CONTEXTO DINÁMICO, INCIERTO Y BAJO CONDICIONES DE RIESGO; DONDE SE ENTRELAZA LO ECONÓMICO CON LO POLÍTICO Y LO SOCIAL, TANTO A NIVEL NACIONAL COMO INTERN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19280" y="47628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COMPLEJIDAD DE LAS FINANZAS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5F81-2584-4A98-A357-64F3C5F311E3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042920" y="2060640"/>
            <a:ext cx="705636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L CONFLICTO DE INTERESES ENTRE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ADMINISTRADORES Y LOS INVERS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PUEDE CONDUCIR A UNA SUBOPTIMIZA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IÓN EN LA ASIGNACIÓN DE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DENTRO DE LA FI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0" y="47628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PROBLEMAS DE AGENCIA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Según COPELAND, WESTON &amp; SHAST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22F9-62CB-489C-AEB0-5338D53F64E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16000" y="692280"/>
            <a:ext cx="7416720" cy="42087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LAS OPCIONES REALE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EL VALOR ACTUAL NE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Y LA INCERTIDUMB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167A-E29E-4B48-8687-79102E7D9E2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11280" y="1056240"/>
            <a:ext cx="7850160" cy="47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2"/>
                <a:ea typeface="Wingdings 2"/>
              </a:rPr>
              <a:t>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L </a:t>
            </a:r>
            <a:r>
              <a:rPr b="1" i="1" lang="es-AR" sz="2400" spc="-1" strike="noStrike">
                <a:solidFill>
                  <a:srgbClr val="ff66ff"/>
                </a:solidFill>
                <a:latin typeface="Tahoma"/>
              </a:rPr>
              <a:t>VALOR ACTUAL NETO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INVOLUCRA EN SU ANÁLISIS A LA INCERTIDUMBRE, AL DESCON-TAR EL FLUJO DE FONDOS ESPERADO A UNA TASA DE COSTO DE CAPITAL, QUE INCLUYE UN CIERTO PREMIO POR RIES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2"/>
                <a:ea typeface="Wingdings 2"/>
              </a:rPr>
              <a:t>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PERO UNA VEZ TOMADA LA DECISIÓN EN BASE A ESE CRITERIO, LA CUESTIÓN SE TORNA </a:t>
            </a:r>
            <a:r>
              <a:rPr b="1" lang="es-AR" sz="2400" spc="-1" strike="noStrike" u="sng">
                <a:solidFill>
                  <a:srgbClr val="ff3300"/>
                </a:solidFill>
                <a:uFillTx/>
                <a:latin typeface="Tahoma"/>
              </a:rPr>
              <a:t>DETERMINISTA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4E07-496E-4FAF-B1F2-D1452797AB1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8360" y="1192320"/>
            <a:ext cx="820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2"/>
                <a:ea typeface="Wingdings 2"/>
              </a:rPr>
              <a:t>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L </a:t>
            </a:r>
            <a:r>
              <a:rPr b="1" i="1" lang="es-AR" sz="2400" spc="-1" strike="noStrike">
                <a:solidFill>
                  <a:srgbClr val="ff66ff"/>
                </a:solidFill>
                <a:latin typeface="Tahoma"/>
              </a:rPr>
              <a:t>VALOR ACTUAL NETO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NO PERMITE SEGUIR LA EVOLUCIÓN DEL PROCESO DE INVERSIÓN EN EL TIEMPO: LA MODIFICACIÓN DE INGRESOS, DESEM-BOLSOS Y TASAS, ASÍ COMO EL AGREGADO DE NUEVA INFORMACIÓN; TODO LO CUAL –ENTRE OTRAS CUESTIONES– LE AGREGARÍA REALMENTE FLEXIBILIDAD Y LO CONVERTIRÍA EN UNA VERDA-DERA HERRAMIENTA ESTRATÉGICA.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7CB7-833B-4900-A9CA-08C9A539B0F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24000" y="155988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2"/>
                <a:ea typeface="Wingdings 2"/>
              </a:rPr>
              <a:t>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S </a:t>
            </a:r>
            <a:r>
              <a:rPr b="1" i="1" lang="es-AR" sz="2400" spc="-1" strike="noStrike">
                <a:solidFill>
                  <a:srgbClr val="ff66ff"/>
                </a:solidFill>
                <a:latin typeface="Tahoma"/>
              </a:rPr>
              <a:t>OPCIONES REALES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PERMITEN UN MEJOR MANEJO ESTRATÉGICO Y UNA FLEXIBILIDAD MÁS CONDUCENTE EN SITUACIONES DE INCERTIDUM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2"/>
                <a:ea typeface="Wingdings 2"/>
              </a:rPr>
              <a:t>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SA FLEXIBILIDAD RESULTA MÁS IMPORTANTE AÚN EN CONTEXTOS DE ALTA INCERTIDUM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705F-25AD-4917-916C-88739F0EA1A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26920" y="2130120"/>
            <a:ext cx="748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OPCIONES DE EXPANSIÓN O CRE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OPCIONES DE CONTRA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OPCIONES DE ABANDO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OPCIONES DE EXTENSIÓN DE LA VIDA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PROY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OPCIONES DE DIFERIMIENTO EN EL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63640" y="620640"/>
            <a:ext cx="561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OPCIONES RE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ALGUNAS APLICACIONES TÍP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4522-A501-47A6-A9C0-668700A4065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68360" y="933840"/>
            <a:ext cx="7343640" cy="49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Wingdings 2"/>
                <a:ea typeface="Wingdings 2"/>
              </a:rPr>
              <a:t></a:t>
            </a: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SIGUIENDO A </a:t>
            </a:r>
            <a:r>
              <a:rPr b="1" i="1" lang="es-ES" sz="2400" spc="-1" strike="noStrike">
                <a:solidFill>
                  <a:srgbClr val="0000ff"/>
                </a:solidFill>
                <a:latin typeface="Tahoma"/>
              </a:rPr>
              <a:t>ALBERTO MARCEL</a:t>
            </a: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, DIGAMOS, QU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Tahoma"/>
              </a:rPr>
              <a:t>“… </a:t>
            </a:r>
            <a:r>
              <a:rPr b="1" i="1" lang="es-ES" sz="2400" spc="-1" strike="noStrike">
                <a:solidFill>
                  <a:srgbClr val="0000cc"/>
                </a:solidFill>
                <a:latin typeface="Tahoma"/>
              </a:rPr>
              <a:t>EL VALOR DE LA FLEXIBILIDAD ES MAYOR CUAN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i="1" lang="es-ES" sz="2400" spc="-1" strike="noStrike">
                <a:solidFill>
                  <a:srgbClr val="0000cc"/>
                </a:solidFill>
                <a:latin typeface="Tahoma"/>
              </a:rPr>
              <a:t>EXISTE UN ALTO NIVEL DE INCERTI-DUMBRE SOBRE EL FUTUR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F786-2C7C-4467-8A15-DF0A01BBD26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42920" y="1633320"/>
            <a:ext cx="705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179280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Tahoma"/>
              </a:rPr>
              <a:t>… </a:t>
            </a:r>
            <a:r>
              <a:rPr b="1" lang="es-ES" sz="2400" spc="-1" strike="noStrike">
                <a:solidFill>
                  <a:srgbClr val="0000cc"/>
                </a:solidFill>
                <a:latin typeface="Tahoma"/>
              </a:rPr>
              <a:t>CUANDO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i="1" lang="es-ES" sz="2400" spc="-1" strike="noStrike">
                <a:solidFill>
                  <a:srgbClr val="0000cc"/>
                </a:solidFill>
                <a:latin typeface="Tahoma"/>
              </a:rPr>
              <a:t>ES PROBABLE ADQUIRIR NUEVA INFOR-MACIÓN SOBRE LA EVOLUCIÓN FUTURA CON EL TRANSCURSO DEL TIEMP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F5EA-0C80-46BD-A36A-53EA04A1D1B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042920" y="1488600"/>
            <a:ext cx="705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179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Tahoma"/>
              </a:rPr>
              <a:t>… </a:t>
            </a:r>
            <a:r>
              <a:rPr b="1" lang="es-ES" sz="2400" spc="-1" strike="noStrike">
                <a:solidFill>
                  <a:srgbClr val="0000cc"/>
                </a:solidFill>
                <a:latin typeface="Tahoma"/>
              </a:rPr>
              <a:t>CUANDO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i="1" lang="es-ES" sz="2400" spc="-1" strike="noStrike">
                <a:solidFill>
                  <a:srgbClr val="0000cc"/>
                </a:solidFill>
                <a:latin typeface="Tahoma"/>
              </a:rPr>
              <a:t>LA GERENCIA TIENE CAPACIDAD DE MA-NIOBRA Y AGILIDAD PARA RESPONDER ADECUADAMENTE AL RECIBIR NUEVA INFORMACIÓN</a:t>
            </a:r>
            <a:r>
              <a:rPr b="1" lang="es-ES" sz="2400" spc="-1" strike="noStrike">
                <a:solidFill>
                  <a:srgbClr val="0000cc"/>
                </a:solidFill>
                <a:latin typeface="Tahoma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F7B7-E2CE-424A-975F-6D77B167761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908000" y="12682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VALOR ACTUAL NE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1628640"/>
            <a:ext cx="4896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95640" y="342900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OPCIONES RE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989000"/>
            <a:ext cx="360360" cy="1440000"/>
          </a:xfrm>
          <a:prstGeom prst="downArrow">
            <a:avLst>
              <a:gd name="adj1" fmla="val 50000"/>
              <a:gd name="adj2" fmla="val 99900"/>
            </a:avLst>
          </a:prstGeom>
          <a:solidFill>
            <a:srgbClr val="00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2749-3A74-4636-9620-2F5B9B2884F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675640" y="6491160"/>
            <a:ext cx="4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2144520"/>
            <a:ext cx="8353440" cy="3202200"/>
          </a:xfrm>
          <a:prstGeom prst="rect">
            <a:avLst/>
          </a:prstGeom>
          <a:solidFill>
            <a:srgbClr val="fafe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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SE PROCESO DEBE CREAR VALOR. POR LO TANTO SE REQUIERE LA APLICACIÓN DE ESTRATEGIAS DE NEGOCIOS Y DE ESTRATEGIAS FINANCIE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62064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COMPLEJIDAD DE LAS FINANZAS 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9CEB-4906-4518-93D7-62E08C66C041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87280" y="549360"/>
            <a:ext cx="6769440" cy="4597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STRATEGIAS  </a:t>
            </a:r>
            <a:r>
              <a:rPr b="1" lang="es-AR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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DECISIONES A FUT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1989000"/>
            <a:ext cx="8642160" cy="10159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 ALTA INCERTIDUMBRE INHIBE EL PENS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STRATÉGICO Y EL PLANEAMIENTO A LARG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835280" y="4005360"/>
            <a:ext cx="5400720" cy="21283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SE REQUIERE EL APOYO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OPCIONES RE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TÁCTICAS FINANCIE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INNOVACIÓN Y CREATIV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56000" y="1125360"/>
            <a:ext cx="358920" cy="790920"/>
          </a:xfrm>
          <a:prstGeom prst="downArrow">
            <a:avLst>
              <a:gd name="adj1" fmla="val 50000"/>
              <a:gd name="adj2" fmla="val 55090"/>
            </a:avLst>
          </a:prstGeom>
          <a:solidFill>
            <a:srgbClr val="00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56000" y="3141720"/>
            <a:ext cx="358920" cy="792000"/>
          </a:xfrm>
          <a:prstGeom prst="downArrow">
            <a:avLst>
              <a:gd name="adj1" fmla="val 50000"/>
              <a:gd name="adj2" fmla="val 55165"/>
            </a:avLst>
          </a:prstGeom>
          <a:solidFill>
            <a:srgbClr val="00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3B43-2EAC-4A37-8D8E-C67F708A394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042920" y="1341360"/>
            <a:ext cx="7058160" cy="1373760"/>
          </a:xfrm>
          <a:prstGeom prst="rect">
            <a:avLst/>
          </a:prstGeom>
          <a:solidFill>
            <a:srgbClr val="66ff99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A MAYOR INCERTIDUMB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4360" y="3789360"/>
            <a:ext cx="7705440" cy="1373760"/>
          </a:xfrm>
          <a:prstGeom prst="rect">
            <a:avLst/>
          </a:prstGeom>
          <a:solidFill>
            <a:srgbClr val="66ff99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MÁS Y MEJORES ESTRATEG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00720" y="2492280"/>
            <a:ext cx="358560" cy="1224000"/>
          </a:xfrm>
          <a:prstGeom prst="downArrow">
            <a:avLst>
              <a:gd name="adj1" fmla="val 50000"/>
              <a:gd name="adj2" fmla="val 85341"/>
            </a:avLst>
          </a:prstGeom>
          <a:solidFill>
            <a:srgbClr val="00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BF57-D176-4DE4-B182-A1D1C46EBE4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059200" y="3108240"/>
            <a:ext cx="50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frotstein@uns.edu.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2718-84B6-494E-8A17-0FF437CBAC9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675640" y="6491160"/>
            <a:ext cx="4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1570320"/>
            <a:ext cx="8729640" cy="4482720"/>
          </a:xfrm>
          <a:prstGeom prst="rect">
            <a:avLst/>
          </a:prstGeom>
          <a:solidFill>
            <a:srgbClr val="fafe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L OBJETIVO FINANCIERO DE LAS ORGANIZACIONES MODERNAS ES LA MAXIMIZACIÓN DEL VALOR ACTUAL DEL PATRIMONIO NETO, A VALORES DE MERCADO. SI ELLO SE CUMPLE, SE PUEDE AFIRMAR QUE LAS DECISIONES TOMADAS EN LA ORGANIZACIÓN CREARON VALOR. EN CASO CONTRARIO, NO SE PUEDE HACER TAL AFIR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47640" y="62064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COMPLEJIDAD DE LAS FINANZAS 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DD73-2C61-4D41-A1B9-0F7AE4F648D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63640" y="2493360"/>
            <a:ext cx="5545080" cy="38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VALOR TIEMPO DEL DIN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PROYECCIONE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HERRAMIENTAS DE MED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STRATEGIAS DE NEGO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STRATEGI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42480" y="476280"/>
            <a:ext cx="54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COMPLEJIDAD DE LAS FINANZAS 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92360" y="1413000"/>
            <a:ext cx="56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TENDREMOS EN FORMA CONJU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UESTIONES TALES CO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CC50-600B-4023-BDFD-8B6B7072A5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32000" y="2417760"/>
            <a:ext cx="6408720" cy="35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REATIVIDAD E INNOV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VALUACIÓN DE LA INCERTIDU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Y DEL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IMPREVISIBILIDAD HU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42480" y="620640"/>
            <a:ext cx="54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COMPLEJIDAD DE LAS FINANZAS -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162864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TENDREMOS EN FORMA CONJU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UESTIONES TALES CO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FDC8-41FB-452D-AAB1-3F1E58E968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79760" y="836640"/>
            <a:ext cx="5795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INCERTIDUMBRE</a:t>
            </a:r>
            <a:r>
              <a:rPr b="1" lang="es-AR" sz="2400" spc="-1" strike="noStrike">
                <a:solidFill>
                  <a:srgbClr val="0000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“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No se puede prever el futur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CONTEXTOS</a:t>
            </a:r>
            <a:r>
              <a:rPr b="1" lang="es-AR" sz="2400" spc="-1" strike="noStrike">
                <a:solidFill>
                  <a:srgbClr val="0000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…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AMBIANTES 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     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… 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y/o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TURBULENTOS 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              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… 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y/o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INFLACIONARIOS 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                       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… 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y/o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CAÓTICOS 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+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GLOBAL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4C87-491C-4968-9924-0FD61F8A92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4T16:30:23Z</dcterms:created>
  <dc:creator>Fabio Rotstein</dc:creator>
  <dc:description/>
  <dc:language>en-US</dc:language>
  <cp:lastModifiedBy>C.P.C.E.C.A.B.A.</cp:lastModifiedBy>
  <dcterms:modified xsi:type="dcterms:W3CDTF">2004-09-24T15:28:28Z</dcterms:modified>
  <cp:revision>203</cp:revision>
  <dc:subject/>
  <dc:title>Diapositiva 1</dc:title>
</cp:coreProperties>
</file>