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43C-6985-417A-9DFE-99881846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8F4-F013-42AC-BE34-BB1ECE8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830-2DB9-46E8-94F1-8C5541C7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AE7-1105-4574-B6F8-D2F295CB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EFA-37EB-4382-AFBF-AF59309E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E2-0198-4F99-B49A-D498B2C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040-EC2F-40DF-A08C-40F711B1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0C9-B34A-42EA-AE41-798C011C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BD8-BDE6-431D-B0BF-5B18EF62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E36-5287-4227-9F12-72F131A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540-CCA4-40F9-A1DD-90EF009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462-5459-43AF-83DA-42CFB54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6BB6-454C-4901-B1BD-48CD3B128ACE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8380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UNIVERSIDAD NACIONAL DEL S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4520" y="2787480"/>
            <a:ext cx="48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ic. FABIO ROT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9200" y="45720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26A-F252-4B91-83A0-8123EE364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640080"/>
            <a:ext cx="8497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Según HAX y MAJLU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La estrategia </a:t>
            </a:r>
            <a:r>
              <a:rPr b="1" lang="es-AR" sz="1800" spc="-1" strike="noStrike">
                <a:solidFill>
                  <a:srgbClr val="0000cc"/>
                </a:solidFill>
                <a:latin typeface="Tahoma"/>
              </a:rPr>
              <a:t>[en general]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1.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termina y revela el propósito organizativo en términos de objetivos a largo plazo, programas de acción y prioridades de asign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lecciona los negocios en los que participa o debe participar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521-B2E4-41C0-B3F1-EA8FB1726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74920"/>
            <a:ext cx="84978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3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tenta alcanzar una ventaja sostenible de largo plazo en cada uno de sus negocios, respondiendo en forma apropiada a las oportunidades y amenazas provenientes del medio en el que actúa la empresa y a los puntos fuertes y débile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4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dentifica las tareas de gestión específicas en los niveles corporativos, de negocios y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721-5DCD-4C4A-A3D8-DCE946FAF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39600"/>
            <a:ext cx="864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5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Constituye un patrón de decisiones unificador e integ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Define la naturaleza de las contribuciones económicas y no económicas que pretende hacer a sus “stakeholders”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7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a expresión del propósito estratégico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3DC-F99E-4C20-B24D-9FA2E5FFC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89120"/>
            <a:ext cx="864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Apunta a desarrollar y fomentar las competencias centrale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Es un medio para invertir selectivamente en recursos tangibles e intangibles a fin de desarrollar las capacidades que garanticen una ventaja competitiva sosteni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2F5-094B-4B73-A5CE-2309D41AA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54600" y="54936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ARACTERÍSTICA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13012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ESTAR RELACIONADAS CON LOS OBJETIVOS A LARGO PLAZO DE UNA ORGANIZACIÓN. POR LO TANTO, SE REQUIERE UNA VISIÓN DE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FF5-DA9F-4EAC-9118-4B35A3D6D8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26240" y="54936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6243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VALOR, LO QUE IMPLICA EL CRECIMIENTO DE LAS ORGANIZACIONES. EL CRECIMIENTO IMPLICA MAYORES NECESIDADE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9C2-C521-4566-81E0-276C40EDCC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557360"/>
            <a:ext cx="86421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RECIMIENTO REQUIERE CREATIVIDAD E INNOVACIÓN; AL MENOS EN ALGÚN SENTIDO: FINANZAS, MARKETING, PRODUCCIÓN, PRODUCTOS Y/O SERVICIOS, TECNOLOGÍA DE LOS PRODUCTOS, DE LOS PROCESOS Y DE LA INFORMACIÓN, ADMINISTRACIÓN DEL CAPITAL INTELECTUA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527-B68D-4F60-875A-AB59475190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907920"/>
            <a:ext cx="86425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NOVACIÓN Y LA CREATIVIDAD NO SIEMPRE REQUIEREN DE LA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INVENCIÓN DE LA PÓLVOR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PUEDEN SER MUCHAS VECES COMO LA PIMIENTA: UNA PEQUEÑA DOSIS ES SUFICIENTE PARA REALZAR Y SABORIZAR LAS COMIDAS. LA MÁS DE LAS VECES, TAMPOCO REQUIEREN </a:t>
            </a:r>
            <a:r>
              <a:rPr b="1" i="1" lang="es-AR" sz="2400" spc="-1" strike="noStrike">
                <a:solidFill>
                  <a:srgbClr val="0000cc"/>
                </a:solidFill>
                <a:latin typeface="Tahoma"/>
              </a:rPr>
              <a:t>SENTARSE A PENSAR HASTA QUE SE PRENDA LA LAMPARI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, SINO MÁS BIEN NECESITAN DE UN ESTUDIO SISTEMÁTICO DE L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6B5-F32A-4266-A142-11E3E1EF82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343160"/>
            <a:ext cx="8713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EN FINANZAS DEBEN CUMPLIR CON EL OBJETIVO DE MAXIMIZAR EL VALOR ACTUAL DEL PATRIMONIO NETO A VALORES DE MERCADO. PERO SI ÉSTE NO SE CUMPLE, REALMENTE NO HABRÍA CREA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62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DBB-5C92-4D5D-9CDD-33FF3D7034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498680"/>
            <a:ext cx="871380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FINANZAS DE LA EMPRESA, COMO DISCIPLINA, DEBEN DESARROLLAR MÉTODOS Y HERRAMIENTAS PARA MEDIR LA CREACIÓN DE VALOR. LA EFICACIA DE LAS ESTRATEGIAS SE DEBE M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49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1B2-4F15-4762-A934-F4C70E05F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68280"/>
            <a:ext cx="8642160" cy="256284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FORMULACIÓN DE ESTRATEGIAS FINANCIERAS EN CONTEX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cc"/>
                </a:solidFill>
                <a:latin typeface="Tahoma"/>
              </a:rPr>
              <a:t>DE ALTA INCERTIDUMBRE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5920" y="4148640"/>
            <a:ext cx="5804280" cy="459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EL FINANCIAMIENT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289-E86C-4A21-BE77-7FAA764A07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55304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ADECUARSE AL ENTORNO EN EL QUE OPERA LA ORGANIZACIÓN, PERO VISTO CON UNA ÓPTICA PROSPECTIVA. ES EL AJUSTE ESTRATÉGICO NO DEL PRESENTE, SINO DEL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714-09FC-4D64-9D69-188D9BA30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42596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cc"/>
              </a:buClr>
              <a:buSzPct val="25000"/>
              <a:buFont typeface="Webdings" charset="2"/>
              <a:buChar char="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 3" charset="2"/>
              <a:buChar char="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N EL MUNDO MODERNO, EL ENTORNO EN EL QUE OPERAN LAS ORGANIZACIONES ES ALTAMENTE COMPETITIVO; Y LOS COMPETIDORES TIENEN UNA ALTA CAPACIDAD DE IM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20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F63-CB0E-4AC7-AB31-3EA5CC02F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409040"/>
            <a:ext cx="8785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AMBIÉN PUEDEN SURGIR IMITADORES ILEGALES. LAS ESTRATEGIAS PERSIGUEN LA OBTENCIÓN DE VENTAJAS ESTRATÉGICAS; QUE SON VERDADERA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49F-D541-4F01-98C7-E73D20A402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1829520"/>
            <a:ext cx="8785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DEBEN CREAR OPORTUNIDADES, Y/O CAPITALIZAR LAS QUE EXISTAN, TRATANDO DE SOSLAYAR LAS AMENAZAS. DEBEN APROVECHAR LAS FORTALEZAS DE LA ORGANIZACIÓN Y SUPERAR LAS DE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62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S FINANCIERAS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627-8F6F-4FD4-9B63-6AAAF75E40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365120"/>
            <a:ext cx="87138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Resumen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ESTRATEGIAS SON CONJUNTOS DE POLÍTICAS, DECISIONES Y ACCIONES QUE LLEVAN A LAS ORGANIZACIONES DE UN ESTADIO ACTUAL DETERMINADO A UN ESTADIO FUTURO QUE MAXIMICE LA RIQUEZA DE SUS PROPIE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CEE-71FA-4518-9C0D-DB32B51063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23520" cy="3624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4000" y="4941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BEMOS ACOTAR QUE LA ALTA INCERTIDUMBRE ATENTA CONTRA LAS ESTRATEGIAS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2C0-B0BD-45D5-8AA2-291486B2F9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03640" y="1268280"/>
            <a:ext cx="273528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149720"/>
            <a:ext cx="2158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149720"/>
            <a:ext cx="1726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149720"/>
            <a:ext cx="1942920" cy="86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899800">
            <a:off x="3142080" y="2166120"/>
            <a:ext cx="431640" cy="2376360"/>
          </a:xfrm>
          <a:prstGeom prst="downArrow">
            <a:avLst>
              <a:gd name="adj1" fmla="val 50000"/>
              <a:gd name="adj2" fmla="val 13763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481200">
            <a:off x="5771520" y="2056320"/>
            <a:ext cx="431640" cy="2592360"/>
          </a:xfrm>
          <a:prstGeom prst="downArrow">
            <a:avLst>
              <a:gd name="adj1" fmla="val 50000"/>
              <a:gd name="adj2" fmla="val 150146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49228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5B8-C11D-4228-9606-5B4BEF71F4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8040" y="26028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MODELOS FINANCIE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96600" cy="4092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343-EE85-4DFF-ACFF-391C3687D1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2240" cy="6037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A4D-7A56-498B-8B6B-FC04CF805C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85080" cy="60404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306-F161-4181-9599-4F4A6FF6D4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5760"/>
            <a:ext cx="8209080" cy="192276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DINERO SE INMOVILIZA CON LA ESPERANZA DE SU RECUPERACIÓN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476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95A-43AB-4EA6-B112-867B98D318F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ESTRATEGI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052640"/>
            <a:ext cx="7632720" cy="8254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FINANCIAMIENTO A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 TRAVÉS DEL 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852640"/>
            <a:ext cx="3168720" cy="180036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C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852640"/>
            <a:ext cx="3527640" cy="172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ARRY MARKOVI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WILLIAM SHA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516640"/>
            <a:ext cx="5184720" cy="93672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9560" y="5589720"/>
            <a:ext cx="49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PREMIOS NOBEL EN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3908400">
            <a:off x="3309120" y="1564560"/>
            <a:ext cx="288720" cy="1728720"/>
          </a:xfrm>
          <a:prstGeom prst="downArrow">
            <a:avLst>
              <a:gd name="adj1" fmla="val 50000"/>
              <a:gd name="adj2" fmla="val 149688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7731200">
            <a:off x="5607000" y="1528560"/>
            <a:ext cx="304560" cy="1800360"/>
          </a:xfrm>
          <a:prstGeom prst="downArrow">
            <a:avLst>
              <a:gd name="adj1" fmla="val 50000"/>
              <a:gd name="adj2" fmla="val 147784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7709600">
            <a:off x="3267720" y="4229280"/>
            <a:ext cx="304920" cy="1728720"/>
          </a:xfrm>
          <a:prstGeom prst="downArrow">
            <a:avLst>
              <a:gd name="adj1" fmla="val 50000"/>
              <a:gd name="adj2" fmla="val 14173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756600">
            <a:off x="5543280" y="4186080"/>
            <a:ext cx="289080" cy="1800000"/>
          </a:xfrm>
          <a:prstGeom prst="downArrow">
            <a:avLst>
              <a:gd name="adj1" fmla="val 50000"/>
              <a:gd name="adj2" fmla="val 155666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E3B-FC0E-4BC4-B3CE-F6A6E42537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5329080" cy="666432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12000" y="2133720"/>
            <a:ext cx="2793960" cy="2897280"/>
          </a:xfrm>
          <a:prstGeom prst="rect">
            <a:avLst/>
          </a:prstGeom>
          <a:solidFill>
            <a:srgbClr val="f7f7f7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19B-3507-4799-A528-8185D74898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UPUESTOS “MUY”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3560" y="1773360"/>
            <a:ext cx="50835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RAZONABLEMENTE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FINANCIERO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er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IVERSIFICACIÓ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CTIVOS REALES </a:t>
            </a:r>
            <a:r>
              <a:rPr b="1" lang="es-AR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DEC-3E5B-4F40-A2BF-246BCEE540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29480" y="765000"/>
            <a:ext cx="64656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IORIDADES EN EL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UTO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PITAL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933720"/>
            <a:ext cx="6912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DE FINANCI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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UCTURA FINANCIERA ÓP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A30-62D1-4343-AF1E-14392D0F7B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39280" y="476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00" y="1557360"/>
            <a:ext cx="80247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1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PRINCIPAL Y A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EFICIENCIA DEL A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IFERENCIA DE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STOS DE MONITOR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LAN DE INCE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2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ACREEDORES Y ACCIONI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NIPULEO DEL VALOR DE LOS B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MAYOR RIESGO PARA LOS ACREE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81C-FD97-4CE0-B2F9-C70D02914C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6560" y="1557360"/>
            <a:ext cx="69062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3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TRE CLIENTE Y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DUDAS RESPECTO AL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L SERVICIO DE POS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USO DEL PRODUCTO ADQUIR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fotocopias i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C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~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pia ilegal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4)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ONFLICTOS EN GENERAL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ONTRATADOS Y CONTRA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7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148-0532-4308-9447-A8B89214FC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2600" y="404640"/>
            <a:ext cx="60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OCURRE CUANDO UN GRUPO DE PARTICIPANTES TIENE MEJOR INFORMACIÓN O MÁS OPORTUNA, QUE LA DE OTR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B53-25A9-4559-8E65-7649430D3B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844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INFORMACIÓN ASIMÉTRICA ES EL CONOCI-MIENTO SUPERIOR QUE TIENEN LOS ADMINIS-TRADORES ACERCA DE   LAS PERSPECTIVAS DE LA FIRMA, MIENTRAS QUE LOS INVERSORES EN LA MISMA FORMAN PARTE DEL GRUPO DESINFOR-M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40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SIMETRÍA DE LA INFORMACIÓN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EC1-C169-430E-9BD9-69878B1BF7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79480" y="99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120" y="171288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421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UNA SEÑAL ES UNA ACCIÓN TOMADA POR LOS MÁS INFORMADOS, PROVEYENDO INFORMACIÓN CREÍBLE A LOS MENOS INFOR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549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SEÑ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44F-944E-4736-841B-CD8E95801C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2349360"/>
            <a:ext cx="6912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TEORÍA DE LA AGENCIA DERIVA DEL HECHO DE QUE LAS DECISIONES DENTRO DE LA FIRMA SON TOMADAS POR LOS ADMINISTRADORES, QUE SON AGENTES DE LOS INVE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CDD-0DF9-40FB-B4E7-67BDA52038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509120"/>
            <a:ext cx="8729640" cy="43909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LO SE MANIFIESTA EN UN CONTEXTO DINÁMICO, INCIERTO Y BAJO CONDICIONES DE RIESGO; DONDE SE ENTRELAZA LO ECONÓMICO CON LO POLÍTICO Y LO SOCIAL, TANTO A NIVEL NACIONAL COMO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7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90A-46C4-4200-A8D0-76C4B261942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206064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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CONFLICTO DE INTERESES ENTR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ADMINISTRADORES Y LOS INVER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UEDE CONDUCIR A UNA SUBOPTIMIZ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IÓN EN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DENTRO DE LA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476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PROBLEMAS DE AGENCIA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gún COPELAND, WESTON &amp; SHAST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672-08B1-466E-AEA9-E6DCD34FD1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692280"/>
            <a:ext cx="7416720" cy="420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LAS OPCIONES REAL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EL 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Y LA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09B-1300-46D1-B9F6-C92AB48BFB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056240"/>
            <a:ext cx="7850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VOLUCRA EN SU ANÁLISIS A LA INCERTIDUMBRE, AL DESCON-TAR EL FLUJO DE FONDOS ESPERADO A UNA TASA DE COSTO DE CAPITAL, QUE INCLUYE UN CIERTO PREMIO POR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ERO UNA VEZ TOMADA LA DECISIÓN EN BASE A ESE CRITERIO, LA CUESTIÓN SE TORNA </a:t>
            </a:r>
            <a:r>
              <a:rPr b="1" lang="es-AR" sz="2400" spc="-1" strike="noStrike" u="sng">
                <a:solidFill>
                  <a:srgbClr val="ff3300"/>
                </a:solidFill>
                <a:uFillTx/>
                <a:latin typeface="Tahoma"/>
              </a:rPr>
              <a:t>DETERMINISTA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6A5-BE1B-4297-A6B3-8C339D858B1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19232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VALOR ACTUAL NET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NO PERMITE SEGUIR LA EVOLUCIÓN DEL PROCESO DE INVERSIÓN EN EL TIEMPO: LA MODIFICACIÓN DE INGRESOS, DESEM-BOLSOS Y TASAS, ASÍ COMO EL AGREGADO DE NUEVA INFORMACIÓN; TODO LO CUAL –ENTRE OTRAS CUESTIONES– LE AGREGARÍA REALMENTE FLEXIBILIDAD Y LO CONVERTIRÍA EN UNA VERDA-DERA HERRAMIENTA ESTRATÉGICA.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5D2-079C-463A-B4E7-E607A2D55E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5598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S </a:t>
            </a:r>
            <a:r>
              <a:rPr b="1" i="1" lang="es-AR" sz="2400" spc="-1" strike="noStrike">
                <a:solidFill>
                  <a:srgbClr val="ff66ff"/>
                </a:solidFill>
                <a:latin typeface="Tahoma"/>
              </a:rPr>
              <a:t>OPCIONES REALES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PERMITEN UN MEJOR MANEJO ESTRATÉGICO Y UNA FLEXIBILIDAD MÁS CONDUCENTE EN SITUACIONES DE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A FLEXIBILIDAD RESULTA MÁS IMPORTANTE AÚN EN CONTEXTOS DE ALTA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EEC-ADB3-44B9-A3B2-1AED2A2F85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213012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PANSIÓN O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CON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ABA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EXTENSIÓN DE LA VID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DE DIFERIMIENT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62064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OPCIONES R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ALGUNAS 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54E-E0FF-40E8-899B-5278292A34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933840"/>
            <a:ext cx="734364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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SIGUIENDO A </a:t>
            </a:r>
            <a:r>
              <a:rPr b="1" i="1" lang="es-ES" sz="2400" spc="-1" strike="noStrike">
                <a:solidFill>
                  <a:srgbClr val="0000ff"/>
                </a:solidFill>
                <a:latin typeface="Tahoma"/>
              </a:rPr>
              <a:t>ALBERTO MARCEL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, DIGAMOS,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L VALOR DE LA FLEXIBILIDAD ES MAYOR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XISTE UN ALTO NIVEL DE INCERTI-DUMBRE SOBRE EL FUTU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A47-38D9-4BDD-A306-68FBFC617C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63332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ES PROBABLE ADQUIRIR NUEVA INFOR-MACIÓN SOBRE LA EVOLUCIÓN FUTURA CON EL TRANSCURSO DEL TIEMP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823-5D1C-450B-B1FF-BCAF1E10BB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42920" y="1488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… 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CUAN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i="1" lang="es-ES" sz="2400" spc="-1" strike="noStrike">
                <a:solidFill>
                  <a:srgbClr val="0000cc"/>
                </a:solidFill>
                <a:latin typeface="Tahoma"/>
              </a:rPr>
              <a:t>LA GERENCIA TIENE CAPACIDAD DE MA-NIOBRA Y AGILIDAD PARA RESPONDER ADECUADAMENTE AL RECIBIR NUEVA INFORMACIÓN</a:t>
            </a: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56B-3F25-46E9-8A63-9F07C1EBDF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268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VALOR ACTUAL N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1628640"/>
            <a:ext cx="4896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42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OPCIONE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98900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F40-74BD-4345-9B6A-94C36224BA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44520"/>
            <a:ext cx="8353440" cy="320220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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E PROCESO DEBE CREAR VALOR. POR LO TANTO SE REQUIERE LA APLICACIÓN DE ESTRATEGIAS DE NEGOCIOS Y DE ESTRATEGI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305-CC7D-46EE-9935-7805B105AAC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87280" y="549360"/>
            <a:ext cx="6769440" cy="459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 </a:t>
            </a:r>
            <a:r>
              <a:rPr b="1" lang="es-A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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DECISIONES A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989000"/>
            <a:ext cx="8642160" cy="1015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LA ALTA INCERTIDUMBRE INHIBE EL PEN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ÉGICO Y EL PLANEAMIENT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4005360"/>
            <a:ext cx="5400720" cy="21283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SE REQUIERE EL APOY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OPCIONE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ÁCTICAS FINANCI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NNOVACIÓN Y CREA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125360"/>
            <a:ext cx="358920" cy="790920"/>
          </a:xfrm>
          <a:prstGeom prst="downArrow">
            <a:avLst>
              <a:gd name="adj1" fmla="val 50000"/>
              <a:gd name="adj2" fmla="val 5509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3141720"/>
            <a:ext cx="358920" cy="792000"/>
          </a:xfrm>
          <a:prstGeom prst="downArrow">
            <a:avLst>
              <a:gd name="adj1" fmla="val 50000"/>
              <a:gd name="adj2" fmla="val 55165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70B-FD57-452F-A719-CCB2BD38168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1341360"/>
            <a:ext cx="705816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A MAYOR INCERTIDU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3789360"/>
            <a:ext cx="7705440" cy="1373760"/>
          </a:xfrm>
          <a:prstGeom prst="rect">
            <a:avLst/>
          </a:prstGeom>
          <a:solidFill>
            <a:srgbClr val="66ff99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MÁS Y MEJORES ESTRATEG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492280"/>
            <a:ext cx="358560" cy="1224000"/>
          </a:xfrm>
          <a:prstGeom prst="downArrow">
            <a:avLst>
              <a:gd name="adj1" fmla="val 50000"/>
              <a:gd name="adj2" fmla="val 85341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10C-BAAD-401D-8CAE-C49D7C7971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9200" y="310824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cc"/>
                </a:solidFill>
                <a:latin typeface="Tahoma"/>
              </a:rPr>
              <a:t>frotstein@uns.edu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FCE-5204-44F8-ABB5-75C4F0A1073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570320"/>
            <a:ext cx="8729640" cy="4482720"/>
          </a:xfrm>
          <a:prstGeom prst="rect">
            <a:avLst/>
          </a:prstGeom>
          <a:solidFill>
            <a:srgbClr val="faf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L OBJETIVO FINANCIERO DE LAS ORGANIZACIONES MODERNAS ES LA MAXIMIZACIÓN DEL VALOR ACTUAL DEL PATRIMONIO NETO, A VALORES DE MERCADO. SI ELLO SE CUMPLE, SE PUEDE AFIRMAR QUE LAS DECISIONES TOMADAS EN LA ORGANIZACIÓN CREARON VALOR. EN CASO CONTRARIO, NO SE PUEDE HACER TAL AFI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62064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594-A7A2-4F82-BEBC-614AD31ED4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2493360"/>
            <a:ext cx="55450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VALOR TIEMPO DEL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PROYE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HERRAMIENTAS DE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STRATEGI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2480" y="476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413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DB0-A111-4339-B31E-0FC1AE6235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2417760"/>
            <a:ext cx="640872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REATIVIDAD E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VALUACIÓN DE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Y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IMPREVISIBI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Webdings"/>
                <a:ea typeface="Webdings"/>
              </a:rPr>
              <a:t>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2480" y="6206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MPLEJIDAD DE LAS FINANZAS 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628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TENDREMOS EN FORMA CON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UESTIONE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197-2E1F-4C03-81D7-A5E45DB1DB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9760" y="836640"/>
            <a:ext cx="579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INCERTIDUMBRE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No se puede prever el futu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ff"/>
                </a:solidFill>
                <a:uFillTx/>
                <a:latin typeface="Tahoma"/>
              </a:rPr>
              <a:t>CONTEXTOS</a:t>
            </a:r>
            <a:r>
              <a:rPr b="1" lang="es-AR" sz="24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CAMBIANTE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TURBULENT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INFLACIONARI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                          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…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y/o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 CAÓTICOS 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ff3300"/>
                </a:solidFill>
                <a:latin typeface="Tahoma"/>
              </a:rPr>
              <a:t>+ </a:t>
            </a:r>
            <a:r>
              <a:rPr b="1" lang="es-AR" sz="2400" spc="-1" strike="noStrike">
                <a:solidFill>
                  <a:srgbClr val="0000cc"/>
                </a:solidFill>
                <a:latin typeface="Tahoma"/>
              </a:rPr>
              <a:t>GLOB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823-BCDE-4934-B997-79962780DE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6:30:23Z</dcterms:created>
  <dc:creator>Fabio Rotstein</dc:creator>
  <dc:description/>
  <dc:language>en-US</dc:language>
  <cp:lastModifiedBy>C.P.C.E.C.A.B.A.</cp:lastModifiedBy>
  <dcterms:modified xsi:type="dcterms:W3CDTF">2004-09-24T15:28:28Z</dcterms:modified>
  <cp:revision>203</cp:revision>
  <dc:subject/>
  <dc:title>Diapositiva 1</dc:title>
</cp:coreProperties>
</file>