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798-70B6-45EB-8535-91837669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6E8-3498-45C1-B416-F6A4A2E1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BD8-D482-49AB-8412-AD2D297F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5F1-4F2C-4C71-8192-69E458A1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95F-F11B-4E05-9B6A-CA51B1A2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FAD-63AE-4F69-A2D2-FE16865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1AB-3A92-4900-BC57-3B0BF867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269-A3AA-4F56-8F59-38E6CB32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D24-1A6D-4A6E-AA23-65D1875C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508-4223-41D1-93DB-552022E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8E3-43A9-4E86-A12D-6845E974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8F4-7A03-4163-A06A-C474F7F2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9EA1-B53C-436E-BDBE-2CCCB53035F6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919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STRUMENTOS FINANCIEROS DEL MERCADO DE DINERO Y SU INTERACCION CON LOS MERCADOS DE: CAMBIOS, CAPITALES Y DE DERIVAD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2060280"/>
            <a:ext cx="706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mer Congreso Nacional e Internacional de Finanzas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Ricardo Pascale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fesor de Economía Financie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niversidad de la República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ta:  Estas notas son para utilizarse como una guía para una exposición oral, no son por tanto, un registro completo de la discu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enos Aires, Setiembre de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A54-EBF2-4C99-A7DB-47DA835DD8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95320" y="1341360"/>
            <a:ext cx="234144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22880" y="1341360"/>
            <a:ext cx="234000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12880" y="3933720"/>
            <a:ext cx="1871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52640" y="1773360"/>
            <a:ext cx="20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78400" y="1773360"/>
            <a:ext cx="20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liente Inve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68760" y="4076640"/>
            <a:ext cx="148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uenta Custodia en la Inst. Fci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25720" y="2276640"/>
            <a:ext cx="343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56520" y="2276640"/>
            <a:ext cx="1014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70640" y="2276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70640" y="2492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84160" y="414972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236400" y="177336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059600" y="76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378160" y="76500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7816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112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596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57560" y="198900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Venta Contado de Títu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62640" y="4221000"/>
            <a:ext cx="288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Depósito en Custodia de Títulos Valores vendidos hasta el vencimiento de la trans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14880" y="1341360"/>
            <a:ext cx="28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go de Compra de títulos valores o Inversión ML 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01840" y="189000"/>
            <a:ext cx="475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cto de Recompra Simultáneo a la operación contado, con diferencial de precios de los títulos, equivalentes al retorno de la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27360" y="4653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27360" y="5805360"/>
            <a:ext cx="5694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321840" y="2060640"/>
            <a:ext cx="0" cy="3744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85120" y="206064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994160" y="206064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994520" y="1483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94520" y="1484280"/>
            <a:ext cx="16401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634680" y="1484280"/>
            <a:ext cx="0" cy="4753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95320" y="6237360"/>
            <a:ext cx="8739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95320" y="2133360"/>
            <a:ext cx="0" cy="410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44880" y="2492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44880" y="3213000"/>
            <a:ext cx="49147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59600" y="2492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17960" y="5373720"/>
            <a:ext cx="413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los Títulos Valores al Vencimiento de la Inversión a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57360" y="2852640"/>
            <a:ext cx="389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Venta de los títulos valores al vencimiento de la inversión al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760" y="652464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6381720"/>
            <a:ext cx="171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2880" y="6524640"/>
            <a:ext cx="10922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5120" y="6381720"/>
            <a:ext cx="202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l vencimiento de la inver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92880" y="189000"/>
            <a:ext cx="2341800" cy="39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cio de Recompra menos Precio de Venta = Retorno sobre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22C-11D5-4D6F-B842-8BBCF7746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95320" y="1341360"/>
            <a:ext cx="234144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2640" y="1773360"/>
            <a:ext cx="20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2880" y="1341360"/>
            <a:ext cx="234000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78400" y="1773360"/>
            <a:ext cx="20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liente Presta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12880" y="3933720"/>
            <a:ext cx="1871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68760" y="4076640"/>
            <a:ext cx="148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uenta Custodia en la Inst. Fci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79800" y="2205000"/>
            <a:ext cx="312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600200" y="220500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20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242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29264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57560" y="191628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Venta Contado de Títu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-268560" y="3432960"/>
            <a:ext cx="266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Depósito en Custodia de Títulos Valores vendidos hasta el vencimiento de la trans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6520" y="1484280"/>
            <a:ext cx="358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03480" y="105264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go de Compra de títulos valores equivalente a financiación en ML 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9600" y="465300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07600" y="6021360"/>
            <a:ext cx="30416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960" y="1915920"/>
            <a:ext cx="0" cy="4105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573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57360" y="2924280"/>
            <a:ext cx="47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21512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57360" y="2491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55920" y="2852640"/>
            <a:ext cx="475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cto de Recompra Simultáneo a la operación contado, con diferencial de precios de los títulos, equivalentes al costo del financi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960" y="1916280"/>
            <a:ext cx="387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95320" y="1916280"/>
            <a:ext cx="235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130400" y="155700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130400" y="83664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30400" y="836640"/>
            <a:ext cx="5929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59600" y="8366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960" y="6021360"/>
            <a:ext cx="413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los Títulos Valores al Vencimiento de la transacción a precio pactado en el pacto de Recompra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61240" y="2492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144520" y="3645000"/>
            <a:ext cx="5616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144880" y="2492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5120" y="3645000"/>
            <a:ext cx="389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Compra de los títulos valores al vencimiento de la transacción, al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59000" y="6524640"/>
            <a:ext cx="11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30800" y="6381720"/>
            <a:ext cx="171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5280" y="6524640"/>
            <a:ext cx="10918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7160" y="6381720"/>
            <a:ext cx="202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l vencimiento de la inver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76760" y="5013360"/>
            <a:ext cx="3510000" cy="39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cio de Recompra menos Precio de Venta = Costo del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BE1-FFAD-4B27-9CCE-13528BC1C5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74880" y="1197000"/>
            <a:ext cx="218412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95320" y="3141720"/>
            <a:ext cx="210816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3480" y="3213000"/>
            <a:ext cx="2106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57360" y="5589720"/>
            <a:ext cx="16369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52640" y="1592280"/>
            <a:ext cx="19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4880" y="3284640"/>
            <a:ext cx="19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91240" y="3544920"/>
            <a:ext cx="19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12880" y="5589720"/>
            <a:ext cx="132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ustodia de Valores en Inst.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79800" y="1557360"/>
            <a:ext cx="4525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05720" y="1557360"/>
            <a:ext cx="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70400" y="1197000"/>
            <a:ext cx="33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éstamo normal de Mercado de dinero con tasa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79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76520" y="4365720"/>
            <a:ext cx="585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676520" y="4005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27360" y="4336920"/>
            <a:ext cx="39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compra contado de títulos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25720" y="34290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25720" y="306864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Títulos Valores Vendidos al Cliente Pres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527960" y="3213000"/>
            <a:ext cx="7776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76520" y="314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676520" y="2421000"/>
            <a:ext cx="15696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4280" y="2565360"/>
            <a:ext cx="366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locación de fondos en igual moneda, plazo y tasa de interés que préstamo de Offshore a Cliente Presta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856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222640" y="5013360"/>
            <a:ext cx="569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2264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222640" y="3789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2640" y="378936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46520" y="378936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70400" y="378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003120" y="3645000"/>
            <a:ext cx="155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62640" y="3645000"/>
            <a:ext cx="195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12880" y="3645000"/>
            <a:ext cx="436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cto de Recompra Simultáneo a la operación contado, con diferencial de precios de los títulos, equivalentes al costo del financi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38760" y="501336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Venta Contado de Títu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69000" y="3429000"/>
            <a:ext cx="1249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91856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63680" y="3933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63680" y="6381720"/>
            <a:ext cx="694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07360" y="3933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62640" y="5950080"/>
            <a:ext cx="335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go de Compra de títulos valores equivalente a financiación en ML 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33480" y="1557360"/>
            <a:ext cx="117000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18640" y="58770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19000" y="3645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9000" y="3645000"/>
            <a:ext cx="311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130400" y="3284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1304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61680" y="2421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62040" y="69228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040" y="69228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86760" y="692280"/>
            <a:ext cx="0" cy="266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307000" y="3357720"/>
            <a:ext cx="779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307000" y="335772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46520" y="333360"/>
            <a:ext cx="413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los Títulos Valores al Vencimiento de la transacción a precio pactado en el pacto de Recompra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1000" y="3860640"/>
            <a:ext cx="0" cy="273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1000" y="6597720"/>
            <a:ext cx="8735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9086760" y="364500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7596000" y="4670280"/>
            <a:ext cx="359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Compra de los títulos valores al vencimiento de la transacción, al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8620200" y="3645000"/>
            <a:ext cx="466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1000" y="3860640"/>
            <a:ext cx="858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071920" y="3357720"/>
            <a:ext cx="23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072280" y="907560"/>
            <a:ext cx="0" cy="244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51000" y="907920"/>
            <a:ext cx="7721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000" y="90792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1000" y="3500280"/>
            <a:ext cx="544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7583040" y="2295360"/>
            <a:ext cx="14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Contado Spot de los títulos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9000" y="3500280"/>
            <a:ext cx="2184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003480" y="2421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03480" y="242100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6760" y="2421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27360" y="220500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port de Compra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46760" y="335772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370640" y="1989000"/>
            <a:ext cx="0" cy="136872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158640" y="1989000"/>
            <a:ext cx="421164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60640" y="1773360"/>
            <a:ext cx="319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Préstamo Offshore más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363320" y="1989000"/>
            <a:ext cx="171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6368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63680" y="2276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286560" y="244008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Colo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1440" y="189000"/>
            <a:ext cx="85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09600" y="88920"/>
            <a:ext cx="16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ffahore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79800" y="18900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94280" y="44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nshore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11840" y="189000"/>
            <a:ext cx="701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5280" y="44280"/>
            <a:ext cx="163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nshore al V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151840" y="189000"/>
            <a:ext cx="77940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72280" y="16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ffshore al V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213-0CF5-418B-9E4A-EF1AD1D166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36520" y="2349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5240" y="2816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60520" y="2349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5240" y="2781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40160" y="234936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28880" y="2852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92520" y="1916280"/>
            <a:ext cx="216072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68880" y="28400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34280" y="793800"/>
            <a:ext cx="2011320" cy="1266840"/>
          </a:xfrm>
          <a:prstGeom prst="borderCallout2">
            <a:avLst>
              <a:gd name="adj1" fmla="val 18750"/>
              <a:gd name="adj2" fmla="val -8333"/>
              <a:gd name="adj3" fmla="val 9023"/>
              <a:gd name="adj4" fmla="val -63537"/>
              <a:gd name="adj5" fmla="val 88597"/>
              <a:gd name="adj6" fmla="val -12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73960" y="98100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La política cambiaria y monetaria en interrelación con el mercado de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ED0-1CB9-4A3A-B9BA-854455EA9C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967360" y="1341360"/>
            <a:ext cx="3587760" cy="489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54280" y="1197000"/>
            <a:ext cx="24969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645000"/>
            <a:ext cx="24969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46760" y="1916280"/>
            <a:ext cx="21844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46760" y="3213000"/>
            <a:ext cx="21844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4724280" y="339660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ERCADO DE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4080" y="2205000"/>
            <a:ext cx="17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MDA. 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80400" y="357336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MDA.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46760" y="4510080"/>
            <a:ext cx="21844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0400" y="4724280"/>
            <a:ext cx="17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INANC. EX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11240" y="1557360"/>
            <a:ext cx="218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UTORIDAD MONE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54280" y="412128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ON INTERVI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264280" y="2205000"/>
            <a:ext cx="14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64280" y="220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172040" y="414972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46520" y="414972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8465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84652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3676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36760" y="36450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36760" y="393372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17960" y="393372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562280" y="5157720"/>
            <a:ext cx="21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562640" y="4149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931240" y="386064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9712440" y="40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527960" y="404640"/>
            <a:ext cx="218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36760" y="40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36760" y="1197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846520" y="1197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1240" y="333360"/>
            <a:ext cx="17938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846520" y="62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534760" y="620640"/>
            <a:ext cx="311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95320" y="404640"/>
            <a:ext cx="156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licaciones de Reser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76760" y="189000"/>
            <a:ext cx="1951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76760" y="693720"/>
            <a:ext cx="1951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34080" y="37620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Títulos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34080" y="80820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576760" y="404640"/>
            <a:ext cx="195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236760" y="40464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4760" y="907920"/>
            <a:ext cx="70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5120" y="40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63680" y="9079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63680" y="1700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54280" y="1700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44880" y="1700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44880" y="206064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44880" y="371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44880" y="4581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44880" y="5300640"/>
            <a:ext cx="210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251240" y="2565360"/>
            <a:ext cx="0" cy="273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51240" y="2565360"/>
            <a:ext cx="2495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931240" y="414972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555120" y="4149720"/>
            <a:ext cx="15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712440" y="4149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41240" y="6669000"/>
            <a:ext cx="8971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41240" y="407628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1240" y="4076640"/>
            <a:ext cx="858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076640"/>
            <a:ext cx="311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911240" y="38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911240" y="198864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911240" y="1484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11240" y="1484280"/>
            <a:ext cx="2183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094280" y="33300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94280" y="333360"/>
            <a:ext cx="148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76760" y="333360"/>
            <a:ext cx="195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27960" y="333360"/>
            <a:ext cx="179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321840" y="33336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321840" y="2565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930880" y="3500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3676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52640" y="62373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1124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14880" y="6237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2900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470400" y="220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7040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2883240" y="287172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Sw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74880" y="5589720"/>
            <a:ext cx="53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r el contrato de Swap, la Autoridad Monetaria se compromete a la entrega de la ME vendida o entregada al inicio por el interviniente, recibiendo en contrapartida la MN equivalente al importe en ME por un Tipo de Cambio acordado e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DEC-E865-49F4-8B15-BE4B44876A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40160" y="134136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0852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61240" y="907920"/>
            <a:ext cx="2160360" cy="25923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37240" y="1773360"/>
            <a:ext cx="136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4969800">
            <a:off x="6465600" y="3500280"/>
            <a:ext cx="2590560" cy="20890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0" y="4005360"/>
            <a:ext cx="136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teracción de mercado de cambios y mercado de dinero, sin riesgo de cam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3EB-D475-4722-9564-E2F86ABAAD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278400" y="1052640"/>
            <a:ext cx="249732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63680" y="2492280"/>
            <a:ext cx="24969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60640" y="4365720"/>
            <a:ext cx="25750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9000" y="1268280"/>
            <a:ext cx="22608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1000" y="2781360"/>
            <a:ext cx="21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35720" y="134136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inversor en 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16520" y="4437000"/>
            <a:ext cx="23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pósito en Garantía en ME en la Institución Financiera devengando o sin devengar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9000" y="1413000"/>
            <a:ext cx="218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Usos en ML de la 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4960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49600" y="3716280"/>
            <a:ext cx="47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307360" y="1916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8307360" y="1557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307360" y="1557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775720" y="155736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244080" y="155736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435360" y="47242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2796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860280" y="2997360"/>
            <a:ext cx="366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753920" y="2997360"/>
            <a:ext cx="2106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754280" y="2636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754280" y="184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38760" y="3429000"/>
            <a:ext cx="351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Contado de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56520" y="4365720"/>
            <a:ext cx="351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stitución de este depósito por importe equivalente a la venta contado de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29000" y="2752560"/>
            <a:ext cx="30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Contado de ML contrap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61200" y="269316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licación de los recursos 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690640" y="2060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90640" y="2060640"/>
            <a:ext cx="42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904080" y="19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90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14880" y="1700280"/>
            <a:ext cx="28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Cambio Futuro Compra ME para la Inst. Ficiera. Y Compra futura MN para e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87200" y="4724280"/>
            <a:ext cx="187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987560" y="3357720"/>
            <a:ext cx="0" cy="1366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987560" y="321300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7560" y="3213000"/>
            <a:ext cx="1639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27360" y="3213000"/>
            <a:ext cx="4291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918560" y="198900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7918560" y="1125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7918560" y="69192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50640" y="692280"/>
            <a:ext cx="7567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1000" y="69228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1000" y="3860640"/>
            <a:ext cx="148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833480" y="3357360"/>
            <a:ext cx="0" cy="50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44880" y="1844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44880" y="2492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44880" y="2781360"/>
            <a:ext cx="1560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05120" y="2781360"/>
            <a:ext cx="3510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7215120" y="198864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2880" y="443700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Saldo de Depósito a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94280" y="2997360"/>
            <a:ext cx="25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Saldo de Depósito a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0640" y="476280"/>
            <a:ext cx="413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ME en cumplimiento de contrato fut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27360" y="249228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MN en cumplimiento de contrato fut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52640" y="62373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1124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14880" y="6237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2900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1440" y="5300640"/>
            <a:ext cx="928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r el Contrato de Cambio Futuro Compra ME, la Indt. Fciera. Se compromete a entregar la moneda nacional equivalente al monto en ME vendido al contado, por un tipo de cambio acordado al inic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636-AFA8-46E1-B732-969E74CF8B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521000" y="620640"/>
            <a:ext cx="2573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21000" y="4510080"/>
            <a:ext cx="2573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3480" y="2565360"/>
            <a:ext cx="2573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54280" y="4840200"/>
            <a:ext cx="21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54280" y="907920"/>
            <a:ext cx="21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46760" y="285264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52640" y="64245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1124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14880" y="64245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32900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1440" y="5769000"/>
            <a:ext cx="928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r el Contrato de Cambio Futuro Venta  ME, la Indt. Fciera. Se compromete a entregar la moneda extranjera equivalente al monto en ML  vendido al contado, por un tipo de cambio acordado al inic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94280" y="98100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3736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37360" y="2637000"/>
            <a:ext cx="0" cy="144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668640" y="2781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079800" y="2781360"/>
            <a:ext cx="35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79800" y="2781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508464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839000" y="3428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839000" y="2565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783900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83480" y="1268280"/>
            <a:ext cx="15606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05720" y="1341360"/>
            <a:ext cx="155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licación de los recursos en 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798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534760" y="4724280"/>
            <a:ext cx="544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535120" y="4508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535120" y="14839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535120" y="1197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35120" y="119700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60640" y="981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60640" y="981000"/>
            <a:ext cx="233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51240" y="76500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éstamo normal en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990360" y="29091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pósito Rentable en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14880" y="253692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ME al Con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72040" y="484020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ML al Con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186520" y="3357360"/>
            <a:ext cx="187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704760" y="4005360"/>
            <a:ext cx="14814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20191200">
            <a:off x="3470400" y="3679920"/>
            <a:ext cx="288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Futuro de Cambio a Término, pactando  tipo de cambio fut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19000" y="1052640"/>
            <a:ext cx="70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9000" y="105264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5157720"/>
            <a:ext cx="2262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38760" y="5157720"/>
            <a:ext cx="444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5120" y="335772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385120" y="2637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85120" y="2637000"/>
            <a:ext cx="132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9712440" y="62028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860280" y="620640"/>
            <a:ext cx="585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705120" y="620640"/>
            <a:ext cx="1555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7370280" y="155736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46520" y="3284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9000" y="515772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70640" y="1557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70640" y="2565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746400" y="328464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846520" y="3284640"/>
            <a:ext cx="3900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8AF-D527-4EE8-9B71-496F42F976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40160" y="134136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0852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96124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3252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040520" y="981000"/>
            <a:ext cx="1873440" cy="244800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400880" y="190332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0032600">
            <a:off x="5368680" y="3638520"/>
            <a:ext cx="4032000" cy="2160720"/>
          </a:xfrm>
          <a:prstGeom prst="cloudCallout">
            <a:avLst>
              <a:gd name="adj1" fmla="val -36833"/>
              <a:gd name="adj2" fmla="val 58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92880" y="4076640"/>
            <a:ext cx="244800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sh Management como obje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se de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dquisición de clie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delización de clie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eguimiento del flujo de fondos de la econom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F6B-F61E-461E-82D4-00ACF8A3EA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081240" y="1268280"/>
            <a:ext cx="343224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03480" y="5013360"/>
            <a:ext cx="343080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33480" y="3141720"/>
            <a:ext cx="59277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70400" y="1628640"/>
            <a:ext cx="26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79800" y="3500280"/>
            <a:ext cx="33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79800" y="5489640"/>
            <a:ext cx="33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719600" y="234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10200" y="2349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10200" y="314172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1020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64184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10200" y="501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10200" y="5373720"/>
            <a:ext cx="116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78400" y="5373720"/>
            <a:ext cx="202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8307360" y="184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435360" y="184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003480" y="184464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363320" y="1844640"/>
            <a:ext cx="16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63680" y="184464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63680" y="5516640"/>
            <a:ext cx="163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3480" y="551664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641840" y="501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3606840" y="261936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u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277880" y="262404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cepta Fa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275000"/>
            <a:ext cx="195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ede 100% factura menos 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06920" y="4508640"/>
            <a:ext cx="10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A de 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7583040" y="39560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Notifica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132480" y="398952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in Oposición a la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795920" y="76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95920" y="765000"/>
            <a:ext cx="4057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853480" y="76500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278040" y="5734080"/>
            <a:ext cx="257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7669080" y="35589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factura a su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52640" y="64245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1124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14880" y="64245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2900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7AE-030F-4AE4-BB6D-F1D92476C3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86080" y="0"/>
            <a:ext cx="77882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roducción y Gener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volución de los productos en el mercado de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ductos Pasivos Prim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ductos Activos Prim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ertificados de Depósitos Transferibles y “Trade Certificat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tas de Créditos domés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tas de Crédito Stan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inanciación de exportaciones – Pre y P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l mercado de Dinero y el mercado de De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6EB-F0A0-41DC-BDD9-8E58C5A913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911240" y="1268280"/>
            <a:ext cx="27306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62640" y="3068640"/>
            <a:ext cx="35096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11240" y="4653000"/>
            <a:ext cx="27306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44880" y="1557360"/>
            <a:ext cx="23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44880" y="4941720"/>
            <a:ext cx="23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10200" y="3213000"/>
            <a:ext cx="23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stribuidores o “Dealers”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41840" y="1700280"/>
            <a:ext cx="16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78400" y="1700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746760" y="1483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406760" y="148428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066760" y="1484280"/>
            <a:ext cx="2340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974520" y="148428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4880" y="148428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74880" y="522936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7560" y="5229360"/>
            <a:ext cx="2575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62640" y="522936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500800" y="37159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500800" y="3573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719600" y="357336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1960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562640" y="4941720"/>
            <a:ext cx="15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37816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52640" y="64245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91124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14880" y="64245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2900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875120" y="1700280"/>
            <a:ext cx="12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5880600" y="20818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cepta 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6200000">
            <a:off x="-329040" y="312660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esión de 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4740480" y="449316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nuncia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6200000">
            <a:off x="3529080" y="4168800"/>
            <a:ext cx="21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No opone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6200000">
            <a:off x="639720" y="319356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scuenta  o Compra Facturas (Forfiting o Facto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04080" y="378936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36400" y="5950080"/>
            <a:ext cx="366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236760" y="558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5400000">
            <a:off x="6233040" y="477756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ncelación de Facturas al 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804-D6C0-4A4E-AE30-58268F6A79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136520" y="3213000"/>
            <a:ext cx="1944720" cy="2087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96880" y="39337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2547600">
            <a:off x="2936520" y="3789360"/>
            <a:ext cx="3211560" cy="2382840"/>
          </a:xfrm>
          <a:prstGeom prst="cloudCallout">
            <a:avLst>
              <a:gd name="adj1" fmla="val -41787"/>
              <a:gd name="adj2" fmla="val 6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24160" y="4292640"/>
            <a:ext cx="252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l inversor asume la administración y fijación de su ubicación con respecto a la frontera de eficiencia, riesgo / reto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600880" y="2781360"/>
            <a:ext cx="2089080" cy="19778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6972480" y="4869000"/>
            <a:ext cx="2589120" cy="17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FCB-AD4A-42C7-82CE-682E5AAABF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314880" y="3068640"/>
            <a:ext cx="296352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92640" y="1197000"/>
            <a:ext cx="296532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314880" y="4869000"/>
            <a:ext cx="296352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627360" y="148428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549600" y="335772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Intervi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27360" y="527220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Inver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40676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95288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84280" y="4292640"/>
            <a:ext cx="1638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62040" y="4365720"/>
            <a:ext cx="14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uenta Custodia del Doc.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406760" y="3141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0676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06760" y="48690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392280" y="5157720"/>
            <a:ext cx="1014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285920" y="5157720"/>
            <a:ext cx="21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28592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1285920" y="4365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85920" y="436572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22640" y="4365720"/>
            <a:ext cx="163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6064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9592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530064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7370640" y="3573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6278400" y="357336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5888160" y="357336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888160" y="3357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88160" y="3357720"/>
            <a:ext cx="234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22880" y="3357720"/>
            <a:ext cx="12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7370640" y="1700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6356160" y="1700280"/>
            <a:ext cx="10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28400" y="350028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8760" y="3500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8760" y="5445000"/>
            <a:ext cx="29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3348720" y="2400840"/>
            <a:ext cx="165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rma de Documento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3898800" y="243648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Comisión = Tasa Ac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3206520" y="423972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oc.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943080" y="427500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Comisión = Tasa Pas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521000" y="4941720"/>
            <a:ext cx="163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pósito en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144880" y="4149720"/>
            <a:ext cx="163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ertificado de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1000" y="3141720"/>
            <a:ext cx="28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 de Opción de Venta / Put Option, fecha y precio defin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6186240" y="44204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6217560" y="254808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43480" y="20606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43480" y="3933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811840" y="3860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1840" y="1989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4440960" y="24400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5400000">
            <a:off x="4622040" y="424080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5087520" y="25160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Com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400000">
            <a:off x="5087520" y="438768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Com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875120" y="57340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75120" y="6093000"/>
            <a:ext cx="366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542440" y="3500280"/>
            <a:ext cx="0" cy="259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278040" y="3500280"/>
            <a:ext cx="22640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576760" y="587700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jecuta Opción de Venta- 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84520" y="57340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19000" y="6093000"/>
            <a:ext cx="3665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819000" y="486900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85920" y="5877000"/>
            <a:ext cx="23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uelve Certificado de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819000" y="429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819000" y="1773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19000" y="1773360"/>
            <a:ext cx="2573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819000" y="3860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19000" y="3860640"/>
            <a:ext cx="296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3782880" y="3212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19000" y="2997360"/>
            <a:ext cx="296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82880" y="2997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9000" y="364500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ncelación de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95320" y="278136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uelve documento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52640" y="64976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1124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14880" y="6497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32900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39D-39D8-4F7F-AF36-56945696EB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432160" y="292428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92520" y="342900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3504000">
            <a:off x="4340160" y="3814560"/>
            <a:ext cx="3079800" cy="2952720"/>
          </a:xfrm>
          <a:prstGeom prst="cloudCallout">
            <a:avLst>
              <a:gd name="adj1" fmla="val -48231"/>
              <a:gd name="adj2" fmla="val 33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025960" y="4076640"/>
            <a:ext cx="16560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Generación de Continge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ducción de Ac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cremento de Retorno sobre Ac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ingencia de liquidez, brindando servicio a clientes con relacion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de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mpliación de base de clie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380-C67D-4996-B1C8-C3404E3D5A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819000" y="765000"/>
            <a:ext cx="241776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95320" y="4724280"/>
            <a:ext cx="241956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343480" y="2133720"/>
            <a:ext cx="24177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343480" y="4005360"/>
            <a:ext cx="24177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08160" y="93492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209600" y="4797360"/>
            <a:ext cx="18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del Cliente Dealer o Distribuidor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576760" y="4149720"/>
            <a:ext cx="195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stribuidor o Dealer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576760" y="2311560"/>
            <a:ext cx="187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44880" y="551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44880" y="6237360"/>
            <a:ext cx="46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746760" y="486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35120" y="6021360"/>
            <a:ext cx="39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ertura de Carta de Crédito doméstico/ Vista o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285920" y="1483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-52560" y="3305880"/>
            <a:ext cx="23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visa Car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079800" y="981000"/>
            <a:ext cx="35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91240" y="981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59000" y="765000"/>
            <a:ext cx="249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visa Car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285920" y="98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285920" y="981000"/>
            <a:ext cx="1717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122880" y="134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3158640" y="1341360"/>
            <a:ext cx="29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314880" y="1125360"/>
            <a:ext cx="24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ura y Rem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2690280" y="1341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690640" y="134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90640" y="14842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430640" y="3305160"/>
            <a:ext cx="23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mite Documen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6876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768760" y="5877000"/>
            <a:ext cx="33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122880" y="4797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549600" y="5632560"/>
            <a:ext cx="17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oc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811840" y="472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484160" y="5516640"/>
            <a:ext cx="13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4484520" y="51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3314520" y="5157720"/>
            <a:ext cx="116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314880" y="5157720"/>
            <a:ext cx="23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236760" y="479736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a la Vista o letras si e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1363680" y="5157720"/>
            <a:ext cx="195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363680" y="1557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334800" y="3228840"/>
            <a:ext cx="23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a la Vista o letras si e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761240" y="2492280"/>
            <a:ext cx="124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9010800" y="2492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760880" y="4437000"/>
            <a:ext cx="12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6200000">
            <a:off x="8125920" y="337572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de Mercad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363680" y="83628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363680" y="47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363680" y="476280"/>
            <a:ext cx="554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04080" y="476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612880" y="260280"/>
            <a:ext cx="288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a la Vista o letras si e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301480" y="2565360"/>
            <a:ext cx="304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301840" y="1557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11240" y="155736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84652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46520" y="4508640"/>
            <a:ext cx="249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6591240" y="371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2144520" y="3716280"/>
            <a:ext cx="444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4488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271080" y="515772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71440" y="1125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1440" y="11253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25720" y="141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25720" y="184464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5452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46520" y="2320920"/>
            <a:ext cx="24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Letras al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5400000">
            <a:off x="904680" y="2552400"/>
            <a:ext cx="22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Letras al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25720" y="433692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Letras al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59000" y="350028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etras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003480" y="162864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etras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16200000">
            <a:off x="-720360" y="305424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etras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2378160" y="62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378160" y="620640"/>
            <a:ext cx="491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292880" y="62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6634080" y="106308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entual adelanto sobre Carta de Crédito o compra de Letr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363680" y="5445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363680" y="6524640"/>
            <a:ext cx="600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370640" y="4723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754280" y="6308640"/>
            <a:ext cx="52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entual préstamo para realizar 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8B7-DCCB-4EFC-A103-5E9088719D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584520" y="2852640"/>
            <a:ext cx="1800360" cy="223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944880" y="357336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3019800">
            <a:off x="5863320" y="3372480"/>
            <a:ext cx="3384720" cy="2989440"/>
          </a:xfrm>
          <a:prstGeom prst="cloudCallout">
            <a:avLst>
              <a:gd name="adj1" fmla="val -43435"/>
              <a:gd name="adj2" fmla="val 58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321600" y="4033800"/>
            <a:ext cx="23032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cremento de contin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Reducción de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cremento de Retorno sobre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ntrol de liqui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63A-26BD-4AEC-85C5-7BF62DB765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2144880" y="4292640"/>
            <a:ext cx="28857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44880" y="1197000"/>
            <a:ext cx="28857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122880" y="2781360"/>
            <a:ext cx="288612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57360" y="1484280"/>
            <a:ext cx="23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Monetiz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78160" y="458136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Em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435720" y="3068640"/>
            <a:ext cx="23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demandando financ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853480" y="3500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3627000" y="5516640"/>
            <a:ext cx="522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627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627360" y="494136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627360" y="49417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875120" y="4941720"/>
            <a:ext cx="257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7450200" y="371628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7450200" y="3429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278040" y="3429000"/>
            <a:ext cx="1171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158640" y="3429000"/>
            <a:ext cx="31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159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18560" y="148392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875120" y="1484280"/>
            <a:ext cx="304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30640" y="1700280"/>
            <a:ext cx="249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527960" y="1700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52880" y="5300640"/>
            <a:ext cx="27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olicitud de Emisión de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4724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 de Stand By solici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27360" y="321300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doso de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952880" y="1700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xtensión de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110200" y="1268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8696160" y="69228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3158640" y="692280"/>
            <a:ext cx="5537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159000" y="692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251240" y="90756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251240" y="907920"/>
            <a:ext cx="4056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07360" y="90792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1130400" y="170028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130400" y="47628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130400" y="476280"/>
            <a:ext cx="8191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9321840" y="47628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930880" y="328464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839000" y="3284640"/>
            <a:ext cx="1092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839000" y="3284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839000" y="3716280"/>
            <a:ext cx="0" cy="2233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079800" y="5950080"/>
            <a:ext cx="4759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079800" y="5229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7614000" y="172152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795920" y="880920"/>
            <a:ext cx="26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uelve 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846520" y="260280"/>
            <a:ext cx="319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 la Carta Stand By venc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27360" y="5734080"/>
            <a:ext cx="319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 la Carta Stand By venc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35120" y="1989000"/>
            <a:ext cx="0" cy="24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925720" y="2060640"/>
            <a:ext cx="0" cy="23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130400" y="4797360"/>
            <a:ext cx="101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130400" y="1915920"/>
            <a:ext cx="0" cy="28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130400" y="1916280"/>
            <a:ext cx="1247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094280" y="3715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094280" y="3716280"/>
            <a:ext cx="2886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6200000">
            <a:off x="1164960" y="312516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sentación de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rot="16200000">
            <a:off x="1332000" y="3054240"/>
            <a:ext cx="28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 vencido y endos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6200000">
            <a:off x="66600" y="3198240"/>
            <a:ext cx="23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Garantía emit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251240" y="371628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icia gestiones de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52640" y="64976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91124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14880" y="6497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329000" y="6353280"/>
            <a:ext cx="163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repago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202440" y="6453360"/>
            <a:ext cx="1168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370640" y="6345360"/>
            <a:ext cx="16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ejecución de garant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E06-1B85-4563-9C46-77B27A76FF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808520" y="2924280"/>
            <a:ext cx="1944720" cy="19447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024520" y="355932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3095400">
            <a:off x="6827400" y="3397320"/>
            <a:ext cx="2449800" cy="2484360"/>
          </a:xfrm>
          <a:prstGeom prst="cloudCallout">
            <a:avLst>
              <a:gd name="adj1" fmla="val -43685"/>
              <a:gd name="adj2" fmla="val 44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184880" y="3789360"/>
            <a:ext cx="18003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Financiación Importaciones y Aplicaciones financi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ercado Secundario, utilización Mesa de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0F0-C194-4E34-B04C-E4A04B7A7D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363680" y="836640"/>
            <a:ext cx="312084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363680" y="3789360"/>
            <a:ext cx="312084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137360" y="907920"/>
            <a:ext cx="1716120" cy="381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33480" y="1125360"/>
            <a:ext cx="226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 o lib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600200" y="414972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Acept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5400000">
            <a:off x="6209280" y="256284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5400000">
            <a:off x="5892120" y="2695320"/>
            <a:ext cx="32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MERCADO SECUND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22264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16200000">
            <a:off x="858240" y="27280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 de L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3860640" y="177336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16200000">
            <a:off x="2351880" y="272808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nanciamiento Exten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222640" y="3860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22640" y="4149720"/>
            <a:ext cx="2184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484520" y="414972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754280" y="3933720"/>
            <a:ext cx="273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CEP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60640" y="3933720"/>
            <a:ext cx="343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9945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2846520" y="5445000"/>
            <a:ext cx="51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8465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392640" y="522936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94280" y="443700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093920" y="3357720"/>
            <a:ext cx="304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94280" y="3357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562640" y="3141720"/>
            <a:ext cx="19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094280" y="39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1600200" y="4437000"/>
            <a:ext cx="249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600200" y="400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6002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rot="16200000">
            <a:off x="588240" y="291060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507600" y="1341360"/>
            <a:ext cx="855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7960" y="134136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7960" y="4365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rot="16200000">
            <a:off x="-1260360" y="2801160"/>
            <a:ext cx="33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la Letra /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329000" y="4437000"/>
            <a:ext cx="3198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35120" y="4724280"/>
            <a:ext cx="0" cy="14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535120" y="6165720"/>
            <a:ext cx="678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9321840" y="2924280"/>
            <a:ext cx="0" cy="32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8853120" y="292428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542440" y="4221000"/>
            <a:ext cx="0" cy="20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2144520" y="6308640"/>
            <a:ext cx="6397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144880" y="4652640"/>
            <a:ext cx="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925720" y="1773360"/>
            <a:ext cx="0" cy="20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9000" y="587700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rot="5400000">
            <a:off x="7783560" y="52138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16200000">
            <a:off x="1835640" y="27640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icio de gestión de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052640" y="55728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11240" y="41292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314880" y="557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329000" y="412920"/>
            <a:ext cx="163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repago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202440" y="512640"/>
            <a:ext cx="1168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70640" y="40464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ejec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F87-36B9-451A-95E0-D50A4A93C5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321600" y="2924280"/>
            <a:ext cx="1655640" cy="20174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017440"/>
              <a:gd name="textAreaBottom" fmla="*/ 2017800 h 20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753240" y="3629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rot="11756400">
            <a:off x="3728520" y="4797000"/>
            <a:ext cx="3311640" cy="1440000"/>
          </a:xfrm>
          <a:prstGeom prst="cloudCallout">
            <a:avLst>
              <a:gd name="adj1" fmla="val -16745"/>
              <a:gd name="adj2" fmla="val 71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160880" y="523728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l riesgo de Cross Border y una de las formas de mitiga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7C8-D68C-4989-908C-158E41B21B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13240" y="2060640"/>
            <a:ext cx="251928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92520" y="2205000"/>
            <a:ext cx="251964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9240" y="2276640"/>
            <a:ext cx="2519280" cy="24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13240" y="693720"/>
            <a:ext cx="251928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9240" y="119700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CAMB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2261160" y="3240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6640" y="316800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DERIV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89240" y="306864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DIN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29600" y="2781360"/>
            <a:ext cx="2303280" cy="2016000"/>
          </a:xfrm>
          <a:prstGeom prst="leftArrow">
            <a:avLst>
              <a:gd name="adj1" fmla="val 50000"/>
              <a:gd name="adj2" fmla="val 28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915800">
            <a:off x="6537240" y="404640"/>
            <a:ext cx="2303640" cy="2016360"/>
          </a:xfrm>
          <a:prstGeom prst="leftArrow">
            <a:avLst>
              <a:gd name="adj1" fmla="val 50000"/>
              <a:gd name="adj2" fmla="val 285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4520" y="2924280"/>
            <a:ext cx="1871640" cy="187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509600">
            <a:off x="704520" y="549000"/>
            <a:ext cx="2316240" cy="1873080"/>
          </a:xfrm>
          <a:prstGeom prst="rightArrow">
            <a:avLst>
              <a:gd name="adj1" fmla="val 50000"/>
              <a:gd name="adj2" fmla="val 30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61240" y="35002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9855800">
            <a:off x="7040160" y="10526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LIQUI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498200">
            <a:off x="775800" y="981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CAMB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2880" y="357336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TASA / 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1757600">
            <a:off x="5622120" y="4357800"/>
            <a:ext cx="3024360" cy="2303280"/>
          </a:xfrm>
          <a:prstGeom prst="cloudCallout">
            <a:avLst>
              <a:gd name="adj1" fmla="val -40638"/>
              <a:gd name="adj2" fmla="val 62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61240" y="5157720"/>
            <a:ext cx="2304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de Contrap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Comercial o d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Pre Settlement y Sett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“Cross Border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291600">
            <a:off x="6681240" y="2059920"/>
            <a:ext cx="2734920" cy="10810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720800">
            <a:off x="7113960" y="2349000"/>
            <a:ext cx="19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acidad para honrar los compromisos en tiempo y fo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623800">
            <a:off x="1463760" y="4444920"/>
            <a:ext cx="2031840" cy="2448000"/>
          </a:xfrm>
          <a:prstGeom prst="cloudCallout">
            <a:avLst>
              <a:gd name="adj1" fmla="val -57750"/>
              <a:gd name="adj2" fmla="val 65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68520" y="5229360"/>
            <a:ext cx="18000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olución adversa de Curvas de Rend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olatilidad de precio por evolución de Curva de Rend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6352800">
            <a:off x="379440" y="1593360"/>
            <a:ext cx="1765440" cy="1835280"/>
          </a:xfrm>
          <a:prstGeom prst="cloudCallout">
            <a:avLst>
              <a:gd name="adj1" fmla="val -41023"/>
              <a:gd name="adj2" fmla="val 37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0520" y="2133720"/>
            <a:ext cx="136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olución adversa de tipo de cambio o paridad entre dos mone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5240" y="141120"/>
            <a:ext cx="763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LOS RIESGOS EXISTEN SÓLO CUANDO EXISTEN POSICIONES EXPUE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LOS RIESGOS NO SE ANULAN, SE MITI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C40-1132-4967-88DF-DDC3B43B57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849240" y="765000"/>
            <a:ext cx="8567640" cy="194652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849240" y="3376440"/>
            <a:ext cx="8567640" cy="25005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1136520" y="299736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80C-33A6-4501-B4CF-8FA493471D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545240" y="2924280"/>
            <a:ext cx="1729080" cy="208908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761240" y="350028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12525000">
            <a:off x="4952160" y="4436640"/>
            <a:ext cx="3024360" cy="2205000"/>
          </a:xfrm>
          <a:prstGeom prst="cloudCallout">
            <a:avLst>
              <a:gd name="adj1" fmla="val -17004"/>
              <a:gd name="adj2" fmla="val 80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168880" y="5084640"/>
            <a:ext cx="23763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La asociación del mercado de dinero en la dinamización del modelo 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orma de mitigar los riesgos de liquidez, “cross corder” y tasas de ienteré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816520" y="361800"/>
            <a:ext cx="2300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4078"/>
              <a:gd name="adj5" fmla="val 420314"/>
              <a:gd name="adj6" fmla="val 125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961240" y="333360"/>
            <a:ext cx="201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financ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stfinanciación con o sin factoring 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11D-C866-4B8D-B520-36B26A0693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1209600" y="105264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09600" y="378936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448400" y="1052640"/>
            <a:ext cx="1716120" cy="381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329000" y="105264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600200" y="134136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exportador intervi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799160" y="138420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Import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76520" y="404820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rot="5400000">
            <a:off x="6384960" y="29102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uente de Financiamiento del Banco del 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8307360" y="40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846160" y="404640"/>
            <a:ext cx="546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846520" y="40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172040" y="40464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ondos Invert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987560" y="1916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469080" y="2764080"/>
            <a:ext cx="26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nanciamiento Otorg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87560" y="4581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782880" y="5157720"/>
            <a:ext cx="30434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329000" y="5445000"/>
            <a:ext cx="21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ducción de expor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987560" y="5589720"/>
            <a:ext cx="179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87560" y="3860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343480" y="4508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860280" y="450864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3860640" y="393336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860640" y="1844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72040" y="4149720"/>
            <a:ext cx="195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ductos y documentos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860640" y="148392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60640" y="1484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251240" y="148428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329000" y="249228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5120" y="2781360"/>
            <a:ext cx="21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ort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329000" y="1484280"/>
            <a:ext cx="54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75120" y="1484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7512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6669000" y="1844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264280" y="2060640"/>
            <a:ext cx="156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Vista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669000" y="1125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6669000" y="76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392280" y="76500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017960" y="765000"/>
            <a:ext cx="24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Vista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392640" y="765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92640" y="1125360"/>
            <a:ext cx="0" cy="790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392640" y="191628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rot="5400000">
            <a:off x="2382120" y="27302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Vista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079800" y="191592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rot="16200000">
            <a:off x="1998720" y="290988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1363680" y="1699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rot="16200000">
            <a:off x="214920" y="287352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12880" y="191628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16200000">
            <a:off x="1494360" y="287352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052640" y="64976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91124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314880" y="6497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329000" y="6353280"/>
            <a:ext cx="19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embarque si es V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428400" y="148428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28760" y="148428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28760" y="6093000"/>
            <a:ext cx="795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8385120" y="4941720"/>
            <a:ext cx="0" cy="115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7960" y="58482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 la Inversión más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3079800" y="134100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442520" y="1341360"/>
            <a:ext cx="1636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442880" y="134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1130400" y="1484280"/>
            <a:ext cx="31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4C2-C85F-4C6D-A832-B981471CBB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1209600" y="126828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209600" y="270828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285920" y="4221000"/>
            <a:ext cx="27306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122880" y="422100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122880" y="126828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521000" y="1484280"/>
            <a:ext cx="21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Im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292428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600200" y="443700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35720" y="4437000"/>
            <a:ext cx="210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presa de Factoring 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35720" y="148428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54280" y="3357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066760" y="3428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75428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285560" y="465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894960" y="465300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895320" y="1700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95320" y="1700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209600" y="1700280"/>
            <a:ext cx="2651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860640" y="1700280"/>
            <a:ext cx="226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7059600" y="692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549600" y="692280"/>
            <a:ext cx="351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549600" y="692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549600" y="141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54960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549600" y="227664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172040" y="22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4017960" y="450864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3470040" y="450864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470400" y="4508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470400" y="486900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470400" y="5445000"/>
            <a:ext cx="413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7605720" y="494172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7605720" y="4221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7605720" y="3789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605720" y="3789360"/>
            <a:ext cx="155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9164520" y="3789360"/>
            <a:ext cx="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612520" y="6021360"/>
            <a:ext cx="655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2612880" y="4941360"/>
            <a:ext cx="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612880" y="4724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2066400" y="4724280"/>
            <a:ext cx="54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66760" y="4724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28760" y="5229360"/>
            <a:ext cx="19494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66760" y="49417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51000" y="5445000"/>
            <a:ext cx="210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ORES O DEPOSIT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7652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rot="16200000">
            <a:off x="783360" y="377208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.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rot="16200000">
            <a:off x="1238400" y="38098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A de doc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rot="16200000">
            <a:off x="-829080" y="30898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misión de doc.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36760" y="1455840"/>
            <a:ext cx="343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misión de doc.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02440" y="1700280"/>
            <a:ext cx="257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775720" y="17002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1645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385120" y="2205000"/>
            <a:ext cx="117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542440" y="215892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spacho de Mercad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236760" y="476280"/>
            <a:ext cx="397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rot="16200000">
            <a:off x="2460600" y="3268080"/>
            <a:ext cx="36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549600" y="5229360"/>
            <a:ext cx="397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oring de Orden de Pago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236760" y="5805360"/>
            <a:ext cx="475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alor Actual de Operación de Fac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rot="16200000">
            <a:off x="1580400" y="5172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a Inv. o Deposit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7918560" y="26028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612880" y="260280"/>
            <a:ext cx="530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612880" y="26028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782880" y="189000"/>
            <a:ext cx="312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612880" y="1268280"/>
            <a:ext cx="0" cy="64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612880" y="1916280"/>
            <a:ext cx="77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70400" y="1916280"/>
            <a:ext cx="1404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75120" y="1916280"/>
            <a:ext cx="0" cy="28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3938400" y="47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1754280" y="4724280"/>
            <a:ext cx="2184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75428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754280" y="486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980400" y="1989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017960" y="458136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5421240" y="220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421240" y="2205000"/>
            <a:ext cx="1092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6513480" y="19162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3732120" y="319716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 Venc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16200000">
            <a:off x="5395320" y="312480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OP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7370640" y="1989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rot="16200000">
            <a:off x="5681520" y="2907720"/>
            <a:ext cx="30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 Venc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07960" y="645336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363680" y="630864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s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535120" y="6453360"/>
            <a:ext cx="857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470400" y="6165720"/>
            <a:ext cx="132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inicial transacción altern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95920" y="645336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576760" y="6165720"/>
            <a:ext cx="132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vencimiento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826320" y="6453360"/>
            <a:ext cx="70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527960" y="6165720"/>
            <a:ext cx="132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vencimiento altern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1B8-B133-4059-9C96-55E6CFAC78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0088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473960" y="342900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136520" y="4653000"/>
            <a:ext cx="1871640" cy="17287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424160" y="4941720"/>
            <a:ext cx="14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1241400">
            <a:off x="3593880" y="4711320"/>
            <a:ext cx="3166920" cy="1800360"/>
          </a:xfrm>
          <a:prstGeom prst="cloudCallout">
            <a:avLst>
              <a:gd name="adj1" fmla="val -64944"/>
              <a:gd name="adj2" fmla="val 31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800520" y="5084640"/>
            <a:ext cx="25923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termediación vs. Med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La preferencia del inve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roductos y Estructuras – fideicomis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05F-B3B3-4D7C-8ECE-0699D55750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379440" y="895320"/>
            <a:ext cx="9144000" cy="50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5EC-356F-4E65-9907-D0FADBDB0A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262080" y="754200"/>
            <a:ext cx="9378720" cy="534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DC7-0F1D-4375-BEF2-206B8820FC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258840" y="244440"/>
            <a:ext cx="9385200" cy="635940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2649600" y="4753080"/>
            <a:ext cx="12952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BOLSA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097-D8FA-4CAB-B53F-6D025C6020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258840" y="317520"/>
            <a:ext cx="9385200" cy="621504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5745240" y="3645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rot="16200000">
            <a:off x="5221800" y="4093200"/>
            <a:ext cx="1727280" cy="39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RUYE AL  AGENTE PAG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DB6-1048-4208-8CB7-3291160913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40088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36520" y="4653000"/>
            <a:ext cx="1656000" cy="1512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281240" y="5032440"/>
            <a:ext cx="144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473960" y="342900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792520" y="4653000"/>
            <a:ext cx="2232000" cy="180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97240" y="5013360"/>
            <a:ext cx="14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EL MERCADO DEL DINERO Y EL DE DERIV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BE7-C145-440C-9D82-D05A7F72C9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24160" y="2205000"/>
            <a:ext cx="3457800" cy="2160720"/>
          </a:xfrm>
          <a:custGeom>
            <a:avLst/>
            <a:gdLst>
              <a:gd name="textAreaLeft" fmla="*/ 0 w 3457800"/>
              <a:gd name="textAreaRight" fmla="*/ 3458160 w 345780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0160" y="27874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E5F-2974-41AD-8D45-C30F50473D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992160" y="2143080"/>
            <a:ext cx="8137440" cy="26416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849240" y="14842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992160" y="5300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848-5364-49F3-A249-0FF6AE2700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40088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136520" y="4653000"/>
            <a:ext cx="1656000" cy="1512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281240" y="5032440"/>
            <a:ext cx="144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473960" y="342900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576520" y="4653000"/>
            <a:ext cx="1728720" cy="15127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65600" y="5111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EL MERCADO DEL DINERO Y EL DE DERIVA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089240" y="4581360"/>
            <a:ext cx="1727280" cy="1800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16200000">
            <a:off x="4133880" y="525564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2D3-1208-41BA-B2A2-00FCDCA197A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" descr=""/>
          <p:cNvPicPr/>
          <p:nvPr/>
        </p:nvPicPr>
        <p:blipFill>
          <a:blip r:embed="rId1"/>
          <a:stretch/>
        </p:blipFill>
        <p:spPr>
          <a:xfrm>
            <a:off x="272880" y="2573280"/>
            <a:ext cx="8713800" cy="169704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631800" y="1700280"/>
            <a:ext cx="864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31800" y="5013360"/>
            <a:ext cx="864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0BC-75AA-4108-82C1-F3A06311EAB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49240" y="549360"/>
            <a:ext cx="3167280" cy="147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Sobreg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Anticipos en Cuentas Corr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9240" y="9079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41960" y="549360"/>
            <a:ext cx="3166920" cy="147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uentas Corr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ajas de Aho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lazos Fij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40160" y="9079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13240" y="2060640"/>
            <a:ext cx="3311640" cy="151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13240" y="3645000"/>
            <a:ext cx="3167280" cy="1014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he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heques de Pago Dife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heques con Provisión Garantizada de Fo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2205000"/>
            <a:ext cx="136836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sh Management – Floating Sharing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688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32160" y="3502080"/>
            <a:ext cx="1008000" cy="718920"/>
          </a:xfrm>
          <a:prstGeom prst="leftArrow">
            <a:avLst>
              <a:gd name="adj1" fmla="val 50000"/>
              <a:gd name="adj2" fmla="val 350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7960" y="3645000"/>
            <a:ext cx="316692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Descuento o Compra de Che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894-16AC-4210-B5C1-5FC9CC233D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36520" y="2120760"/>
            <a:ext cx="2592360" cy="165744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52520" y="25718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0160" y="1628640"/>
            <a:ext cx="2449440" cy="2737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4880" y="27748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756800">
            <a:off x="4881600" y="4364640"/>
            <a:ext cx="2808360" cy="19429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4581360"/>
            <a:ext cx="13683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stabilidad de fo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picia extensión de plazos para aplicación de fo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tencialmente incrementa retorno – tail end gapping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A6C-919A-4987-8F76-69B78CFAAD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08160" y="981000"/>
            <a:ext cx="259236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0520" y="981000"/>
            <a:ext cx="2592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92880" y="981000"/>
            <a:ext cx="2592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08160" y="227664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0520" y="227664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92880" y="227664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08160" y="342900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0520" y="342900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2880" y="3429000"/>
            <a:ext cx="2592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68520" y="5516640"/>
            <a:ext cx="67690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MATRIZ DE FLUJOS DE CAJA DE LA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2520" y="152712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8880" y="54936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RPORACIONES PÚBLICAS Y P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1600" y="62064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16000" y="2476080"/>
            <a:ext cx="122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RPORACIONES PÚBLICAS Y P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272520" y="39020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692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4880" y="1287360"/>
            <a:ext cx="2303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37240" y="1197000"/>
            <a:ext cx="2303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52520" y="2492280"/>
            <a:ext cx="230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4880" y="2367000"/>
            <a:ext cx="2303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37240" y="2276640"/>
            <a:ext cx="2303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52520" y="3747960"/>
            <a:ext cx="2303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44880" y="3573360"/>
            <a:ext cx="2303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875600">
            <a:off x="119880" y="640080"/>
            <a:ext cx="2232000" cy="30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ILUST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E48-16A8-4A0E-BD3D-E76D6C57C5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20880" y="1628640"/>
            <a:ext cx="360036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68880" y="1628640"/>
            <a:ext cx="360036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08160" y="213372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CERTIFICADOS DE DEPÓSITOS TRANSFER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29240" y="213372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TRADE CERTIFIC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0880" y="3860640"/>
            <a:ext cx="813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0880" y="4076640"/>
            <a:ext cx="8135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52520" y="3860640"/>
            <a:ext cx="69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LATAFORMA DE DISTRIB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2160" y="4365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BOL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5240" y="4221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OVER THE 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71800" y="43480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UNDER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00880" y="4348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BEST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84880" y="4221000"/>
            <a:ext cx="1729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ESA DE DIN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eguimiento de Flujos de Caja Econom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924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8488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088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7360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0880" y="5013360"/>
            <a:ext cx="813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52520" y="4984920"/>
            <a:ext cx="69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20880" y="5229360"/>
            <a:ext cx="8135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7360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52520" y="52293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ORPORACIONES – PRIVATE BANKING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89240" y="5229360"/>
            <a:ext cx="25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INVERSORES INSTITU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2452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53240" y="52848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5240" y="3284640"/>
            <a:ext cx="502920" cy="576000"/>
          </a:xfrm>
          <a:prstGeom prst="upArrow">
            <a:avLst>
              <a:gd name="adj1" fmla="val 50000"/>
              <a:gd name="adj2" fmla="val 286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24520" y="3284640"/>
            <a:ext cx="503280" cy="576000"/>
          </a:xfrm>
          <a:prstGeom prst="upArrow">
            <a:avLst>
              <a:gd name="adj1" fmla="val 50000"/>
              <a:gd name="adj2" fmla="val 286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9600" y="115920"/>
            <a:ext cx="3888000" cy="2016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68880" y="476280"/>
            <a:ext cx="2808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Mayor estabilidad de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decuación de Aplicación de fondos al objeto o activo financi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Mitiga Riesg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tencial mayor retorno por “tail end gapp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45F-D234-4C4F-8C52-DFE1F8E9E9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36520" y="2349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5240" y="2816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0520" y="2349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5240" y="2781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40160" y="1989000"/>
            <a:ext cx="1944720" cy="2232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16520" y="2852640"/>
            <a:ext cx="11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2520" y="404640"/>
            <a:ext cx="2952720" cy="1297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5600" y="739800"/>
            <a:ext cx="27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l protagonismo del Estado en el Mercado de Dinero y Capi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763800">
            <a:off x="5640480" y="2735280"/>
            <a:ext cx="2673360" cy="3168720"/>
          </a:xfrm>
          <a:prstGeom prst="cloudCallout">
            <a:avLst>
              <a:gd name="adj1" fmla="val -43546"/>
              <a:gd name="adj2" fmla="val 58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16520" y="3860640"/>
            <a:ext cx="2448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Reverse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ngeneered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A08-78C0-43B2-A321-A47FAEE647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5:07:44Z</dcterms:created>
  <dc:creator>MG</dc:creator>
  <dc:description/>
  <dc:language>en-US</dc:language>
  <cp:lastModifiedBy>C.P.C.E.C.A.B.A.</cp:lastModifiedBy>
  <dcterms:modified xsi:type="dcterms:W3CDTF">2004-09-24T15:34:37Z</dcterms:modified>
  <cp:revision>58</cp:revision>
  <dc:subject/>
  <dc:title>Diapositiva 1</dc:title>
</cp:coreProperties>
</file>