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039-6A97-4027-9B02-5DD75999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8A8-6F51-47ED-A09D-CDABE1D7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602-5EA6-45B6-89D6-1EEF2767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B92-F3C2-467E-A5D3-C8610F0E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AE2B-50B6-4EFE-B5B1-3A7748E7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EC6B-8428-4EF5-B0A0-22433CA2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1D0C-78EE-4F1D-99A6-42A076A7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5B75-83A6-43DA-9B74-F1302C0C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419A-2D5C-4D78-8F1A-727E0424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F49F-9AE6-4294-8024-21EF73F1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CB85-C80D-4C77-A088-220304CE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2081-BB0A-4707-84C3-6BBDC073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06EA-83E7-49B7-83C1-89595651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75EF-7E17-45DA-8CAC-5E71C024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0032-DA81-4765-9382-16EEAE37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0DD5-418B-4E1D-9BA0-60EFD427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4328-9E20-4C32-BD23-5D027550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B62-BD7F-4250-A853-5187E7EB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08F-6740-4A57-8997-4ABBEFE9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F31-AB7C-4902-B0CF-F3F5E538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75D-3352-4ED5-8BE9-8CB2ABED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7C2-25D7-47A8-9735-A4C737C3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4D7-0314-4FE9-9990-73424978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471-1B4A-44D9-A131-620243BA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6808-9BEC-45A0-B988-77B4DF6A4FE6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8451-9814-4FC9-800B-DAAC47A44D72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752480" y="1447920"/>
            <a:ext cx="1600200" cy="1595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3505320" y="1447920"/>
            <a:ext cx="1600200" cy="1595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5334120" y="1447920"/>
            <a:ext cx="1600200" cy="1595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7162920" y="1447920"/>
            <a:ext cx="1600200" cy="1595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752480" y="48006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3505320" y="48006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5334120" y="48006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>
            <a:lum bright="70000" contrast="-70000"/>
          </a:blip>
          <a:stretch/>
        </p:blipFill>
        <p:spPr>
          <a:xfrm>
            <a:off x="1752480" y="32004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>
            <a:lum bright="70000" contrast="-70000"/>
          </a:blip>
          <a:stretch/>
        </p:blipFill>
        <p:spPr>
          <a:xfrm>
            <a:off x="3505320" y="32004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>
            <a:lum bright="70000" contrast="-70000"/>
          </a:blip>
          <a:stretch/>
        </p:blipFill>
        <p:spPr>
          <a:xfrm>
            <a:off x="5334120" y="32004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>
            <a:lum bright="70000" contrast="-70000"/>
          </a:blip>
          <a:stretch/>
        </p:blipFill>
        <p:spPr>
          <a:xfrm>
            <a:off x="7162920" y="32004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>
            <a:lum bright="70000" contrast="-70000"/>
          </a:blip>
          <a:stretch/>
        </p:blipFill>
        <p:spPr>
          <a:xfrm>
            <a:off x="7086600" y="4724280"/>
            <a:ext cx="1600200" cy="15955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920" y="4292640"/>
            <a:ext cx="75247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 FIDEICOMISO FINANCIERO</a:t>
            </a:r>
            <a:br>
              <a:rPr sz="3200"/>
            </a:br>
            <a:r>
              <a:rPr b="1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O FUENTE DE FINANCIAMIE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862000" cy="28209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076720" y="558972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NORBERTO MATHYS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IRECTOR COMERCIAL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ANCO DE VALORES S.A</a:t>
            </a:r>
            <a:r>
              <a:rPr b="1" lang="es-MX" sz="1800" spc="-1" strike="noStrike">
                <a:solidFill>
                  <a:srgbClr val="ffffff"/>
                </a:solidFill>
                <a:latin typeface="Century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-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3000" spc="-1" strike="noStrike" u="sng">
                <a:solidFill>
                  <a:srgbClr val="ccecff"/>
                </a:solidFill>
                <a:uFillTx/>
                <a:latin typeface="Arial"/>
              </a:rPr>
              <a:t>Potencialidades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La cartera de fondos de jubilaciones y pensiones al 31 de julio de 2004 es de $48.416MM representada por el 64% en títulos públicos, 10% en acciones de sociedades anónimas y 0,25% en fideicomisos financieros ($ 119MM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La potencialidad de inversión es del 20% sobre el total de la cartera administrada en fideicomisos financieros (excluidos cédulas hipot., fid. y estructurado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Las entidades financieras con una participación            promedio de un 30% por emisión se presenta como estable y creciente la presencia de fondos de inversión, ej.: (Gainves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El segmento individuos participará en una mayor proporción siendo ésta una función directa de la liquidez del título y su tasa de retorn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1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920" y="4292640"/>
            <a:ext cx="75247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chas Gracias !!!</a:t>
            </a:r>
            <a:br>
              <a:rPr sz="3200"/>
            </a:b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rberto Mathys</a:t>
            </a:r>
            <a:br>
              <a:rPr sz="32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rector Comercial</a:t>
            </a:r>
            <a:br>
              <a:rPr sz="24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nco de Valores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862000" cy="28209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3640" y="-571680"/>
            <a:ext cx="843588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 u="sng">
                <a:solidFill>
                  <a:srgbClr val="ccecff"/>
                </a:solidFill>
                <a:uFillTx/>
                <a:latin typeface="Arial"/>
              </a:rPr>
              <a:t>Fuente de Financiamiento - Descripción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228600" y="836640"/>
            <a:ext cx="823104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a crisis del año 2001 y sus posteriores consecuencias provocaron la necesidad de conformar estructuras no convencionales de financiamiento para suplir la falta de crédito que aportaba el sistema financi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l instrumento que resurjiría sería aquel que ofreciera la mayor seguridad jurídica y haya superado con éxito la ruptura de contr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l fideicomiso en todas sus formas no fue cuestionado en sus derechos y creación; en sus efectos sobre derechos de terceros; condicionamiento de actos de disposición; afectación de patrimonio; etc., pero sí sus ac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os fideicomisos financieros se constituyeron en la principal fuente de financiamiento durante el año 2003/8-2004 por sobre la evolución del crédito en el sistema financi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1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(1)</a:t>
            </a:r>
            <a:r>
              <a:rPr b="1" lang="es-AR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AR" sz="2400" spc="-1" strike="noStrike" u="sng">
                <a:solidFill>
                  <a:srgbClr val="ccecff"/>
                </a:solidFill>
                <a:uFillTx/>
                <a:latin typeface="Arial"/>
              </a:rPr>
              <a:t>EVOLUCION DEL CREDITO – en millones de pesos</a:t>
            </a:r>
            <a:br>
              <a:rPr sz="2400"/>
            </a:br>
            <a:r>
              <a:rPr b="1" lang="es-AR" sz="2400" spc="-1" strike="noStrike" u="sng">
                <a:solidFill>
                  <a:srgbClr val="ccecff"/>
                </a:solidFill>
                <a:uFillTx/>
                <a:latin typeface="Arial"/>
              </a:rPr>
              <a:t> Año 2003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2373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(1) Fuente: BC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17680" y="5791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24000" y="1347840"/>
            <a:ext cx="8496000" cy="4784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252360" y="259920"/>
            <a:ext cx="96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ecff"/>
                </a:solidFill>
                <a:latin typeface="Arial"/>
              </a:rPr>
              <a:t>(1) </a:t>
            </a:r>
            <a:r>
              <a:rPr b="1" lang="es-AR" sz="22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 EMITIDOS – en millones de pesos</a:t>
            </a:r>
            <a:br>
              <a:rPr sz="2200"/>
            </a:br>
            <a:r>
              <a:rPr b="1" lang="es-AR" sz="2200" spc="-1" strike="noStrike" u="sng">
                <a:solidFill>
                  <a:srgbClr val="ccecff"/>
                </a:solidFill>
                <a:uFillTx/>
                <a:latin typeface="Arial"/>
              </a:rPr>
              <a:t> Año 2003</a:t>
            </a:r>
            <a:br>
              <a:rPr sz="2200"/>
            </a:b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95008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(1) Fuente: Bolsa de Comercio de Bs. 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ecff"/>
                </a:solidFill>
                <a:latin typeface="Arial"/>
              </a:rPr>
              <a:t>(1) </a:t>
            </a:r>
            <a:r>
              <a:rPr b="1" lang="es-AR" sz="2400" spc="-1" strike="noStrike" u="sng">
                <a:solidFill>
                  <a:srgbClr val="ccecff"/>
                </a:solidFill>
                <a:uFillTx/>
                <a:latin typeface="Arial"/>
              </a:rPr>
              <a:t>EVOLUCION DEL CREDITO – en millones de pesos</a:t>
            </a:r>
            <a:br>
              <a:rPr sz="2400"/>
            </a:br>
            <a:r>
              <a:rPr b="1" lang="es-AR" sz="2400" spc="-1" strike="noStrike" u="sng">
                <a:solidFill>
                  <a:srgbClr val="ccecff"/>
                </a:solidFill>
                <a:uFillTx/>
                <a:latin typeface="Arial"/>
              </a:rPr>
              <a:t> Año 2004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623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cecff"/>
                </a:solidFill>
                <a:latin typeface="Arial"/>
              </a:rPr>
              <a:t>(1) Fuente: BC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69080" cy="4824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252720" y="2599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es-AR" sz="2200" spc="-1" strike="noStrike">
                <a:solidFill>
                  <a:srgbClr val="ccecff"/>
                </a:solidFill>
                <a:latin typeface="Arial"/>
              </a:rPr>
              <a:t>(1)</a:t>
            </a:r>
            <a:r>
              <a:rPr b="1" lang="es-AR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AR" sz="22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 EMITIDOS– en millones de pesos</a:t>
            </a:r>
            <a:br>
              <a:rPr sz="2200"/>
            </a:br>
            <a:r>
              <a:rPr b="1" lang="es-AR" sz="2200" spc="-1" strike="noStrike" u="sng">
                <a:solidFill>
                  <a:srgbClr val="ccecff"/>
                </a:solidFill>
                <a:uFillTx/>
                <a:latin typeface="Arial"/>
              </a:rPr>
              <a:t> Año 2004</a:t>
            </a:r>
            <a:br>
              <a:rPr sz="2200"/>
            </a:b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4464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880" y="6165720"/>
            <a:ext cx="43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cecff"/>
                </a:solidFill>
                <a:latin typeface="Arial"/>
              </a:rPr>
              <a:t>(1) Fuente: Bolsa de Comercio de Bs. 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ecff"/>
                </a:solidFill>
                <a:uFillTx/>
                <a:latin typeface="Arial"/>
              </a:rPr>
              <a:t>EVOLUCION COMPARADA CREDITOS Y FIDEICOMISOS </a:t>
            </a:r>
            <a:br>
              <a:rPr sz="2800"/>
            </a:br>
            <a:r>
              <a:rPr b="1" lang="es-ES" sz="2800" spc="-1" strike="noStrike" u="sng">
                <a:solidFill>
                  <a:srgbClr val="ccecff"/>
                </a:solidFill>
                <a:uFillTx/>
                <a:latin typeface="Arial"/>
              </a:rPr>
              <a:t>(</a:t>
            </a:r>
            <a:r>
              <a:rPr b="1" lang="es-AR" sz="2800" spc="-1" strike="noStrike" u="sng">
                <a:solidFill>
                  <a:srgbClr val="ccecff"/>
                </a:solidFill>
                <a:uFillTx/>
                <a:latin typeface="Arial"/>
              </a:rPr>
              <a:t>millones de pesos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92120" y="1600200"/>
          <a:ext cx="396720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1600200"/>
                    <a:ext cx="396720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648320" y="1822320"/>
          <a:ext cx="4038480" cy="17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822320"/>
                    <a:ext cx="4038480" cy="17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836640" y="3938760"/>
          <a:ext cx="3278160" cy="21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6640" y="3938760"/>
                    <a:ext cx="32781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395280" y="1916280"/>
            <a:ext cx="8280360" cy="39844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-868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</a:t>
            </a: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 -</a:t>
            </a: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ccecff"/>
                </a:solidFill>
                <a:uFillTx/>
                <a:latin typeface="Arial"/>
              </a:rPr>
              <a:t>Sectores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os sectores vinculados a la exportación (campo             especialmente) y el mayor dinamismo que registró el consumo privado que generó un mayor uso de los préstamos personales (venta de electrodomésticos y artículos del hogar) fueron los mayores demandantes de crédi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Como ejemplo se destacan las securitizaciones realizadas por Frávega/Bco.Saenz (Consubond); Garbarino, Red Megatone,Sociedad Militar Seguro de Vida, Tarshop, Bonesi, Secupyme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Durante el año 2004 se profundizó la utilización del fideicomiso con securitizaciones de carteras activas de bancos (Banex, Banco privado, etc.) y la aparición de flujos futuros (AES, etc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09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-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3000" spc="-1" strike="noStrike" u="sng">
                <a:solidFill>
                  <a:srgbClr val="ccecff"/>
                </a:solidFill>
                <a:uFillTx/>
                <a:latin typeface="Arial"/>
              </a:rPr>
              <a:t>Mercado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100" spc="-1" strike="noStrike">
                <a:solidFill>
                  <a:srgbClr val="ffffff"/>
                </a:solidFill>
                <a:latin typeface="Arial"/>
              </a:rPr>
              <a:t>Se ha conformado un mercado con las siguientes característica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100" spc="-1" strike="noStrike" u="sng">
                <a:solidFill>
                  <a:srgbClr val="ffffff"/>
                </a:solidFill>
                <a:uFillTx/>
                <a:latin typeface="Arial"/>
              </a:rPr>
              <a:t>Oferta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Predominio de securitización de activos existente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Plazos que en su mayor parte no superan el año de vida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Tasa de interés ofrecida a los inversores superiores a los del                                                     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mercado financiero tradicion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Titulización de flujos futuros con bajo riesgo performanc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MX" sz="1900" spc="-1" strike="noStrike" u="sng">
                <a:solidFill>
                  <a:srgbClr val="ffffff"/>
                </a:solidFill>
                <a:uFillTx/>
                <a:latin typeface="Arial"/>
              </a:rPr>
              <a:t>Demanda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Amplia participación de inversores institucionales, entidades       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financieras, empresas y fondos de inversión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Creciente presencia del segmento individuo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1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1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1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1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1000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1000"/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1000"/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21:01:05Z</dcterms:created>
  <dc:creator>Banco de Valores</dc:creator>
  <dc:description/>
  <dc:language>en-US</dc:language>
  <cp:lastModifiedBy>C.P.C.E.C.A.B.A.</cp:lastModifiedBy>
  <dcterms:modified xsi:type="dcterms:W3CDTF">2004-09-24T15:32:22Z</dcterms:modified>
  <cp:revision>82</cp:revision>
  <dc:subject/>
  <dc:title>EVOLUCION DEL CREDITO – en millones de pesos 2004</dc:title>
</cp:coreProperties>
</file>