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047-4C25-47A3-B815-E85E6748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EB4-895D-4272-B407-2927F7EE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A24-0FEC-4AA2-BE24-75B389B9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E04-37C5-41BB-A7DE-F4B500D4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F82E-933D-496A-BCF9-A4B0F0AD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C73B-76DC-41BD-BE74-330BB2C2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BB22-CFE6-43F5-8F60-C0FD757A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CE03-298C-4097-8E3A-1A273A23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6CFA-52F3-4D70-A585-018E3739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E7E0-136C-4BE2-82F3-44EE880A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598E-40C2-49EC-B856-88DCD3B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372-2FAC-4469-B967-F03ABBF8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89A7-3CE8-4395-BC70-3F38DCA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C5DF-98F1-494D-9417-4126BDC8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4FA9-8FAC-4D28-A92A-8FC09B3B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D921-7AAD-4F97-BBAD-C0763D78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FACF-CEE4-4183-B51F-FE18F174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835-A84E-4EF0-81EC-479027A3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A95-1DEC-40E7-ABAE-1488334B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BB0-ED81-46A0-A2FD-73931CF4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DBF-2874-465C-A571-9DB59B4E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5F4-5158-46AB-B233-7FA5043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118-2512-4A66-87B2-1E161D99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DB1-F512-4781-A664-DBDF4330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6923-A032-45A4-9B24-B6BC7D7FD355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9332-5606-4D67-A83C-EF2F1DF0031A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75248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350532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33412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716292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752480" y="48006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505320" y="48006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5334120" y="48006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175248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>
            <a:lum bright="70000" contrast="-70000"/>
          </a:blip>
          <a:stretch/>
        </p:blipFill>
        <p:spPr>
          <a:xfrm>
            <a:off x="350532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533412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>
            <a:lum bright="70000" contrast="-70000"/>
          </a:blip>
          <a:stretch/>
        </p:blipFill>
        <p:spPr>
          <a:xfrm>
            <a:off x="716292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>
            <a:lum bright="70000" contrast="-70000"/>
          </a:blip>
          <a:stretch/>
        </p:blipFill>
        <p:spPr>
          <a:xfrm>
            <a:off x="7086600" y="4724280"/>
            <a:ext cx="1600200" cy="15955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920" y="4292640"/>
            <a:ext cx="75247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 FIDEICOMISO FINANCIERO</a:t>
            </a:r>
            <a:br>
              <a:rPr sz="3200"/>
            </a:b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O FUENTE DE FINANCIAMI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862000" cy="28209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076720" y="558972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ORBERTO MATHYS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RECTOR COMERCIAL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ANCO DE VALORES S.A</a:t>
            </a:r>
            <a:r>
              <a:rPr b="1" lang="es-MX" sz="1800" spc="-1" strike="noStrike">
                <a:solidFill>
                  <a:srgbClr val="ffffff"/>
                </a:solidFill>
                <a:latin typeface="Century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Potencialidade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 cartera de fondos de jubilaciones y pensiones al 31 de julio de 2004 es de $48.416MM representada por el 64% en títulos públicos, 10% en acciones de sociedades anónimas y 0,25% en fideicomisos financieros ($ 119MM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 potencialidad de inversión es del 20% sobre el total de la cartera administrada en fideicomisos financieros (excluidos cédulas hipot., fid. y estructurado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s entidades financieras con una participación            promedio de un 30% por emisión se presenta como estable y creciente la presencia de fondos de inversión, ej.: (Gainves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l segmento individuos participará en una mayor proporción siendo ésta una función directa de la liquidez del título y su tasa de retorn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920" y="4292640"/>
            <a:ext cx="75247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chas Gracias !!!</a:t>
            </a:r>
            <a:br>
              <a:rPr sz="3200"/>
            </a:b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rberto Mathys</a:t>
            </a:r>
            <a:br>
              <a:rPr sz="32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or Comercial</a:t>
            </a: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nco de Valores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862000" cy="28209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3640" y="-571680"/>
            <a:ext cx="843588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 u="sng">
                <a:solidFill>
                  <a:srgbClr val="ccecff"/>
                </a:solidFill>
                <a:uFillTx/>
                <a:latin typeface="Arial"/>
              </a:rPr>
              <a:t>Fuente de Financiamiento - Descripción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28600" y="836640"/>
            <a:ext cx="823104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a crisis del año 2001 y sus posteriores consecuencias provocaron la necesidad de conformar estructuras no convencionales de financiamiento para suplir la falta de crédito que aportaba el sistema financi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instrumento que resurjiría sería aquel que ofreciera la mayor seguridad jurídica y haya superado con éxito la ruptura de contr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fideicomiso en todas sus formas no fue cuestionado en sus derechos y creación; en sus efectos sobre derechos de terceros; condicionamiento de actos de disposición; afectación de patrimonio; etc., pero sí su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os fideicomisos financieros se constituyeron en la principal fuente de financiamiento durante el año 2003/8-2004 por sobre la evolución del crédito en el sistema financi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(1)</a:t>
            </a: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EVOLUCION DEL CREDITO – en millones de pesos</a:t>
            </a:r>
            <a:br>
              <a:rPr sz="2400"/>
            </a:b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 Año 2003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2373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(1) Fuente: BC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17680" y="5791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4000" y="1347840"/>
            <a:ext cx="8496000" cy="4784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96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ecff"/>
                </a:solidFill>
                <a:latin typeface="Arial"/>
              </a:rPr>
              <a:t>(1) </a:t>
            </a: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 EMITIDOS – en millones de pesos</a:t>
            </a:r>
            <a:br>
              <a:rPr sz="2200"/>
            </a:b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 Año 2003</a:t>
            </a: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95008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(1) Fuente: Bolsa de Comercio de Bs. 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(1) </a:t>
            </a: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EVOLUCION DEL CREDITO – en millones de pesos</a:t>
            </a:r>
            <a:br>
              <a:rPr sz="2400"/>
            </a:b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 Año 20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cecff"/>
                </a:solidFill>
                <a:latin typeface="Arial"/>
              </a:rPr>
              <a:t>(1) Fuente: BC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252720" y="2599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es-AR" sz="2200" spc="-1" strike="noStrike">
                <a:solidFill>
                  <a:srgbClr val="ccecff"/>
                </a:solidFill>
                <a:latin typeface="Arial"/>
              </a:rPr>
              <a:t>(1)</a:t>
            </a: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 EMITIDOS– en millones de pesos</a:t>
            </a:r>
            <a:br>
              <a:rPr sz="2200"/>
            </a:b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 Año 2004</a:t>
            </a: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464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880" y="6165720"/>
            <a:ext cx="43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cecff"/>
                </a:solidFill>
                <a:latin typeface="Arial"/>
              </a:rPr>
              <a:t>(1) Fuente: Bolsa de Comercio de Bs. 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EVOLUCION COMPARADA CREDITOS Y FIDEICOMISOS </a:t>
            </a:r>
            <a:br>
              <a:rPr sz="2800"/>
            </a:br>
            <a:r>
              <a:rPr b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(</a:t>
            </a:r>
            <a:r>
              <a:rPr b="1" lang="es-AR" sz="2800" spc="-1" strike="noStrike" u="sng">
                <a:solidFill>
                  <a:srgbClr val="ccecff"/>
                </a:solidFill>
                <a:uFillTx/>
                <a:latin typeface="Arial"/>
              </a:rPr>
              <a:t>millones de pesos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92120" y="1600200"/>
          <a:ext cx="396720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600200"/>
                    <a:ext cx="39672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648320" y="1822320"/>
          <a:ext cx="4038480" cy="17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822320"/>
                    <a:ext cx="4038480" cy="17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836640" y="3938760"/>
          <a:ext cx="327816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6640" y="3938760"/>
                    <a:ext cx="32781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395280" y="1916280"/>
            <a:ext cx="8280360" cy="3984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-868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</a:t>
            </a: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ecff"/>
                </a:solidFill>
                <a:uFillTx/>
                <a:latin typeface="Arial"/>
              </a:rPr>
              <a:t>Sectore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os sectores vinculados a la exportación (campo             especialmente) y el mayor dinamismo que registró el consumo privado que generó un mayor uso de los préstamos personales (venta de electrodomésticos y artículos del hogar) fueron los mayores demandantes de créd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Como ejemplo se destacan las securitizaciones realizadas por Frávega/Bco.Saenz (Consubond); Garbarino, Red Megatone,Sociedad Militar Seguro de Vida, Tarshop, Bonesi, Secupyme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Durante el año 2004 se profundizó la utilización del fideicomiso con securitizaciones de carteras activas de bancos (Banex, Banco privado, etc.) y la aparición de flujos futuros (AES, etc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09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Mercado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Se ha conformado un mercado con las siguientes característica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100" spc="-1" strike="noStrike" u="sng">
                <a:solidFill>
                  <a:srgbClr val="ffffff"/>
                </a:solidFill>
                <a:uFillTx/>
                <a:latin typeface="Arial"/>
              </a:rPr>
              <a:t>Oferta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Predominio de securitización de activos existente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Plazos que en su mayor parte no superan el año de vida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Tasa de interés ofrecida a los inversores superiores a los del                                                     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mercado financiero tradicion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Titulización de flujos futuros con bajo riesgo performanc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MX" sz="1900" spc="-1" strike="noStrike" u="sng">
                <a:solidFill>
                  <a:srgbClr val="ffffff"/>
                </a:solidFill>
                <a:uFillTx/>
                <a:latin typeface="Arial"/>
              </a:rPr>
              <a:t>Demanda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Amplia participación de inversores institucionales, entidades       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financieras, empresas y fondos de inversió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Creciente presencia del segmento individuo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1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10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1000"/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1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21:01:05Z</dcterms:created>
  <dc:creator>Banco de Valores</dc:creator>
  <dc:description/>
  <dc:language>en-US</dc:language>
  <cp:lastModifiedBy>C.P.C.E.C.A.B.A.</cp:lastModifiedBy>
  <dcterms:modified xsi:type="dcterms:W3CDTF">2004-09-24T15:32:22Z</dcterms:modified>
  <cp:revision>82</cp:revision>
  <dc:subject/>
  <dc:title>EVOLUCION DEL CREDITO – en millones de pesos 2004</dc:title>
</cp:coreProperties>
</file>