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5.wmf" ContentType="image/x-wmf"/>
  <Override PartName="/ppt/media/image2.png" ContentType="image/png"/>
  <Override PartName="/ppt/media/image4.jpeg" ContentType="image/jpeg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0108-60AB-43F0-B189-7BDA9C8E2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9BA0-3212-484F-9888-A5E208349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9FA7-2E00-4BC6-AA7E-802835AE3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AD03-3038-4E29-9420-406185484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7F2C-0D29-405F-83FE-48C3356BA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2C2D-39F0-4BCD-8903-451886CCE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53B4-F9FE-484A-B1E1-A1FE25C49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1DA7-33D0-4D5F-9EC1-25A2C753E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EE47-7E04-49D4-A0B0-40786BEB2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B341-70D8-4593-A2D2-1C8AE7EE0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13B7-A8B7-4A5D-92D1-1D09C78BE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ABBB-2AC2-446B-91A8-05D238952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A1065-D948-4C7F-9D57-4CC0C83A32F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7"/>
          <a:stretch/>
        </p:blipFill>
        <p:spPr>
          <a:xfrm>
            <a:off x="7164360" y="6380280"/>
            <a:ext cx="1944720" cy="43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022480" y="1238400"/>
            <a:ext cx="5064120" cy="11268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930600" y="4307040"/>
            <a:ext cx="731448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Situación Actual de la Banca Priv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500" spc="-1" strike="noStrike">
                <a:solidFill>
                  <a:srgbClr val="ffffff"/>
                </a:solidFill>
                <a:latin typeface="Arial"/>
              </a:rPr>
              <a:t>Septiembre 2004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164360" y="6380280"/>
            <a:ext cx="1944720" cy="4334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1066680" y="1476360"/>
            <a:ext cx="7010640" cy="4695840"/>
            <a:chOff x="1066680" y="1476360"/>
            <a:chExt cx="7010640" cy="4695840"/>
          </a:xfrm>
        </p:grpSpPr>
        <p:pic>
          <p:nvPicPr>
            <p:cNvPr id="117" name="" descr=""/>
            <p:cNvPicPr/>
            <p:nvPr/>
          </p:nvPicPr>
          <p:blipFill>
            <a:blip r:embed="rId2"/>
            <a:stretch/>
          </p:blipFill>
          <p:spPr>
            <a:xfrm>
              <a:off x="1066680" y="1476360"/>
              <a:ext cx="7010640" cy="469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1904040" y="4827600"/>
              <a:ext cx="1081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000000"/>
                  </a:solidFill>
                  <a:latin typeface="Arial"/>
                </a:rPr>
                <a:t>Sist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000000"/>
                  </a:solidFill>
                  <a:latin typeface="Arial"/>
                </a:rPr>
                <a:t>Financier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499920" y="4551480"/>
              <a:ext cx="923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000000"/>
                  </a:solidFill>
                  <a:latin typeface="Arial"/>
                </a:rPr>
                <a:t>Banco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000000"/>
                  </a:solidFill>
                  <a:latin typeface="Arial"/>
                </a:rPr>
                <a:t>Público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985640" y="3981600"/>
              <a:ext cx="11210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000000"/>
                  </a:solidFill>
                  <a:latin typeface="Arial"/>
                </a:rPr>
                <a:t>Banco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000000"/>
                  </a:solidFill>
                  <a:latin typeface="Arial"/>
                </a:rPr>
                <a:t>Nacional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463440" y="5322960"/>
              <a:ext cx="1162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000000"/>
                  </a:solidFill>
                  <a:latin typeface="Arial"/>
                </a:rPr>
                <a:t>Banco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000000"/>
                  </a:solidFill>
                  <a:latin typeface="Arial"/>
                </a:rPr>
                <a:t>Extranjero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1637640" y="365040"/>
            <a:ext cx="592308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ccffff"/>
                </a:solidFill>
                <a:latin typeface="Arial"/>
              </a:rPr>
              <a:t>RECUPERACION DEL CREDIT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ccffff"/>
                </a:solidFill>
                <a:latin typeface="Arial"/>
              </a:rPr>
              <a:t>Por grupo de entidades financiera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09640" y="6210360"/>
            <a:ext cx="171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fffff"/>
                </a:solidFill>
                <a:latin typeface="Arial"/>
              </a:rPr>
              <a:t>Fuente: B.C.R.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523880" y="1409760"/>
            <a:ext cx="6096240" cy="4083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7164360" y="6380280"/>
            <a:ext cx="1944720" cy="4334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637640" y="365040"/>
            <a:ext cx="592308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ccffff"/>
                </a:solidFill>
                <a:latin typeface="Arial"/>
              </a:rPr>
              <a:t>RECUPERACION DEL CREDIT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ccffff"/>
                </a:solidFill>
                <a:latin typeface="Arial"/>
              </a:rPr>
              <a:t>Por línea de préstamo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09640" y="6210360"/>
            <a:ext cx="171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fffff"/>
                </a:solidFill>
                <a:latin typeface="Arial"/>
              </a:rPr>
              <a:t>Fuente: B.C.R.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46560" y="5599080"/>
            <a:ext cx="397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ffffff"/>
                </a:solidFill>
                <a:latin typeface="Arial"/>
              </a:rPr>
              <a:t>Nota: Ultima información disponible de tarjetas de crédito enero ’04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190600" y="4038480"/>
            <a:ext cx="74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Arial"/>
              </a:rPr>
              <a:t>Adelanto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917440" y="4419720"/>
            <a:ext cx="89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Arial"/>
              </a:rPr>
              <a:t>Documento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92680" y="4784760"/>
            <a:ext cx="88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Arial"/>
              </a:rPr>
              <a:t>Hipotecario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726080" y="4022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Arial"/>
              </a:rPr>
              <a:t>Prendario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586120" y="4022640"/>
            <a:ext cx="81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Arial"/>
              </a:rPr>
              <a:t>Personal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364440" y="3854520"/>
            <a:ext cx="95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Arial"/>
              </a:rPr>
              <a:t>Tarj. de Créd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523880" y="1390680"/>
            <a:ext cx="6096240" cy="4083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7164360" y="6380280"/>
            <a:ext cx="1944720" cy="4334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546560" y="5580000"/>
            <a:ext cx="397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ffffff"/>
                </a:solidFill>
                <a:latin typeface="Arial"/>
              </a:rPr>
              <a:t>Nota: Ultima información disponible de tarjetas de crédito enero ’04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90600" y="4041720"/>
            <a:ext cx="74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Arial"/>
              </a:rPr>
              <a:t>Adelanto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917440" y="4038480"/>
            <a:ext cx="89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Arial"/>
              </a:rPr>
              <a:t>Documento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92680" y="4917960"/>
            <a:ext cx="88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Arial"/>
              </a:rPr>
              <a:t>Hipotecario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726080" y="404172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Arial"/>
              </a:rPr>
              <a:t>Prendario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586120" y="4041720"/>
            <a:ext cx="81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Arial"/>
              </a:rPr>
              <a:t>Personal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390000" y="4041720"/>
            <a:ext cx="95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Arial"/>
              </a:rPr>
              <a:t>Tarj. de Créd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9640" y="6210360"/>
            <a:ext cx="171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fffff"/>
                </a:solidFill>
                <a:latin typeface="Arial"/>
              </a:rPr>
              <a:t>Fuente: B.C.R.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37640" y="365040"/>
            <a:ext cx="592308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ccffff"/>
                </a:solidFill>
                <a:latin typeface="Arial"/>
              </a:rPr>
              <a:t>RECUPERACION DEL CREDIT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ccffff"/>
                </a:solidFill>
                <a:latin typeface="Arial"/>
              </a:rPr>
              <a:t>Por línea de préstamo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23880" y="1371600"/>
            <a:ext cx="6096240" cy="4083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7164360" y="6380280"/>
            <a:ext cx="1944720" cy="4334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546560" y="5560920"/>
            <a:ext cx="397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ffffff"/>
                </a:solidFill>
                <a:latin typeface="Arial"/>
              </a:rPr>
              <a:t>Nota: Ultima información disponible de tarjetas de crédito enero ’04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190600" y="4648320"/>
            <a:ext cx="74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Arial"/>
              </a:rPr>
              <a:t>Adelanto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917440" y="4784760"/>
            <a:ext cx="89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Arial"/>
              </a:rPr>
              <a:t>Documento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92680" y="4708440"/>
            <a:ext cx="88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Arial"/>
              </a:rPr>
              <a:t>Hipotecario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726080" y="416232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Arial"/>
              </a:rPr>
              <a:t>Prendario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586120" y="4327560"/>
            <a:ext cx="81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Arial"/>
              </a:rPr>
              <a:t>Personal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402600" y="4327560"/>
            <a:ext cx="95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Arial"/>
              </a:rPr>
              <a:t>Tarj. de Créd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09640" y="6210360"/>
            <a:ext cx="171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fffff"/>
                </a:solidFill>
                <a:latin typeface="Arial"/>
              </a:rPr>
              <a:t>Fuente: B.C.R.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37640" y="365040"/>
            <a:ext cx="592308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ccffff"/>
                </a:solidFill>
                <a:latin typeface="Arial"/>
              </a:rPr>
              <a:t>RECUPERACION DEL CREDIT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ccffff"/>
                </a:solidFill>
                <a:latin typeface="Arial"/>
              </a:rPr>
              <a:t>Por línea de préstamo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049200" y="1905120"/>
            <a:ext cx="3138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ffff"/>
                </a:solidFill>
                <a:latin typeface="Arial"/>
              </a:rPr>
              <a:t>SITUAC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ffff"/>
                </a:solidFill>
                <a:latin typeface="Arial"/>
              </a:rPr>
              <a:t>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ffff"/>
                </a:solidFill>
                <a:latin typeface="Arial"/>
              </a:rPr>
              <a:t>SOLVENC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137240" y="365040"/>
            <a:ext cx="695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ccffff"/>
                </a:solidFill>
                <a:latin typeface="Arial"/>
              </a:rPr>
              <a:t>EVOLUCION DEL PATRIMONIO NET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164360" y="6380280"/>
            <a:ext cx="1944720" cy="43344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Antes de la crisis, el PN del sistema era de </a:t>
            </a: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$/USD16.000 millones</a:t>
            </a: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Como resultado de la pesificación asimétrica y las compensaciones que otorgó el estado llegó a </a:t>
            </a: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$30.000 millones</a:t>
            </a: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 (mediados del 2002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A partir de ese momento, se observa una continua reducción del mismo como consecuencia de las pérdidas del siste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Hacia fines de 2003, comienza a estabilizarse con un PN del orden de los </a:t>
            </a: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$22.000 millones</a:t>
            </a: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 (menos de USD 8.000 millones), representando un 12% de los activ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139040" y="365040"/>
            <a:ext cx="695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ccffff"/>
                </a:solidFill>
                <a:latin typeface="Arial"/>
              </a:rPr>
              <a:t>EVOLUCION DEL PATRIMONIO NET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164360" y="6380280"/>
            <a:ext cx="1944720" cy="4334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1676520" y="1434960"/>
            <a:ext cx="5790960" cy="39974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809640" y="6210360"/>
            <a:ext cx="171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fffff"/>
                </a:solidFill>
                <a:latin typeface="Arial"/>
              </a:rPr>
              <a:t>Fuente: B.C.R.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055160" y="365040"/>
            <a:ext cx="711792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ccffff"/>
                </a:solidFill>
                <a:latin typeface="Arial"/>
              </a:rPr>
              <a:t>EVOLUCION DEL PATRIMONIO NET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ccffff"/>
                </a:solidFill>
                <a:latin typeface="Arial"/>
              </a:rPr>
              <a:t>Participación por segmento sobre total Sistem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164360" y="6380280"/>
            <a:ext cx="1944720" cy="4334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809640" y="6210360"/>
            <a:ext cx="171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fffff"/>
                </a:solidFill>
                <a:latin typeface="Arial"/>
              </a:rPr>
              <a:t>Fuente: B.C.R.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1163520" y="1447920"/>
            <a:ext cx="6816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317240" y="365040"/>
            <a:ext cx="6596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ccffff"/>
                </a:solidFill>
                <a:latin typeface="Arial"/>
              </a:rPr>
              <a:t>EXPOSICION AL SECTOR PUBLIC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164360" y="6380280"/>
            <a:ext cx="1944720" cy="4334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2286000" y="1506600"/>
            <a:ext cx="4572000" cy="37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590280" y="365040"/>
            <a:ext cx="208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ccffff"/>
                </a:solidFill>
                <a:latin typeface="Arial"/>
              </a:rPr>
              <a:t>AMPARO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7164360" y="6380280"/>
            <a:ext cx="1944720" cy="4334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27432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809640" y="6210360"/>
            <a:ext cx="171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fffff"/>
                </a:solidFill>
                <a:latin typeface="Arial"/>
              </a:rPr>
              <a:t>Fuente: B.C.R.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649160" y="365040"/>
            <a:ext cx="5880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ccffff"/>
                </a:solidFill>
                <a:latin typeface="Arial"/>
              </a:rPr>
              <a:t>RESUMEN SITUACION ACTU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164360" y="6380280"/>
            <a:ext cx="1944720" cy="4334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6840" y="110484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El sistema financiero ha comenzado un proceso de recuperación que se refleja a través d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Recuperación de los depósitos y créditos priv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Mejora de la rentabil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Cabe destacar, que la recuperación fue diferente según el tipo de entidad (pública, privada nacional o extranjera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Quedan pendientes de resolución una serie de temas, entre ell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Compens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Ampa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2636640" y="1905120"/>
            <a:ext cx="398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ffff"/>
                </a:solidFill>
                <a:latin typeface="Arial"/>
              </a:rPr>
              <a:t>RENTABILIDA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096360" y="365040"/>
            <a:ext cx="295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ccffff"/>
                </a:solidFill>
                <a:latin typeface="Arial"/>
              </a:rPr>
              <a:t>RENTABILIDA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164360" y="6380280"/>
            <a:ext cx="1944720" cy="43344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6840" y="110484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Hemos ensayado un a</a:t>
            </a: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ná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isis de los componentes que dan origen a la rentabilidad, separando</a:t>
            </a: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quellos que se originan en el manejo de </a:t>
            </a: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activos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y pasivo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, de aquellos que son independientes de dicho manej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ambi</a:t>
            </a: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n hemos diferenciado los cargos extraordinarios, </a:t>
            </a: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fundamentalmente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provenientes de las diferencias de cambio</a:t>
            </a: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or deudas con el exterior</a:t>
            </a: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no pesificadas</a:t>
            </a: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 los ingresos generados por el activo ( </a:t>
            </a: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principalmente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préstamo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), hemos diferenciado los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financiados por</a:t>
            </a: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fondos de tercero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(que dan origen al spread por intermediación), de aquellos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financiados por fondos propios l</a:t>
            </a: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quido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588960" y="365040"/>
            <a:ext cx="7995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ccffff"/>
                </a:solidFill>
                <a:latin typeface="Arial"/>
              </a:rPr>
              <a:t>RENTABILIDAD – ABSORCION DE GASTO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7164360" y="6380280"/>
            <a:ext cx="1944720" cy="433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2" name=""/>
          <p:cNvGraphicFramePr/>
          <p:nvPr/>
        </p:nvGraphicFramePr>
        <p:xfrm>
          <a:off x="609480" y="1371600"/>
          <a:ext cx="7924680" cy="3741840"/>
        </p:xfrm>
        <a:graphic>
          <a:graphicData uri="http://schemas.openxmlformats.org/drawingml/2006/table">
            <a:tbl>
              <a:tblPr/>
              <a:tblGrid>
                <a:gridCol w="2666880"/>
                <a:gridCol w="914400"/>
                <a:gridCol w="914400"/>
                <a:gridCol w="914400"/>
                <a:gridCol w="838440"/>
                <a:gridCol w="838080"/>
                <a:gridCol w="838080"/>
              </a:tblGrid>
              <a:tr h="5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stema Financier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ncos Privados Nacionale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ncos Privados Extranjero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3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ENTES DE RENTABILIDA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8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gresos por SPREAD (neto de incobr</a:t>
                      </a:r>
                      <a:r>
                        <a:rPr b="1" lang="es-AR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bles</a:t>
                      </a:r>
                      <a:r>
                        <a:rPr b="1" lang="es-E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,1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,6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,5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6,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,2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1,3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8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gresos por Fondos Propio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,3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3,3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,8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,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,8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6,5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8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gresos por Comisione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,8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,9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,7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,6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,1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,3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6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gresos por posic</a:t>
                      </a:r>
                      <a:r>
                        <a:rPr b="1" lang="es-AR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onamiento</a:t>
                      </a:r>
                      <a:r>
                        <a:rPr b="1" lang="es-E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 intermediac</a:t>
                      </a:r>
                      <a:r>
                        <a:rPr b="1" lang="es-AR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ón</a:t>
                      </a:r>
                      <a:r>
                        <a:rPr b="1" lang="es-E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de moneda ext</a:t>
                      </a:r>
                      <a:r>
                        <a:rPr b="1" lang="es-AR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njer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7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10,8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8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29,9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,6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8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ctr">
                      <a:noAutofit/>
                    </a:bodyPr>
                    <a:p>
                      <a:pPr lvl="1" marL="45720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2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TOTAL ABSORBID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97,9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51,4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109,8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101,8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100,6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35,3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"/>
          <p:cNvSpPr/>
          <p:nvPr/>
        </p:nvSpPr>
        <p:spPr>
          <a:xfrm>
            <a:off x="808200" y="60181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ffffff"/>
                </a:solidFill>
                <a:latin typeface="Arial"/>
              </a:rPr>
              <a:t>Fuente: B.C.R.A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480" y="6445080"/>
            <a:ext cx="702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ffffff"/>
                </a:solidFill>
                <a:latin typeface="Arial"/>
              </a:rPr>
              <a:t>Aclaración metodológica: En el ejercicio 2003, se netearon los ajustes realizados por Patagonia Sudameris relativos a la amortización total de amparos activados y la valuación de títulos públicos a valor de mercado (aquellos relacionados con la compensación), con el fin de realizar una comparación homogénea.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367280" y="365040"/>
            <a:ext cx="6514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ccffff"/>
                </a:solidFill>
                <a:latin typeface="Arial"/>
              </a:rPr>
              <a:t>EVOLUCION DE LA RENTABILIDA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164360" y="6380280"/>
            <a:ext cx="1944720" cy="4334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809640" y="6210360"/>
            <a:ext cx="171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fffff"/>
                </a:solidFill>
                <a:latin typeface="Arial"/>
              </a:rPr>
              <a:t>Fuente: B.C.R.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304920" y="1228680"/>
            <a:ext cx="8534160" cy="36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895320" y="365040"/>
            <a:ext cx="7424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ccffff"/>
                </a:solidFill>
                <a:latin typeface="Arial"/>
              </a:rPr>
              <a:t>RENTABILIDAD - SISTEMA FINANCIER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164360" y="6380280"/>
            <a:ext cx="1944720" cy="433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1" name=""/>
          <p:cNvGraphicFramePr/>
          <p:nvPr/>
        </p:nvGraphicFramePr>
        <p:xfrm>
          <a:off x="1771560" y="1263600"/>
          <a:ext cx="1241640" cy="662040"/>
        </p:xfrm>
        <a:graphic>
          <a:graphicData uri="http://schemas.openxmlformats.org/drawingml/2006/table">
            <a:tbl>
              <a:tblPr/>
              <a:tblGrid>
                <a:gridCol w="657360"/>
                <a:gridCol w="584280"/>
              </a:tblGrid>
              <a:tr h="215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SPREAD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40,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78,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3219480" y="1263600"/>
          <a:ext cx="1241280" cy="661680"/>
        </p:xfrm>
        <a:graphic>
          <a:graphicData uri="http://schemas.openxmlformats.org/drawingml/2006/table">
            <a:tbl>
              <a:tblPr/>
              <a:tblGrid>
                <a:gridCol w="657000"/>
                <a:gridCol w="584280"/>
              </a:tblGrid>
              <a:tr h="215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FONDOS PROPIO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264,4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0,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4667400" y="1263600"/>
          <a:ext cx="1241280" cy="661680"/>
        </p:xfrm>
        <a:graphic>
          <a:graphicData uri="http://schemas.openxmlformats.org/drawingml/2006/table">
            <a:tbl>
              <a:tblPr/>
              <a:tblGrid>
                <a:gridCol w="657000"/>
                <a:gridCol w="584280"/>
              </a:tblGrid>
              <a:tr h="215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COMISIONE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34,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20,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6114960" y="1263600"/>
          <a:ext cx="1368360" cy="661680"/>
        </p:xfrm>
        <a:graphic>
          <a:graphicData uri="http://schemas.openxmlformats.org/drawingml/2006/table">
            <a:tbl>
              <a:tblPr/>
              <a:tblGrid>
                <a:gridCol w="703080"/>
                <a:gridCol w="665280"/>
              </a:tblGrid>
              <a:tr h="215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MONEDA EXTRANJER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850,5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8,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3949560" y="2924280"/>
          <a:ext cx="1241640" cy="661680"/>
        </p:xfrm>
        <a:graphic>
          <a:graphicData uri="http://schemas.openxmlformats.org/drawingml/2006/table">
            <a:tbl>
              <a:tblPr/>
              <a:tblGrid>
                <a:gridCol w="640080"/>
                <a:gridCol w="601560"/>
              </a:tblGrid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GS ADMINISTRACION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7.908,1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7.256,3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1806480" y="2228760"/>
          <a:ext cx="1241640" cy="662040"/>
        </p:xfrm>
        <a:graphic>
          <a:graphicData uri="http://schemas.openxmlformats.org/drawingml/2006/table">
            <a:tbl>
              <a:tblPr/>
              <a:tblGrid>
                <a:gridCol w="631800"/>
                <a:gridCol w="609840"/>
              </a:tblGrid>
              <a:tr h="215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INCOBRABILIDAD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1.992,0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3.297,4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197" name=""/>
          <p:cNvCxnSpPr/>
          <p:nvPr/>
        </p:nvCxnSpPr>
        <p:spPr>
          <a:xfrm flipH="1">
            <a:off x="2426400" y="1925640"/>
            <a:ext cx="2520" cy="3038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8" name=""/>
          <p:cNvCxnSpPr/>
          <p:nvPr/>
        </p:nvCxnSpPr>
        <p:spPr>
          <a:xfrm rot="5400000">
            <a:off x="4453200" y="2042280"/>
            <a:ext cx="988200" cy="754560"/>
          </a:xfrm>
          <a:prstGeom prst="bentConnector3">
            <a:avLst>
              <a:gd name="adj1" fmla="val 49927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9" name=""/>
          <p:cNvCxnSpPr/>
          <p:nvPr/>
        </p:nvCxnSpPr>
        <p:spPr>
          <a:xfrm rot="5400000">
            <a:off x="5200200" y="1295280"/>
            <a:ext cx="988200" cy="2248560"/>
          </a:xfrm>
          <a:prstGeom prst="bentConnector3">
            <a:avLst>
              <a:gd name="adj1" fmla="val 49927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00" name=""/>
          <p:cNvCxnSpPr/>
          <p:nvPr/>
        </p:nvCxnSpPr>
        <p:spPr>
          <a:xfrm flipH="1" rot="16200000">
            <a:off x="3728880" y="2072160"/>
            <a:ext cx="988200" cy="694440"/>
          </a:xfrm>
          <a:prstGeom prst="bentConnector3">
            <a:avLst>
              <a:gd name="adj1" fmla="val 49927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01" name=""/>
          <p:cNvCxnSpPr/>
          <p:nvPr/>
        </p:nvCxnSpPr>
        <p:spPr>
          <a:xfrm flipH="1" rot="16200000">
            <a:off x="3639960" y="1983240"/>
            <a:ext cx="337320" cy="1523160"/>
          </a:xfrm>
          <a:prstGeom prst="bentConnector3">
            <a:avLst>
              <a:gd name="adj1" fmla="val -4711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graphicFrame>
        <p:nvGraphicFramePr>
          <p:cNvPr id="202" name=""/>
          <p:cNvGraphicFramePr/>
          <p:nvPr/>
        </p:nvGraphicFramePr>
        <p:xfrm>
          <a:off x="3949560" y="4702320"/>
          <a:ext cx="1241640" cy="661680"/>
        </p:xfrm>
        <a:graphic>
          <a:graphicData uri="http://schemas.openxmlformats.org/drawingml/2006/table">
            <a:tbl>
              <a:tblPr/>
              <a:tblGrid>
                <a:gridCol w="657360"/>
                <a:gridCol w="584280"/>
              </a:tblGrid>
              <a:tr h="215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RDOS. NO OPERATS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527,6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105,0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3962520" y="3809880"/>
          <a:ext cx="1241280" cy="662040"/>
        </p:xfrm>
        <a:graphic>
          <a:graphicData uri="http://schemas.openxmlformats.org/drawingml/2006/table">
            <a:tbl>
              <a:tblPr/>
              <a:tblGrid>
                <a:gridCol w="627120"/>
                <a:gridCol w="614160"/>
              </a:tblGrid>
              <a:tr h="215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RDO. OPERATIV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3.839,7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155,2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3952800" y="5586480"/>
          <a:ext cx="1241640" cy="662040"/>
        </p:xfrm>
        <a:graphic>
          <a:graphicData uri="http://schemas.openxmlformats.org/drawingml/2006/table">
            <a:tbl>
              <a:tblPr/>
              <a:tblGrid>
                <a:gridCol w="636840"/>
                <a:gridCol w="604800"/>
              </a:tblGrid>
              <a:tr h="215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RESULTADO FINAL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4.367,3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260,2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"/>
          <p:cNvSpPr/>
          <p:nvPr/>
        </p:nvSpPr>
        <p:spPr>
          <a:xfrm>
            <a:off x="4572000" y="3610080"/>
            <a:ext cx="0" cy="191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0" y="449568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0" y="5362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125520" y="888840"/>
            <a:ext cx="289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ffffff"/>
                </a:solidFill>
                <a:latin typeface="Arial"/>
              </a:rPr>
              <a:t>Datos expresados en millones de pes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538280" y="1200240"/>
            <a:ext cx="152280" cy="838080"/>
          </a:xfrm>
          <a:custGeom>
            <a:avLst/>
            <a:gdLst>
              <a:gd name="textAreaLeft" fmla="*/ 97200 w 152280"/>
              <a:gd name="textAreaRight" fmla="*/ 152640 w 1522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87240" y="1336680"/>
            <a:ext cx="84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ffffff"/>
                </a:solidFill>
                <a:latin typeface="Arial"/>
              </a:rPr>
              <a:t>Fuentes d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ffffff"/>
                </a:solidFill>
                <a:latin typeface="Arial"/>
              </a:rPr>
              <a:t>Ingreso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ffffff"/>
                </a:solidFill>
                <a:latin typeface="Arial"/>
              </a:rPr>
              <a:t>Operativo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480" y="6445080"/>
            <a:ext cx="702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ffffff"/>
                </a:solidFill>
                <a:latin typeface="Arial"/>
              </a:rPr>
              <a:t>Aclaración metodológica: En el ejercicio 2003, se netearon los ajustes realizados por Patagonia Sudameris relativos a la amortización total de amparos activados y la valuación de títulos públicos a valor de mercado (aquellos relacionados con la compensación), con el fin de realizar una comparación homogénea.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08200" y="60181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ffffff"/>
                </a:solidFill>
                <a:latin typeface="Arial"/>
              </a:rPr>
              <a:t>Fuente: B.C.R.A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89160" y="365040"/>
            <a:ext cx="8443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ccffff"/>
                </a:solidFill>
                <a:latin typeface="Arial"/>
              </a:rPr>
              <a:t>RENTABILIDAD - BANCA PRIVADA NACION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7164360" y="6380280"/>
            <a:ext cx="1944720" cy="433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5" name=""/>
          <p:cNvGraphicFramePr/>
          <p:nvPr/>
        </p:nvGraphicFramePr>
        <p:xfrm>
          <a:off x="1771560" y="1263600"/>
          <a:ext cx="1241640" cy="661680"/>
        </p:xfrm>
        <a:graphic>
          <a:graphicData uri="http://schemas.openxmlformats.org/drawingml/2006/table">
            <a:tbl>
              <a:tblPr/>
              <a:tblGrid>
                <a:gridCol w="657360"/>
                <a:gridCol w="584280"/>
              </a:tblGrid>
              <a:tr h="215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SPREAD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605,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54,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3219480" y="1263600"/>
          <a:ext cx="1241280" cy="661680"/>
        </p:xfrm>
        <a:graphic>
          <a:graphicData uri="http://schemas.openxmlformats.org/drawingml/2006/table">
            <a:tbl>
              <a:tblPr/>
              <a:tblGrid>
                <a:gridCol w="657000"/>
                <a:gridCol w="584280"/>
              </a:tblGrid>
              <a:tr h="215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FONDOS PROPIO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1,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1,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4667400" y="1263600"/>
          <a:ext cx="1241280" cy="661680"/>
        </p:xfrm>
        <a:graphic>
          <a:graphicData uri="http://schemas.openxmlformats.org/drawingml/2006/table">
            <a:tbl>
              <a:tblPr/>
              <a:tblGrid>
                <a:gridCol w="657000"/>
                <a:gridCol w="584280"/>
              </a:tblGrid>
              <a:tr h="215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COMISIONE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5,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6,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6114960" y="1263600"/>
          <a:ext cx="1368360" cy="661680"/>
        </p:xfrm>
        <a:graphic>
          <a:graphicData uri="http://schemas.openxmlformats.org/drawingml/2006/table">
            <a:tbl>
              <a:tblPr/>
              <a:tblGrid>
                <a:gridCol w="703080"/>
                <a:gridCol w="665280"/>
              </a:tblGrid>
              <a:tr h="215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MONEDA EXTRANJER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519,2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,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3949560" y="2924280"/>
          <a:ext cx="1241640" cy="661680"/>
        </p:xfrm>
        <a:graphic>
          <a:graphicData uri="http://schemas.openxmlformats.org/drawingml/2006/table">
            <a:tbl>
              <a:tblPr/>
              <a:tblGrid>
                <a:gridCol w="640080"/>
                <a:gridCol w="601560"/>
              </a:tblGrid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GS ADMINISTRACION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1.739,0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1.199,3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1806480" y="2228760"/>
          <a:ext cx="1241640" cy="662040"/>
        </p:xfrm>
        <a:graphic>
          <a:graphicData uri="http://schemas.openxmlformats.org/drawingml/2006/table">
            <a:tbl>
              <a:tblPr/>
              <a:tblGrid>
                <a:gridCol w="638280"/>
                <a:gridCol w="603360"/>
              </a:tblGrid>
              <a:tr h="215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INCOBRABILIDAD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283,4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620,7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221" name=""/>
          <p:cNvCxnSpPr/>
          <p:nvPr/>
        </p:nvCxnSpPr>
        <p:spPr>
          <a:xfrm flipH="1">
            <a:off x="2426400" y="1925640"/>
            <a:ext cx="2520" cy="3038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2" name=""/>
          <p:cNvCxnSpPr/>
          <p:nvPr/>
        </p:nvCxnSpPr>
        <p:spPr>
          <a:xfrm rot="5400000">
            <a:off x="4453200" y="2042280"/>
            <a:ext cx="988200" cy="754560"/>
          </a:xfrm>
          <a:prstGeom prst="bentConnector3">
            <a:avLst>
              <a:gd name="adj1" fmla="val 49927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3" name=""/>
          <p:cNvCxnSpPr/>
          <p:nvPr/>
        </p:nvCxnSpPr>
        <p:spPr>
          <a:xfrm rot="5400000">
            <a:off x="5200200" y="1295280"/>
            <a:ext cx="988200" cy="2248560"/>
          </a:xfrm>
          <a:prstGeom prst="bentConnector3">
            <a:avLst>
              <a:gd name="adj1" fmla="val 49927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4" name=""/>
          <p:cNvCxnSpPr/>
          <p:nvPr/>
        </p:nvCxnSpPr>
        <p:spPr>
          <a:xfrm flipH="1" rot="16200000">
            <a:off x="3728880" y="2072160"/>
            <a:ext cx="988200" cy="694440"/>
          </a:xfrm>
          <a:prstGeom prst="bentConnector3">
            <a:avLst>
              <a:gd name="adj1" fmla="val 49927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5" name=""/>
          <p:cNvCxnSpPr/>
          <p:nvPr/>
        </p:nvCxnSpPr>
        <p:spPr>
          <a:xfrm flipH="1" rot="16200000">
            <a:off x="3639960" y="1983240"/>
            <a:ext cx="337320" cy="1523160"/>
          </a:xfrm>
          <a:prstGeom prst="bentConnector3">
            <a:avLst>
              <a:gd name="adj1" fmla="val -4711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graphicFrame>
        <p:nvGraphicFramePr>
          <p:cNvPr id="226" name=""/>
          <p:cNvGraphicFramePr/>
          <p:nvPr/>
        </p:nvGraphicFramePr>
        <p:xfrm>
          <a:off x="3949560" y="4702320"/>
          <a:ext cx="1241640" cy="661680"/>
        </p:xfrm>
        <a:graphic>
          <a:graphicData uri="http://schemas.openxmlformats.org/drawingml/2006/table">
            <a:tbl>
              <a:tblPr/>
              <a:tblGrid>
                <a:gridCol w="657360"/>
                <a:gridCol w="584280"/>
              </a:tblGrid>
              <a:tr h="215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RDOS. NO OPERATS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1,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7,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3962520" y="3809880"/>
          <a:ext cx="1241280" cy="662040"/>
        </p:xfrm>
        <a:graphic>
          <a:graphicData uri="http://schemas.openxmlformats.org/drawingml/2006/table">
            <a:tbl>
              <a:tblPr/>
              <a:tblGrid>
                <a:gridCol w="627120"/>
                <a:gridCol w="614160"/>
              </a:tblGrid>
              <a:tr h="215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RDO. OPERATIV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,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7,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3952800" y="5586480"/>
          <a:ext cx="1241640" cy="662040"/>
        </p:xfrm>
        <a:graphic>
          <a:graphicData uri="http://schemas.openxmlformats.org/drawingml/2006/table">
            <a:tbl>
              <a:tblPr/>
              <a:tblGrid>
                <a:gridCol w="636840"/>
                <a:gridCol w="604800"/>
              </a:tblGrid>
              <a:tr h="215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RESULTADO FINAL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2,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5,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9" name=""/>
          <p:cNvSpPr/>
          <p:nvPr/>
        </p:nvSpPr>
        <p:spPr>
          <a:xfrm>
            <a:off x="4572000" y="3610080"/>
            <a:ext cx="0" cy="191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0" y="449568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0" y="5362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125520" y="888840"/>
            <a:ext cx="289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ffffff"/>
                </a:solidFill>
                <a:latin typeface="Arial"/>
              </a:rPr>
              <a:t>Datos expresados en millones de pes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538280" y="1200240"/>
            <a:ext cx="152280" cy="838080"/>
          </a:xfrm>
          <a:custGeom>
            <a:avLst/>
            <a:gdLst>
              <a:gd name="textAreaLeft" fmla="*/ 97200 w 152280"/>
              <a:gd name="textAreaRight" fmla="*/ 152640 w 1522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87240" y="1336680"/>
            <a:ext cx="84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ffffff"/>
                </a:solidFill>
                <a:latin typeface="Arial"/>
              </a:rPr>
              <a:t>Fuentes d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ffffff"/>
                </a:solidFill>
                <a:latin typeface="Arial"/>
              </a:rPr>
              <a:t>Ingreso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ffffff"/>
                </a:solidFill>
                <a:latin typeface="Arial"/>
              </a:rPr>
              <a:t>Operativo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480" y="6445080"/>
            <a:ext cx="702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ffffff"/>
                </a:solidFill>
                <a:latin typeface="Arial"/>
              </a:rPr>
              <a:t>Aclaración metodológica: En el ejercicio 2003, se netearon los ajustes realizados por Patagonia Sudameris relativos a la amortización total de amparos activados y la valuación de títulos públicos a valor de mercado (aquellos relacionados con la compensación), con el fin de realizar una comparación homogénea.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08200" y="60181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ffffff"/>
                </a:solidFill>
                <a:latin typeface="Arial"/>
              </a:rPr>
              <a:t>Fuente: B.C.R.A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04760" y="365040"/>
            <a:ext cx="901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ccffff"/>
                </a:solidFill>
                <a:latin typeface="Arial"/>
              </a:rPr>
              <a:t>RENTABILIDAD - BANCA PRIVADA EXTRANJER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7164360" y="6380280"/>
            <a:ext cx="1944720" cy="433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9" name=""/>
          <p:cNvGraphicFramePr/>
          <p:nvPr/>
        </p:nvGraphicFramePr>
        <p:xfrm>
          <a:off x="1771560" y="1263600"/>
          <a:ext cx="1241640" cy="661680"/>
        </p:xfrm>
        <a:graphic>
          <a:graphicData uri="http://schemas.openxmlformats.org/drawingml/2006/table">
            <a:tbl>
              <a:tblPr/>
              <a:tblGrid>
                <a:gridCol w="657360"/>
                <a:gridCol w="584280"/>
              </a:tblGrid>
              <a:tr h="215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SPREAD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89,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04,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3219480" y="1263600"/>
          <a:ext cx="1241280" cy="661680"/>
        </p:xfrm>
        <a:graphic>
          <a:graphicData uri="http://schemas.openxmlformats.org/drawingml/2006/table">
            <a:tbl>
              <a:tblPr/>
              <a:tblGrid>
                <a:gridCol w="657000"/>
                <a:gridCol w="584280"/>
              </a:tblGrid>
              <a:tr h="215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FONDOS PROPIO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204,1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0,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1" name=""/>
          <p:cNvGraphicFramePr/>
          <p:nvPr/>
        </p:nvGraphicFramePr>
        <p:xfrm>
          <a:off x="4667400" y="1263600"/>
          <a:ext cx="1241280" cy="661680"/>
        </p:xfrm>
        <a:graphic>
          <a:graphicData uri="http://schemas.openxmlformats.org/drawingml/2006/table">
            <a:tbl>
              <a:tblPr/>
              <a:tblGrid>
                <a:gridCol w="657000"/>
                <a:gridCol w="584280"/>
              </a:tblGrid>
              <a:tr h="215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COMISIONE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40,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649,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6114960" y="1263600"/>
          <a:ext cx="1368360" cy="661680"/>
        </p:xfrm>
        <a:graphic>
          <a:graphicData uri="http://schemas.openxmlformats.org/drawingml/2006/table">
            <a:tbl>
              <a:tblPr/>
              <a:tblGrid>
                <a:gridCol w="703080"/>
                <a:gridCol w="665280"/>
              </a:tblGrid>
              <a:tr h="215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MONEDA EXTRANJER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0,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3,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3949560" y="2924280"/>
          <a:ext cx="1241640" cy="661680"/>
        </p:xfrm>
        <a:graphic>
          <a:graphicData uri="http://schemas.openxmlformats.org/drawingml/2006/table">
            <a:tbl>
              <a:tblPr/>
              <a:tblGrid>
                <a:gridCol w="640080"/>
                <a:gridCol w="601560"/>
              </a:tblGrid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GS ADMINISTRACION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3.157,9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3.655,2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1806480" y="2228760"/>
          <a:ext cx="1241640" cy="662040"/>
        </p:xfrm>
        <a:graphic>
          <a:graphicData uri="http://schemas.openxmlformats.org/drawingml/2006/table">
            <a:tbl>
              <a:tblPr/>
              <a:tblGrid>
                <a:gridCol w="638280"/>
                <a:gridCol w="603360"/>
              </a:tblGrid>
              <a:tr h="215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INCOBRABILIDAD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1.130,3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1.800,2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245" name=""/>
          <p:cNvCxnSpPr/>
          <p:nvPr/>
        </p:nvCxnSpPr>
        <p:spPr>
          <a:xfrm flipH="1">
            <a:off x="2426400" y="1925640"/>
            <a:ext cx="2520" cy="3038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6" name=""/>
          <p:cNvCxnSpPr/>
          <p:nvPr/>
        </p:nvCxnSpPr>
        <p:spPr>
          <a:xfrm rot="5400000">
            <a:off x="4453200" y="2042280"/>
            <a:ext cx="988200" cy="754560"/>
          </a:xfrm>
          <a:prstGeom prst="bentConnector3">
            <a:avLst>
              <a:gd name="adj1" fmla="val 49927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7" name=""/>
          <p:cNvCxnSpPr/>
          <p:nvPr/>
        </p:nvCxnSpPr>
        <p:spPr>
          <a:xfrm rot="5400000">
            <a:off x="5200200" y="1295280"/>
            <a:ext cx="988200" cy="2248560"/>
          </a:xfrm>
          <a:prstGeom prst="bentConnector3">
            <a:avLst>
              <a:gd name="adj1" fmla="val 49927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8" name=""/>
          <p:cNvCxnSpPr/>
          <p:nvPr/>
        </p:nvCxnSpPr>
        <p:spPr>
          <a:xfrm flipH="1" rot="16200000">
            <a:off x="3728880" y="2072160"/>
            <a:ext cx="988200" cy="694440"/>
          </a:xfrm>
          <a:prstGeom prst="bentConnector3">
            <a:avLst>
              <a:gd name="adj1" fmla="val 49927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9" name=""/>
          <p:cNvCxnSpPr/>
          <p:nvPr/>
        </p:nvCxnSpPr>
        <p:spPr>
          <a:xfrm flipH="1" rot="16200000">
            <a:off x="3639960" y="1983240"/>
            <a:ext cx="337320" cy="1523160"/>
          </a:xfrm>
          <a:prstGeom prst="bentConnector3">
            <a:avLst>
              <a:gd name="adj1" fmla="val -4711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graphicFrame>
        <p:nvGraphicFramePr>
          <p:cNvPr id="250" name=""/>
          <p:cNvGraphicFramePr/>
          <p:nvPr/>
        </p:nvGraphicFramePr>
        <p:xfrm>
          <a:off x="3949560" y="4702320"/>
          <a:ext cx="1241640" cy="661680"/>
        </p:xfrm>
        <a:graphic>
          <a:graphicData uri="http://schemas.openxmlformats.org/drawingml/2006/table">
            <a:tbl>
              <a:tblPr/>
              <a:tblGrid>
                <a:gridCol w="657360"/>
                <a:gridCol w="584280"/>
              </a:tblGrid>
              <a:tr h="215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RDOS. NO OPERATS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559,4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155,3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1" name=""/>
          <p:cNvGraphicFramePr/>
          <p:nvPr/>
        </p:nvGraphicFramePr>
        <p:xfrm>
          <a:off x="3962520" y="3809880"/>
          <a:ext cx="1241280" cy="662040"/>
        </p:xfrm>
        <a:graphic>
          <a:graphicData uri="http://schemas.openxmlformats.org/drawingml/2006/table">
            <a:tbl>
              <a:tblPr/>
              <a:tblGrid>
                <a:gridCol w="627120"/>
                <a:gridCol w="614160"/>
              </a:tblGrid>
              <a:tr h="215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RDO. OPERATIV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2.042,4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,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2" name=""/>
          <p:cNvGraphicFramePr/>
          <p:nvPr/>
        </p:nvGraphicFramePr>
        <p:xfrm>
          <a:off x="3952800" y="5586480"/>
          <a:ext cx="1241640" cy="662040"/>
        </p:xfrm>
        <a:graphic>
          <a:graphicData uri="http://schemas.openxmlformats.org/drawingml/2006/table">
            <a:tbl>
              <a:tblPr/>
              <a:tblGrid>
                <a:gridCol w="636840"/>
                <a:gridCol w="604800"/>
              </a:tblGrid>
              <a:tr h="215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RESULTADO FINAL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2.601,8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133,5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3" name=""/>
          <p:cNvSpPr/>
          <p:nvPr/>
        </p:nvSpPr>
        <p:spPr>
          <a:xfrm>
            <a:off x="4572000" y="3610080"/>
            <a:ext cx="0" cy="191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572000" y="449568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0" y="5362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125520" y="888840"/>
            <a:ext cx="289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ffffff"/>
                </a:solidFill>
                <a:latin typeface="Arial"/>
              </a:rPr>
              <a:t>Datos expresados en millones de pes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38280" y="1200240"/>
            <a:ext cx="152280" cy="838080"/>
          </a:xfrm>
          <a:custGeom>
            <a:avLst/>
            <a:gdLst>
              <a:gd name="textAreaLeft" fmla="*/ 97200 w 152280"/>
              <a:gd name="textAreaRight" fmla="*/ 152640 w 1522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87240" y="1336680"/>
            <a:ext cx="84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ffffff"/>
                </a:solidFill>
                <a:latin typeface="Arial"/>
              </a:rPr>
              <a:t>Fuentes d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ffffff"/>
                </a:solidFill>
                <a:latin typeface="Arial"/>
              </a:rPr>
              <a:t>Ingreso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ffffff"/>
                </a:solidFill>
                <a:latin typeface="Arial"/>
              </a:rPr>
              <a:t>Operativo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08200" y="60181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ffffff"/>
                </a:solidFill>
                <a:latin typeface="Arial"/>
              </a:rPr>
              <a:t>Fuente: B.C.R.A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2146320" y="365040"/>
            <a:ext cx="4863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ccffff"/>
                </a:solidFill>
                <a:latin typeface="Arial"/>
              </a:rPr>
              <a:t>RENTABILIDAD - SPREA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7164360" y="6380280"/>
            <a:ext cx="1944720" cy="43344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990720" y="1444680"/>
            <a:ext cx="7162560" cy="370836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808200" y="60181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ffffff"/>
                </a:solidFill>
                <a:latin typeface="Arial"/>
              </a:rPr>
              <a:t>Fuente: B.C.R.A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140400" y="365040"/>
            <a:ext cx="8905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ccffff"/>
                </a:solidFill>
                <a:latin typeface="Arial"/>
              </a:rPr>
              <a:t>GASTOS – INCIDENCIA GASTOS DE PERSON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7164360" y="6380280"/>
            <a:ext cx="1944720" cy="43344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808200" y="60181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ffffff"/>
                </a:solidFill>
                <a:latin typeface="Arial"/>
              </a:rPr>
              <a:t>Fuente: B.C.R.A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219320" y="1447920"/>
            <a:ext cx="670536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528920" y="365040"/>
            <a:ext cx="6195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ccffff"/>
                </a:solidFill>
                <a:latin typeface="Arial"/>
              </a:rPr>
              <a:t>MOTORES DE LA RENTABILIDA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7164360" y="6380280"/>
            <a:ext cx="1944720" cy="43344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456840" y="110484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El spr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El costo de los fondos y su relación con el C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La tasa activa (por la porción de la cartera financiada con fondos propio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Los ingresos por comis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Los gast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33800" y="1905120"/>
            <a:ext cx="2969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ffff"/>
                </a:solidFill>
                <a:latin typeface="Arial"/>
              </a:rPr>
              <a:t>SITUAC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ffff"/>
                </a:solidFill>
                <a:latin typeface="Arial"/>
              </a:rPr>
              <a:t>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ffff"/>
                </a:solidFill>
                <a:latin typeface="Arial"/>
              </a:rPr>
              <a:t>LIQUIDEZ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24440" y="365040"/>
            <a:ext cx="4754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ccffff"/>
                </a:solidFill>
                <a:latin typeface="Arial"/>
              </a:rPr>
              <a:t>SITUACION DE LIQUIDEZ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7164360" y="6380280"/>
            <a:ext cx="1944720" cy="4334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055520" y="1219320"/>
            <a:ext cx="7032960" cy="40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341080" y="365040"/>
            <a:ext cx="45424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ccffff"/>
                </a:solidFill>
                <a:latin typeface="Arial"/>
              </a:rPr>
              <a:t>DEPOSITOS A LA VIST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ccffff"/>
                </a:solidFill>
                <a:latin typeface="Arial"/>
              </a:rPr>
              <a:t>(del sector privado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64360" y="6380280"/>
            <a:ext cx="1944720" cy="4334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523880" y="1647720"/>
            <a:ext cx="6096240" cy="36100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639440" y="5394240"/>
            <a:ext cx="52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 u="sng">
                <a:solidFill>
                  <a:srgbClr val="ffffff"/>
                </a:solidFill>
                <a:uFillTx/>
                <a:latin typeface="Arial"/>
              </a:rPr>
              <a:t>Nota</a:t>
            </a:r>
            <a:r>
              <a:rPr b="0" lang="es-AR" sz="1000" spc="-1" strike="noStrike">
                <a:solidFill>
                  <a:srgbClr val="ffffff"/>
                </a:solidFill>
                <a:latin typeface="Arial"/>
              </a:rPr>
              <a:t>: Depósitos a la vista incluye cuentas corrientes y cajas de ahorro del sector privado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027800" y="365040"/>
            <a:ext cx="7163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ccffff"/>
                </a:solidFill>
                <a:latin typeface="Arial"/>
              </a:rPr>
              <a:t>EL DRIVER DE LA LIQUIDEZ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ccffff"/>
                </a:solidFill>
                <a:latin typeface="Arial"/>
              </a:rPr>
              <a:t>Importante recuperación de los depósito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164360" y="6380280"/>
            <a:ext cx="1944720" cy="4334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600200" y="1635120"/>
            <a:ext cx="5943600" cy="43084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810360" y="6210360"/>
            <a:ext cx="264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fffff"/>
                </a:solidFill>
                <a:latin typeface="Arial"/>
              </a:rPr>
              <a:t>Fuente: SISCEN - B.C.R.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523880" y="1349280"/>
            <a:ext cx="6096240" cy="41688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10320" y="365040"/>
            <a:ext cx="8606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ccffff"/>
                </a:solidFill>
                <a:latin typeface="Arial"/>
              </a:rPr>
              <a:t>EVOLUCION DE DEPOSITOS POR SEGMENT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7164360" y="6380280"/>
            <a:ext cx="1944720" cy="4334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208960" y="3905280"/>
            <a:ext cx="108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Sistem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Financier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573000" y="3902040"/>
            <a:ext cx="92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Banc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Públic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23560" y="2457360"/>
            <a:ext cx="11210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Banc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Nacional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00120" y="4343400"/>
            <a:ext cx="1162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Banc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Extranjer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09640" y="6210360"/>
            <a:ext cx="171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fffff"/>
                </a:solidFill>
                <a:latin typeface="Arial"/>
              </a:rPr>
              <a:t>Fuente: B.C.R.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164360" y="6380280"/>
            <a:ext cx="1944720" cy="4334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637640" y="365040"/>
            <a:ext cx="592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ccffff"/>
                </a:solidFill>
                <a:latin typeface="Arial"/>
              </a:rPr>
              <a:t>RECUPERACION DEL CREDIT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10360" y="6210360"/>
            <a:ext cx="264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fffff"/>
                </a:solidFill>
                <a:latin typeface="Arial"/>
              </a:rPr>
              <a:t>Fuente: SISCEN - B.C.R.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339920" y="1289160"/>
            <a:ext cx="6464160" cy="42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164360" y="6380280"/>
            <a:ext cx="1944720" cy="4334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637640" y="365040"/>
            <a:ext cx="592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ccffff"/>
                </a:solidFill>
                <a:latin typeface="Arial"/>
              </a:rPr>
              <a:t>RECUPERACION DEL CREDIT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371600" y="1349280"/>
            <a:ext cx="6400800" cy="4023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809640" y="6210360"/>
            <a:ext cx="171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fffff"/>
                </a:solidFill>
                <a:latin typeface="Arial"/>
              </a:rPr>
              <a:t>Fuente: B.C.R.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4T12:54:28Z</dcterms:created>
  <dc:creator>pochatp</dc:creator>
  <dc:description/>
  <dc:language>en-US</dc:language>
  <cp:lastModifiedBy>C.P.C.E.C.A.B.A.</cp:lastModifiedBy>
  <dcterms:modified xsi:type="dcterms:W3CDTF">2004-09-24T15:36:02Z</dcterms:modified>
  <cp:revision>125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36029405</vt:r8>
  </property>
  <property fmtid="{D5CDD505-2E9C-101B-9397-08002B2CF9AE}" pid="3" name="_AuthorEmail">
    <vt:lpwstr>PochatP@Comafi.com.ar</vt:lpwstr>
  </property>
  <property fmtid="{D5CDD505-2E9C-101B-9397-08002B2CF9AE}" pid="4" name="_AuthorEmailDisplayName">
    <vt:lpwstr>Pablo Pochat</vt:lpwstr>
  </property>
  <property fmtid="{D5CDD505-2E9C-101B-9397-08002B2CF9AE}" pid="5" name="_EmailSubject">
    <vt:lpwstr/>
  </property>
</Properties>
</file>