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4.jpeg" ContentType="image/jpe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BDB9-E4C9-4197-8269-DE267B1E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A08B-3FC6-483F-A230-5F08C046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A859-44B2-4122-9292-E8076BA5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259D-9BFB-47C0-819A-62D85350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E90D-D6FA-4D5B-86C6-CA1BF649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3416-5F11-4FE3-9B64-2C012709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6390-E00A-4ADC-B775-71A2E2EF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8188-C801-44F6-8BBB-9BCDE27E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7556-085B-463B-9098-DCC58E0C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6C2A-2F11-41C5-8C34-718E6707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AB7C-4B3D-40FF-89F3-DC615DA8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0485-851F-495B-BF72-E54D4144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9FB7-5E59-4EAD-97FB-0BF12991F7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7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22480" y="1238400"/>
            <a:ext cx="5064120" cy="1126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30600" y="4307040"/>
            <a:ext cx="7314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Situación Actual de la Banca Priv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ffff"/>
                </a:solidFill>
                <a:latin typeface="Arial"/>
              </a:rPr>
              <a:t>Septiembre 2004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1066680" y="1476360"/>
            <a:ext cx="7010640" cy="4695840"/>
            <a:chOff x="1066680" y="1476360"/>
            <a:chExt cx="7010640" cy="469584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1066680" y="1476360"/>
              <a:ext cx="7010640" cy="46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904040" y="4827600"/>
              <a:ext cx="108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Financi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99920" y="4551480"/>
              <a:ext cx="923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Banc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Públic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85640" y="3981600"/>
              <a:ext cx="11210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Banc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Nacion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63440" y="5322960"/>
              <a:ext cx="116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Banc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Extranjer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637640" y="365040"/>
            <a:ext cx="59230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CUPERACION DEL CREDI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ccffff"/>
                </a:solidFill>
                <a:latin typeface="Arial"/>
              </a:rPr>
              <a:t>Por grupo de entidades financier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09640" y="6210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3880" y="1409760"/>
            <a:ext cx="6096240" cy="4083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637640" y="365040"/>
            <a:ext cx="59230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CUPERACION DEL CREDI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ccffff"/>
                </a:solidFill>
                <a:latin typeface="Arial"/>
              </a:rPr>
              <a:t>Por línea de préstam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9640" y="6210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46560" y="5599080"/>
            <a:ext cx="397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Nota: Ultima información disponible de tarjetas de crédito enero ’04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0600" y="4038480"/>
            <a:ext cx="74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Adelan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17440" y="4419720"/>
            <a:ext cx="89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Documen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92680" y="4784760"/>
            <a:ext cx="88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Hipotecari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26080" y="4022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Prendari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86120" y="4022640"/>
            <a:ext cx="81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Persona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64440" y="3854520"/>
            <a:ext cx="95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Tarj. de Cré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23880" y="1390680"/>
            <a:ext cx="6096240" cy="4083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546560" y="5580000"/>
            <a:ext cx="397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Nota: Ultima información disponible de tarjetas de crédito enero ’04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90600" y="4041720"/>
            <a:ext cx="74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Adelan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17440" y="4038480"/>
            <a:ext cx="89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Documen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92680" y="4917960"/>
            <a:ext cx="88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Hipotecari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26080" y="40417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Prendari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86120" y="4041720"/>
            <a:ext cx="81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Persona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90000" y="4041720"/>
            <a:ext cx="95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Tarj. de Cré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9640" y="6210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37640" y="365040"/>
            <a:ext cx="59230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CUPERACION DEL CREDI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ccffff"/>
                </a:solidFill>
                <a:latin typeface="Arial"/>
              </a:rPr>
              <a:t>Por línea de préstam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4083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46560" y="5560920"/>
            <a:ext cx="397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Nota: Ultima información disponible de tarjetas de crédito enero ’04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90600" y="4648320"/>
            <a:ext cx="74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Adelan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17440" y="4784760"/>
            <a:ext cx="89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Documen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92680" y="4708440"/>
            <a:ext cx="88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Hipotecari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26080" y="41623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Prendari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86120" y="4327560"/>
            <a:ext cx="81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Persona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02600" y="4327560"/>
            <a:ext cx="95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Tarj. de Cré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09640" y="6210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37640" y="365040"/>
            <a:ext cx="59230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CUPERACION DEL CREDI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ccffff"/>
                </a:solidFill>
                <a:latin typeface="Arial"/>
              </a:rPr>
              <a:t>Por línea de préstam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49200" y="1905120"/>
            <a:ext cx="3138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SITUAC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SOLVENC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37240" y="365040"/>
            <a:ext cx="695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EVOLUCION DEL PATRIMONIO NE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Antes de la crisis, el PN del sistema era de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$/USD16.000 millones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omo resultado de la pesificación asimétrica y las compensaciones que otorgó el estado llegó a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$30.000 millones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(mediados del 200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A partir de ese momento, se observa una continua reducción del mismo como consecuencia de las pérdidas del siste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Hacia fines de 2003, comienza a estabilizarse con un PN del orden de los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$22.000 millones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(menos de USD 8.000 millones), representando un 12% de los activ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39040" y="365040"/>
            <a:ext cx="695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EVOLUCION DEL PATRIMONIO NE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676520" y="1434960"/>
            <a:ext cx="5790960" cy="3997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09640" y="6210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55160" y="365040"/>
            <a:ext cx="71179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EVOLUCION DEL PATRIMONIO NE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ccffff"/>
                </a:solidFill>
                <a:latin typeface="Arial"/>
              </a:rPr>
              <a:t>Participación por segmento sobre total Sistem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809640" y="6210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163520" y="1447920"/>
            <a:ext cx="6816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317240" y="365040"/>
            <a:ext cx="6596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EXPOSICION AL SECTOR PUBLIC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286000" y="1506600"/>
            <a:ext cx="457200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590280" y="365040"/>
            <a:ext cx="208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AMPAR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2743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09640" y="6210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49160" y="365040"/>
            <a:ext cx="588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SUMEN SITUACION ACTU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6840" y="110484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l sistema financiero ha comenzado un proceso de recuperación que se refleja a través 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Recuperación de los depósitos y créditos priv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Mejora de la 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abe destacar, que la recuperación fue diferente según el tipo de entidad (pública, privada nacional o extranjer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Quedan pendientes de resolución una serie de temas, entre ell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ompens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Ampa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636640" y="1905120"/>
            <a:ext cx="398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96360" y="365040"/>
            <a:ext cx="29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NTABILIDA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6840" y="110484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emos ensayado un a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ná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isis de los componentes que dan origen a la rentabilidad, separando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quellos que se originan en el manejo de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y pasiv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de aquellos que son independientes de dicho mane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ambi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 hemos diferenciado los cargos extraordinarios,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fundamentalment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provenientes de las diferencias de cambio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r deudas con el exterior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o pesificadas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los ingresos generados por el activo (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rincipalment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réstam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, hemos diferenciado lo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inanciados por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ondos de tercer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que dan origen al spread por intermediación), de aquello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inanciados por fondos propios l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qui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88960" y="365040"/>
            <a:ext cx="799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NTABILIDAD – ABSORCION DE GAST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609480" y="1371600"/>
          <a:ext cx="7924680" cy="3741840"/>
        </p:xfrm>
        <a:graphic>
          <a:graphicData uri="http://schemas.openxmlformats.org/drawingml/2006/table">
            <a:tbl>
              <a:tblPr/>
              <a:tblGrid>
                <a:gridCol w="2666880"/>
                <a:gridCol w="914400"/>
                <a:gridCol w="914400"/>
                <a:gridCol w="914400"/>
                <a:gridCol w="838440"/>
                <a:gridCol w="838080"/>
                <a:gridCol w="838080"/>
              </a:tblGrid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stema Financie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ncos Privados Nacional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ncos Privados Extranjero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ENTES DE RENTABILID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resos por SPREAD (neto de incobr</a:t>
                      </a:r>
                      <a:r>
                        <a:rPr b="1" lang="es-A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les</a:t>
                      </a: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,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,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,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,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,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resos por Fondos Propio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3,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6,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resos por Comision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,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,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,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,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,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,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resos por posic</a:t>
                      </a:r>
                      <a:r>
                        <a:rPr b="1" lang="es-A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amiento</a:t>
                      </a: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 intermediac</a:t>
                      </a:r>
                      <a:r>
                        <a:rPr b="1" lang="es-A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ón</a:t>
                      </a: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e moneda ext</a:t>
                      </a:r>
                      <a:r>
                        <a:rPr b="1" lang="es-A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jer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0,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9,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TOTAL ABSORBID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97,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51,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109,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101,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100,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35,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808200" y="60181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480" y="6445080"/>
            <a:ext cx="702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Aclaración metodológica: En el ejercicio 2003, se netearon los ajustes realizados por Patagonia Sudameris relativos a la amortización total de amparos activados y la valuación de títulos públicos a valor de mercado (aquellos relacionados con la compensación), con el fin de realizar una comparación homogénea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367280" y="365040"/>
            <a:ext cx="651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EVOLUCION DE LA RENTABILIDA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09640" y="6210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04920" y="1228680"/>
            <a:ext cx="853416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895320" y="365040"/>
            <a:ext cx="74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NTABILIDAD - SISTEMA FINANCIER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1771560" y="1263600"/>
          <a:ext cx="1241640" cy="662040"/>
        </p:xfrm>
        <a:graphic>
          <a:graphicData uri="http://schemas.openxmlformats.org/drawingml/2006/table">
            <a:tbl>
              <a:tblPr/>
              <a:tblGrid>
                <a:gridCol w="65736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PREA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40,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78,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219480" y="1263600"/>
          <a:ext cx="1241280" cy="661680"/>
        </p:xfrm>
        <a:graphic>
          <a:graphicData uri="http://schemas.openxmlformats.org/drawingml/2006/table">
            <a:tbl>
              <a:tblPr/>
              <a:tblGrid>
                <a:gridCol w="65700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ONDOS PROPIO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64,4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0,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667400" y="1263600"/>
          <a:ext cx="1241280" cy="661680"/>
        </p:xfrm>
        <a:graphic>
          <a:graphicData uri="http://schemas.openxmlformats.org/drawingml/2006/table">
            <a:tbl>
              <a:tblPr/>
              <a:tblGrid>
                <a:gridCol w="65700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OMISION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34,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20,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6114960" y="1263600"/>
          <a:ext cx="1368360" cy="661680"/>
        </p:xfrm>
        <a:graphic>
          <a:graphicData uri="http://schemas.openxmlformats.org/drawingml/2006/table">
            <a:tbl>
              <a:tblPr/>
              <a:tblGrid>
                <a:gridCol w="703080"/>
                <a:gridCol w="665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ONEDA EXTRANJER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850,5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8,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949560" y="2924280"/>
          <a:ext cx="1241640" cy="661680"/>
        </p:xfrm>
        <a:graphic>
          <a:graphicData uri="http://schemas.openxmlformats.org/drawingml/2006/table">
            <a:tbl>
              <a:tblPr/>
              <a:tblGrid>
                <a:gridCol w="640080"/>
                <a:gridCol w="6015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GS ADMINISTRAC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7.908,1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7.256,3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1806480" y="2228760"/>
          <a:ext cx="1241640" cy="662040"/>
        </p:xfrm>
        <a:graphic>
          <a:graphicData uri="http://schemas.openxmlformats.org/drawingml/2006/table">
            <a:tbl>
              <a:tblPr/>
              <a:tblGrid>
                <a:gridCol w="631800"/>
                <a:gridCol w="60984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INCOBRABILIDA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.992,0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.297,4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97" name=""/>
          <p:cNvCxnSpPr/>
          <p:nvPr/>
        </p:nvCxnSpPr>
        <p:spPr>
          <a:xfrm flipH="1">
            <a:off x="2426400" y="1925640"/>
            <a:ext cx="2520" cy="303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8" name=""/>
          <p:cNvCxnSpPr/>
          <p:nvPr/>
        </p:nvCxnSpPr>
        <p:spPr>
          <a:xfrm rot="5400000">
            <a:off x="4453200" y="2042280"/>
            <a:ext cx="988200" cy="754560"/>
          </a:xfrm>
          <a:prstGeom prst="bentConnector3">
            <a:avLst>
              <a:gd name="adj1" fmla="val 499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9" name=""/>
          <p:cNvCxnSpPr/>
          <p:nvPr/>
        </p:nvCxnSpPr>
        <p:spPr>
          <a:xfrm rot="5400000">
            <a:off x="5200200" y="1295280"/>
            <a:ext cx="988200" cy="2248560"/>
          </a:xfrm>
          <a:prstGeom prst="bentConnector3">
            <a:avLst>
              <a:gd name="adj1" fmla="val 499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0" name=""/>
          <p:cNvCxnSpPr/>
          <p:nvPr/>
        </p:nvCxnSpPr>
        <p:spPr>
          <a:xfrm flipH="1" rot="16200000">
            <a:off x="3728880" y="2072160"/>
            <a:ext cx="988200" cy="694440"/>
          </a:xfrm>
          <a:prstGeom prst="bentConnector3">
            <a:avLst>
              <a:gd name="adj1" fmla="val 499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1" name=""/>
          <p:cNvCxnSpPr/>
          <p:nvPr/>
        </p:nvCxnSpPr>
        <p:spPr>
          <a:xfrm flipH="1" rot="16200000">
            <a:off x="3639960" y="1983240"/>
            <a:ext cx="337320" cy="1523160"/>
          </a:xfrm>
          <a:prstGeom prst="bentConnector3">
            <a:avLst>
              <a:gd name="adj1" fmla="val -4711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aphicFrame>
        <p:nvGraphicFramePr>
          <p:cNvPr id="202" name=""/>
          <p:cNvGraphicFramePr/>
          <p:nvPr/>
        </p:nvGraphicFramePr>
        <p:xfrm>
          <a:off x="3949560" y="4702320"/>
          <a:ext cx="1241640" cy="661680"/>
        </p:xfrm>
        <a:graphic>
          <a:graphicData uri="http://schemas.openxmlformats.org/drawingml/2006/table">
            <a:tbl>
              <a:tblPr/>
              <a:tblGrid>
                <a:gridCol w="65736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DOS. NO OPERAT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527,6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05,0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962520" y="3809880"/>
          <a:ext cx="1241280" cy="662040"/>
        </p:xfrm>
        <a:graphic>
          <a:graphicData uri="http://schemas.openxmlformats.org/drawingml/2006/table">
            <a:tbl>
              <a:tblPr/>
              <a:tblGrid>
                <a:gridCol w="627120"/>
                <a:gridCol w="61416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DO. OPERATIV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.839,7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55,2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3952800" y="5586480"/>
          <a:ext cx="1241640" cy="662040"/>
        </p:xfrm>
        <a:graphic>
          <a:graphicData uri="http://schemas.openxmlformats.org/drawingml/2006/table">
            <a:tbl>
              <a:tblPr/>
              <a:tblGrid>
                <a:gridCol w="636840"/>
                <a:gridCol w="60480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ESULTADO FIN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.367,3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60,2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4572000" y="3610080"/>
            <a:ext cx="0" cy="191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449568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5362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5520" y="888840"/>
            <a:ext cx="289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Datos expresados en millones de pes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38280" y="12002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7240" y="1336680"/>
            <a:ext cx="84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Fuentes d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Ingres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Operativ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480" y="6445080"/>
            <a:ext cx="702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Aclaración metodológica: En el ejercicio 2003, se netearon los ajustes realizados por Patagonia Sudameris relativos a la amortización total de amparos activados y la valuación de títulos públicos a valor de mercado (aquellos relacionados con la compensación), con el fin de realizar una comparación homogénea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08200" y="60181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9160" y="365040"/>
            <a:ext cx="844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NTABILIDAD - BANCA PRIVADA NACION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"/>
          <p:cNvGraphicFramePr/>
          <p:nvPr/>
        </p:nvGraphicFramePr>
        <p:xfrm>
          <a:off x="1771560" y="1263600"/>
          <a:ext cx="1241640" cy="661680"/>
        </p:xfrm>
        <a:graphic>
          <a:graphicData uri="http://schemas.openxmlformats.org/drawingml/2006/table">
            <a:tbl>
              <a:tblPr/>
              <a:tblGrid>
                <a:gridCol w="65736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PREA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05,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54,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219480" y="1263600"/>
          <a:ext cx="1241280" cy="661680"/>
        </p:xfrm>
        <a:graphic>
          <a:graphicData uri="http://schemas.openxmlformats.org/drawingml/2006/table">
            <a:tbl>
              <a:tblPr/>
              <a:tblGrid>
                <a:gridCol w="65700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ONDOS PROPIO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1,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1,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4667400" y="1263600"/>
          <a:ext cx="1241280" cy="661680"/>
        </p:xfrm>
        <a:graphic>
          <a:graphicData uri="http://schemas.openxmlformats.org/drawingml/2006/table">
            <a:tbl>
              <a:tblPr/>
              <a:tblGrid>
                <a:gridCol w="65700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OMISION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5,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6,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6114960" y="1263600"/>
          <a:ext cx="1368360" cy="661680"/>
        </p:xfrm>
        <a:graphic>
          <a:graphicData uri="http://schemas.openxmlformats.org/drawingml/2006/table">
            <a:tbl>
              <a:tblPr/>
              <a:tblGrid>
                <a:gridCol w="703080"/>
                <a:gridCol w="665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ONEDA EXTRANJER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519,2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,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3949560" y="2924280"/>
          <a:ext cx="1241640" cy="661680"/>
        </p:xfrm>
        <a:graphic>
          <a:graphicData uri="http://schemas.openxmlformats.org/drawingml/2006/table">
            <a:tbl>
              <a:tblPr/>
              <a:tblGrid>
                <a:gridCol w="640080"/>
                <a:gridCol w="6015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GS ADMINISTRAC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.739,0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.199,3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1806480" y="2228760"/>
          <a:ext cx="1241640" cy="662040"/>
        </p:xfrm>
        <a:graphic>
          <a:graphicData uri="http://schemas.openxmlformats.org/drawingml/2006/table">
            <a:tbl>
              <a:tblPr/>
              <a:tblGrid>
                <a:gridCol w="638280"/>
                <a:gridCol w="60336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INCOBRABILIDA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83,4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620,7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21" name=""/>
          <p:cNvCxnSpPr/>
          <p:nvPr/>
        </p:nvCxnSpPr>
        <p:spPr>
          <a:xfrm flipH="1">
            <a:off x="2426400" y="1925640"/>
            <a:ext cx="2520" cy="303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2" name=""/>
          <p:cNvCxnSpPr/>
          <p:nvPr/>
        </p:nvCxnSpPr>
        <p:spPr>
          <a:xfrm rot="5400000">
            <a:off x="4453200" y="2042280"/>
            <a:ext cx="988200" cy="754560"/>
          </a:xfrm>
          <a:prstGeom prst="bentConnector3">
            <a:avLst>
              <a:gd name="adj1" fmla="val 499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3" name=""/>
          <p:cNvCxnSpPr/>
          <p:nvPr/>
        </p:nvCxnSpPr>
        <p:spPr>
          <a:xfrm rot="5400000">
            <a:off x="5200200" y="1295280"/>
            <a:ext cx="988200" cy="2248560"/>
          </a:xfrm>
          <a:prstGeom prst="bentConnector3">
            <a:avLst>
              <a:gd name="adj1" fmla="val 499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4" name=""/>
          <p:cNvCxnSpPr/>
          <p:nvPr/>
        </p:nvCxnSpPr>
        <p:spPr>
          <a:xfrm flipH="1" rot="16200000">
            <a:off x="3728880" y="2072160"/>
            <a:ext cx="988200" cy="694440"/>
          </a:xfrm>
          <a:prstGeom prst="bentConnector3">
            <a:avLst>
              <a:gd name="adj1" fmla="val 499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5" name=""/>
          <p:cNvCxnSpPr/>
          <p:nvPr/>
        </p:nvCxnSpPr>
        <p:spPr>
          <a:xfrm flipH="1" rot="16200000">
            <a:off x="3639960" y="1983240"/>
            <a:ext cx="337320" cy="1523160"/>
          </a:xfrm>
          <a:prstGeom prst="bentConnector3">
            <a:avLst>
              <a:gd name="adj1" fmla="val -4711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aphicFrame>
        <p:nvGraphicFramePr>
          <p:cNvPr id="226" name=""/>
          <p:cNvGraphicFramePr/>
          <p:nvPr/>
        </p:nvGraphicFramePr>
        <p:xfrm>
          <a:off x="3949560" y="4702320"/>
          <a:ext cx="1241640" cy="661680"/>
        </p:xfrm>
        <a:graphic>
          <a:graphicData uri="http://schemas.openxmlformats.org/drawingml/2006/table">
            <a:tbl>
              <a:tblPr/>
              <a:tblGrid>
                <a:gridCol w="65736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DOS. NO OPERAT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1,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7,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962520" y="3809880"/>
          <a:ext cx="1241280" cy="662040"/>
        </p:xfrm>
        <a:graphic>
          <a:graphicData uri="http://schemas.openxmlformats.org/drawingml/2006/table">
            <a:tbl>
              <a:tblPr/>
              <a:tblGrid>
                <a:gridCol w="627120"/>
                <a:gridCol w="61416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DO. OPERATIV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,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7,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952800" y="5586480"/>
          <a:ext cx="1241640" cy="662040"/>
        </p:xfrm>
        <a:graphic>
          <a:graphicData uri="http://schemas.openxmlformats.org/drawingml/2006/table">
            <a:tbl>
              <a:tblPr/>
              <a:tblGrid>
                <a:gridCol w="636840"/>
                <a:gridCol w="60480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ESULTADO FIN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2,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5,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4572000" y="3610080"/>
            <a:ext cx="0" cy="191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449568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0" y="5362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25520" y="888840"/>
            <a:ext cx="289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Datos expresados en millones de pes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38280" y="12002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7240" y="1336680"/>
            <a:ext cx="84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Fuentes d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Ingres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Operativ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480" y="6445080"/>
            <a:ext cx="702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Aclaración metodológica: En el ejercicio 2003, se netearon los ajustes realizados por Patagonia Sudameris relativos a la amortización total de amparos activados y la valuación de títulos públicos a valor de mercado (aquellos relacionados con la compensación), con el fin de realizar una comparación homogénea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08200" y="60181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04760" y="365040"/>
            <a:ext cx="901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NTABILIDAD - BANCA PRIVADA EXTRANJER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771560" y="1263600"/>
          <a:ext cx="1241640" cy="661680"/>
        </p:xfrm>
        <a:graphic>
          <a:graphicData uri="http://schemas.openxmlformats.org/drawingml/2006/table">
            <a:tbl>
              <a:tblPr/>
              <a:tblGrid>
                <a:gridCol w="65736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PREA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89,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04,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3219480" y="1263600"/>
          <a:ext cx="1241280" cy="661680"/>
        </p:xfrm>
        <a:graphic>
          <a:graphicData uri="http://schemas.openxmlformats.org/drawingml/2006/table">
            <a:tbl>
              <a:tblPr/>
              <a:tblGrid>
                <a:gridCol w="65700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ONDOS PROPIO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04,1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,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667400" y="1263600"/>
          <a:ext cx="1241280" cy="661680"/>
        </p:xfrm>
        <a:graphic>
          <a:graphicData uri="http://schemas.openxmlformats.org/drawingml/2006/table">
            <a:tbl>
              <a:tblPr/>
              <a:tblGrid>
                <a:gridCol w="65700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OMISION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40,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49,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6114960" y="1263600"/>
          <a:ext cx="1368360" cy="661680"/>
        </p:xfrm>
        <a:graphic>
          <a:graphicData uri="http://schemas.openxmlformats.org/drawingml/2006/table">
            <a:tbl>
              <a:tblPr/>
              <a:tblGrid>
                <a:gridCol w="703080"/>
                <a:gridCol w="665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ONEDA EXTRANJER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,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3,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949560" y="2924280"/>
          <a:ext cx="1241640" cy="661680"/>
        </p:xfrm>
        <a:graphic>
          <a:graphicData uri="http://schemas.openxmlformats.org/drawingml/2006/table">
            <a:tbl>
              <a:tblPr/>
              <a:tblGrid>
                <a:gridCol w="640080"/>
                <a:gridCol w="6015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GS ADMINISTRAC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.157,9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.655,2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1806480" y="2228760"/>
          <a:ext cx="1241640" cy="662040"/>
        </p:xfrm>
        <a:graphic>
          <a:graphicData uri="http://schemas.openxmlformats.org/drawingml/2006/table">
            <a:tbl>
              <a:tblPr/>
              <a:tblGrid>
                <a:gridCol w="638280"/>
                <a:gridCol w="60336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INCOBRABILIDA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.130,3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.800,2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45" name=""/>
          <p:cNvCxnSpPr/>
          <p:nvPr/>
        </p:nvCxnSpPr>
        <p:spPr>
          <a:xfrm flipH="1">
            <a:off x="2426400" y="1925640"/>
            <a:ext cx="2520" cy="303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6" name=""/>
          <p:cNvCxnSpPr/>
          <p:nvPr/>
        </p:nvCxnSpPr>
        <p:spPr>
          <a:xfrm rot="5400000">
            <a:off x="4453200" y="2042280"/>
            <a:ext cx="988200" cy="754560"/>
          </a:xfrm>
          <a:prstGeom prst="bentConnector3">
            <a:avLst>
              <a:gd name="adj1" fmla="val 499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7" name=""/>
          <p:cNvCxnSpPr/>
          <p:nvPr/>
        </p:nvCxnSpPr>
        <p:spPr>
          <a:xfrm rot="5400000">
            <a:off x="5200200" y="1295280"/>
            <a:ext cx="988200" cy="2248560"/>
          </a:xfrm>
          <a:prstGeom prst="bentConnector3">
            <a:avLst>
              <a:gd name="adj1" fmla="val 499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8" name=""/>
          <p:cNvCxnSpPr/>
          <p:nvPr/>
        </p:nvCxnSpPr>
        <p:spPr>
          <a:xfrm flipH="1" rot="16200000">
            <a:off x="3728880" y="2072160"/>
            <a:ext cx="988200" cy="694440"/>
          </a:xfrm>
          <a:prstGeom prst="bentConnector3">
            <a:avLst>
              <a:gd name="adj1" fmla="val 499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9" name=""/>
          <p:cNvCxnSpPr/>
          <p:nvPr/>
        </p:nvCxnSpPr>
        <p:spPr>
          <a:xfrm flipH="1" rot="16200000">
            <a:off x="3639960" y="1983240"/>
            <a:ext cx="337320" cy="1523160"/>
          </a:xfrm>
          <a:prstGeom prst="bentConnector3">
            <a:avLst>
              <a:gd name="adj1" fmla="val -4711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aphicFrame>
        <p:nvGraphicFramePr>
          <p:cNvPr id="250" name=""/>
          <p:cNvGraphicFramePr/>
          <p:nvPr/>
        </p:nvGraphicFramePr>
        <p:xfrm>
          <a:off x="3949560" y="4702320"/>
          <a:ext cx="1241640" cy="661680"/>
        </p:xfrm>
        <a:graphic>
          <a:graphicData uri="http://schemas.openxmlformats.org/drawingml/2006/table">
            <a:tbl>
              <a:tblPr/>
              <a:tblGrid>
                <a:gridCol w="65736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DOS. NO OPERAT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559,4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55,3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3962520" y="3809880"/>
          <a:ext cx="1241280" cy="662040"/>
        </p:xfrm>
        <a:graphic>
          <a:graphicData uri="http://schemas.openxmlformats.org/drawingml/2006/table">
            <a:tbl>
              <a:tblPr/>
              <a:tblGrid>
                <a:gridCol w="627120"/>
                <a:gridCol w="61416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DO. OPERATIV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.042,4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3952800" y="5586480"/>
          <a:ext cx="1241640" cy="662040"/>
        </p:xfrm>
        <a:graphic>
          <a:graphicData uri="http://schemas.openxmlformats.org/drawingml/2006/table">
            <a:tbl>
              <a:tblPr/>
              <a:tblGrid>
                <a:gridCol w="636840"/>
                <a:gridCol w="60480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ESULTADO FIN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.601,8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33,5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4572000" y="3610080"/>
            <a:ext cx="0" cy="191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449568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5362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25520" y="888840"/>
            <a:ext cx="289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Datos expresados en millones de pes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38280" y="12002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7240" y="1336680"/>
            <a:ext cx="84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Fuentes d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Ingres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Operativ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08200" y="60181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146320" y="365040"/>
            <a:ext cx="4863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NTABILIDAD - SPREA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990720" y="1444680"/>
            <a:ext cx="7162560" cy="37083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808200" y="60181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40400" y="365040"/>
            <a:ext cx="890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GASTOS – INCIDENCIA GASTOS DE PERSON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808200" y="60181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67053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528920" y="365040"/>
            <a:ext cx="619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MOTORES DE LA RENTABILIDA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6840" y="110484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El sp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El costo de los fondos y su relación con el 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La tasa activa (por la porción de la cartera financiada con fondos propio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Los ingresos por comis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Los gas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33800" y="1905120"/>
            <a:ext cx="296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SITUAC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24440" y="365040"/>
            <a:ext cx="475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SITUACION DE LIQUIDEZ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55520" y="1219320"/>
            <a:ext cx="703296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341080" y="365040"/>
            <a:ext cx="4542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DEPOSITOS A LA VIS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(del sector privado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523880" y="1647720"/>
            <a:ext cx="6096240" cy="3610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639440" y="5394240"/>
            <a:ext cx="52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 u="sng">
                <a:solidFill>
                  <a:srgbClr val="ffffff"/>
                </a:solidFill>
                <a:uFillTx/>
                <a:latin typeface="Arial"/>
              </a:rPr>
              <a:t>Nota</a:t>
            </a: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: Depósitos a la vista incluye cuentas corrientes y cajas de ahorro del sector privado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27800" y="365040"/>
            <a:ext cx="716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EL DRIVER DE LA LIQUIDEZ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Importante recuperación de los depósit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600200" y="1635120"/>
            <a:ext cx="5943600" cy="4308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10360" y="6210360"/>
            <a:ext cx="26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SISCEN -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3880" y="1349280"/>
            <a:ext cx="6096240" cy="4168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10320" y="365040"/>
            <a:ext cx="860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EVOLUCION DE DEPOSITOS POR SEGMEN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08960" y="3905280"/>
            <a:ext cx="10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Financier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73000" y="3902040"/>
            <a:ext cx="92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Ban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Públ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23560" y="2457360"/>
            <a:ext cx="11210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Ban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Naciona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00120" y="4343400"/>
            <a:ext cx="116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Ban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Extranjer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9640" y="6210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37640" y="365040"/>
            <a:ext cx="592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CUPERACION DEL CREDI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0360" y="6210360"/>
            <a:ext cx="26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SISCEN -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339920" y="1289160"/>
            <a:ext cx="646416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37640" y="365040"/>
            <a:ext cx="592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CUPERACION DEL CREDI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1349280"/>
            <a:ext cx="6400800" cy="4023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09640" y="6210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12:54:28Z</dcterms:created>
  <dc:creator>pochatp</dc:creator>
  <dc:description/>
  <dc:language>en-US</dc:language>
  <cp:lastModifiedBy>C.P.C.E.C.A.B.A.</cp:lastModifiedBy>
  <dcterms:modified xsi:type="dcterms:W3CDTF">2004-09-24T15:36:02Z</dcterms:modified>
  <cp:revision>125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6029405</vt:r8>
  </property>
  <property fmtid="{D5CDD505-2E9C-101B-9397-08002B2CF9AE}" pid="3" name="_AuthorEmail">
    <vt:lpwstr>PochatP@Comafi.com.ar</vt:lpwstr>
  </property>
  <property fmtid="{D5CDD505-2E9C-101B-9397-08002B2CF9AE}" pid="4" name="_AuthorEmailDisplayName">
    <vt:lpwstr>Pablo Pochat</vt:lpwstr>
  </property>
  <property fmtid="{D5CDD505-2E9C-101B-9397-08002B2CF9AE}" pid="5" name="_EmailSubject">
    <vt:lpwstr/>
  </property>
</Properties>
</file>