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379-9C97-44FB-91DA-3F93C772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D07-6CE2-4231-8F3B-E12257B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B33-9DAB-4670-B35E-5651C80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10B-55AC-4E1E-AB09-2874EBDB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BCF-1D99-4068-A31A-1779FF12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E22-B84B-460A-84A1-2EC8B32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789-B5AF-4333-928E-E594B42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AA8-CFA9-424B-AC3A-D1161A5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2B2-EEA4-4234-AD94-85C4C2F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1A7-8551-4136-AAD4-9D4485CF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3D1-0966-409B-9BB3-F8930CFE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089-79EC-4F71-82CD-96131A18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A2D-9898-4048-BC56-87A0C0EE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5120" y="3803400"/>
            <a:ext cx="20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ffcc00"/>
                </a:solidFill>
                <a:uFillTx/>
                <a:latin typeface="Arial"/>
              </a:rPr>
              <a:t>Le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76600" y="5389200"/>
            <a:ext cx="73573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cc00"/>
                </a:solidFill>
                <a:uFillTx/>
                <a:latin typeface="Arial"/>
              </a:rPr>
              <a:t>Congreso Nacional e Internacional de Finanzas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Consejo Profesional de Ciencias Econó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De la Ciudad Autónoma de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1 a 3 de Setiembre d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556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1588680"/>
            <a:ext cx="822960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CANON / PLA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El monto y la periodicidad se determinan convencionalmente. No hay plazo mínimo ni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040" y="4103640"/>
            <a:ext cx="82296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USO Y GOCE DEL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62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tomador puede arrendar el bien, salvo pacto en contr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62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Permite el traslad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2600" y="12574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BIEN OBJETO DEL CON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1360" y="2178000"/>
            <a:ext cx="807696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comprado a persona indicada por el t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comprado por el dador según especificaciones del tom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Sustituyendo al tomador en el contrato de compra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de propiedad d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adquirido por el dador al tomador por el mismo contrato (sale &amp; back) o con anteri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OPCIO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720" y="2616120"/>
            <a:ext cx="8229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precio debe fijarse en el contrato o ser determinable según procedimientos o pautas pac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La Opción puede ejecutarse cuando se hayan pagado ¾ partes del canon total estipulado, o antes si así lo convinieran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dador es propietario del bien hasta que el locatario ejerce la opción de comp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tomador puede usar el bien pero no venderlo ni grav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RESPONSABILIDADES Y GARANT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35000" y="2635200"/>
            <a:ext cx="77914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dador puede liberarse inconvencionalmente de la responsabilidad de entregar y de las garantías de evicción y vicios redhibitorios (casos a, b y c anteri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Responde cuando sea el fabricante o </a:t>
            </a:r>
            <a:r>
              <a:rPr b="0" i="1" lang="es-AR" sz="2800" spc="-1" strike="noStrike">
                <a:solidFill>
                  <a:srgbClr val="0033cc"/>
                </a:solidFill>
                <a:latin typeface="Arial"/>
              </a:rPr>
              <a:t>importador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, vendedor o constructor, o en caso d)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77724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Dador adquiere el bien al Provee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Dador lo da en leasing al Tomador (Usua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Se establece el canon (la cuota) con periodicidad a convenir (habitualmente mensu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El dador calcula el canon teniendo en cuen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Tasa de retorno 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Valor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Val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mpacto impositivo/otros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sto de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672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OMO SE INSTRUMEN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640" y="1714680"/>
            <a:ext cx="849636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l Usuario contacta al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cuerdan equipo, precio,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roveedor incluye oferta de leasing/usuario contacta a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probación crediticia / resid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Usuario firma contrato de leasing con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roveedor entrega equipamiento = Comienzo del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28840" y="1743120"/>
          <a:ext cx="2057400" cy="69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74312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638680" y="3335400"/>
          <a:ext cx="2057400" cy="69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3540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71600" y="5160960"/>
          <a:ext cx="2057400" cy="695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6096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419200" y="2647800"/>
            <a:ext cx="38160" cy="230508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924200"/>
            <a:ext cx="2667240" cy="112392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62520" y="4343040"/>
            <a:ext cx="2514600" cy="114300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mpravent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trato de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105520"/>
            <a:ext cx="4191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cuerdo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(especificaciones, precio, entre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8200" y="503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True 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easing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Sale &amp; Leas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ross Border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9960" y="36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3800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33cc"/>
                </a:solidFill>
                <a:uFillTx/>
                <a:latin typeface="Arial"/>
              </a:rPr>
              <a:t>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Opción de compra “irrisoria”, obligatoria por precio v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s dos partes están presuponiendo una compraventa al f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33cc"/>
                </a:solidFill>
                <a:uFillTx/>
                <a:latin typeface="Arial"/>
              </a:rPr>
              <a:t>De residuales</a:t>
            </a: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 (leasing verdadero o “true leas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 opción de compra es, económicamente vá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 devolución es una posibilidad ci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Producto muy potente para las P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6880" y="3729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56296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Arial"/>
              </a:rPr>
              <a:t>True Lease</a:t>
            </a: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s el auténtico leasing: el cliente paga cánones mensuales por el uso del bien. Es la mejor alternativa para la adquisición de bienes de capital de alta tecnología, puesto que el Dador </a:t>
            </a: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</a:rPr>
              <a:t>toma Riesgo Residual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33cc"/>
                </a:solidFill>
                <a:latin typeface="Arial"/>
              </a:rPr>
              <a:t>Opciones al finalizar el plazo contractual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Devolución del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xtensión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dquisición del bien</a:t>
            </a:r>
            <a:r>
              <a:rPr b="0" lang="es-ES_tradnl" sz="1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) FMV (Fair Marke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b) KPO (Known Purchase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6676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Es el instrumento más moderno y versátil para financiar la incorporación de equipamiento, pagando un canon periódico por el uso de un bien, con una opción de compra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Es la herramienta de financiación a largo plazo más poderosa y utilizada a nivel mundial para acompañar inversiones en Bienes de Ca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4460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8344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Leasing Financiero</a:t>
            </a: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Se ofrece el uso del bien contra el pago de un canon mensual durante la vigencia del contrato, y una opción de compra mínima ya defin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Sale &amp; Leas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ross Border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41292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 DE BIEN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gún Ley de leas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Cosas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In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Bienes Inmateriales (marcas, patentes, modelos y diseños indust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u utilización es más frecuente en maquinarias agrícolas, tornos, centros de mecanizado, servidores, PC´s, grúas, autolevadores, rodados, maquinarias específic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quipos Nacionales o Im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0488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VENTAJAS USU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19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inancia adecuada y fácilmente la incorporación de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s cuotas se adaptan a su cash-flow / presupuesto de 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uede protegerse de obsoles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cilita el acceso a soluciones integrales y eficientes en cuanto a relación precio/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 administración del activo es un servicio del d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Obtiene ventajas impositivas y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Garantías simples/operatoria ágil/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43040" y="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VENTAJAS PROVEE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971640"/>
            <a:ext cx="861048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Cobra al contado / Centraliza el circuito operativo de  ventas en un solo cliente (el D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Incrementa y maximiza sus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Genera fidelid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Mantiene relación permanente, a largo plazo con el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Vende upgrades con mayor facilidad / Servici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 diferencia claramente de su competencia, por mayor Valor Agregado de su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6760" y="266760"/>
            <a:ext cx="84009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ACUERDOS CON PROVEEDORES </a:t>
            </a:r>
            <a:br>
              <a:rPr sz="3200"/>
            </a:b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(VENDOR PROGR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381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Apuntan a que el dador tenga un profundo conocimiento de los produ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Descuentos/condiciones especiales para el d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ermite simplificar la operatoria administrativa del tom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El dador realiza un monitoreo de l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ersigue el reemplazo o upgrade de l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uede incluir un pool de garantía del riesgo crediticio y/o de resid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COMO SON LAS COMPAÑÍAS INDEPENDIENTES DE LEA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54296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ntidades autónomas, altamente especializadas y mono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No toman fondos del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s accionistas son compañías internacionales y/o 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n operatoria son similares a una empres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on la “división financiera” de los proveedores de equip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nálisis crediticio “a mitad de camino” entre banco y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Toman 2 riesgos: el crediticio y el de res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Funciones específicas no bancar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cuerdos con proveedores beneficioso para amb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l negocio de res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6280" y="4748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VENTAJAS IMPOSITIVAS Y CON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Tratamiento beneficioso en relación al IVA, Impuesto a las Ganancias e Impuesto a la Ganancia Mínima Pres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inanciación “Off Balance Shee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No se afectan los índices de endeud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No se afectan los indicadores de Retornos sobre Activos y sobra Capital (ROA y RO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EASING VS. OTRAS ALTERNATI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0360" y="1052280"/>
            <a:ext cx="837252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-350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ermite financiar el 100% de l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no se requiere ningún tipo de antic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Otras financiaciones exigen un desembols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640" indent="-350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vita la obsolescenci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el cliente puede devolver el bien al final del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otras financiaciones el cliente es propietario del bien,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corriendo el riesgo de quedarse con equipos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tecnológicament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" y="5764320"/>
            <a:ext cx="7871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s una financiación “Off 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640" y="531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LEASING VS. OTR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8680" y="1990800"/>
            <a:ext cx="823284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ermite una aceleración en la descarga de costos impositivos a los fines del Impuesto a las Ganancias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el canon es 100% de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la adquisición se deduce la amortización del  bien según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su vida ú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0960" y="241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ONCLUS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1055520"/>
            <a:ext cx="838188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s la herramienta ideal y más moderna para financiar inversiones en bienes de ca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 obtiene financiación a largo plazo por el 100% del valor, acompañando el uso y vida útil de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l análisis de riesgo es flexible y re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u operatoria es simple y ágil. Regido por la Ley de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 garantía natural es el propi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ermite mantenerse actualizado tecnológicamente, creando un vínculo a largo plazo con los proveedores de equ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Obtiene ventajas impositivas y co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ESTADISTICAS MUNDIALES</a:t>
            </a:r>
            <a:r>
              <a:rPr b="0" lang="es-AR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6280" y="14094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Durante 2002, se financiaron a través de Leasing inversiones en equipamiento por  U$S 498 Mil Millones a nivel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n EE.UU., el 32% de todas las inversiones en equipamiento se concretaron a través de Leasing, con contratos por US$ 260 Mil Mill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80% de las empresas estadounidenses adquiere parte o la totalidad de sus equipos vía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Japón (US$ 69MM), Alemania (US$ 32MM), Reino Unido (US$ 19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rasil (US$ 5.25MM), México (US$ 3.10MM), Chile (US$ 72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33cc"/>
                </a:solidFill>
                <a:latin typeface="Arial"/>
              </a:rPr>
              <a:t>Fuente: E.L.A. – Equipment Leas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90400" y="3723840"/>
            <a:ext cx="40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cc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3880" y="4593600"/>
            <a:ext cx="295272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ccff"/>
                </a:solidFill>
                <a:latin typeface="Arial"/>
              </a:rPr>
              <a:t>Sergio E. Calder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99cc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48200" y="6193800"/>
            <a:ext cx="32958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v. Leandro N. Alem  712, pis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Tel.: 4316-2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ax: 4316-28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62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POR QUÉ ES EL INSTRUMENTO PARA EQUIPAR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otorga plazos de pago considerando la vida útil del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se realiza un análisis crediticio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no hay anticipos ni desa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tiene ventajas impositivas y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financia adecuadamente la incorporación de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las cuotas se adaptan a cada cash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EVOLUCIÓN DEL LEASING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1619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Déc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50/7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ancos públicos – Ba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Instituciones financieras internacionales de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ayuda al desarrollo (IFC, FMO, DEG)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Incipiente mercado de capitales impulsado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or bancos privados, compañías de leasing,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organismos de financiación de exportaciones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(HERMES, COFACE, EXIMBANK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Fines 90: Desarrollo creciente, difusión más general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EVOLUCIÓN DE UN MERCADO DE 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28800" y="1752480"/>
          <a:ext cx="2076480" cy="70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09720" y="2895480"/>
          <a:ext cx="2076480" cy="70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9720" y="2895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09720" y="4038480"/>
          <a:ext cx="2076480" cy="704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38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629240" y="180972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71560" y="5238720"/>
          <a:ext cx="2076480" cy="704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1560" y="523872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91040" y="1771560"/>
          <a:ext cx="2076480" cy="7048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91040" y="177156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952880" y="2971800"/>
          <a:ext cx="3657600" cy="4953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2971800"/>
                    <a:ext cx="365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933800" y="3924360"/>
          <a:ext cx="3543480" cy="3999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33800" y="3924360"/>
                    <a:ext cx="3543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71960" y="5334120"/>
          <a:ext cx="2762280" cy="4381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71960" y="5334120"/>
                    <a:ext cx="276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921200" y="4444920"/>
          <a:ext cx="3543480" cy="3999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1200" y="4444920"/>
                    <a:ext cx="3543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800440" y="2438280"/>
            <a:ext cx="0" cy="4572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00440" y="3562200"/>
            <a:ext cx="0" cy="438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00440" y="4686480"/>
            <a:ext cx="0" cy="552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133720"/>
            <a:ext cx="1028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5280" y="3219480"/>
            <a:ext cx="1028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4360" y="4114800"/>
            <a:ext cx="952560" cy="2095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43440" y="4381560"/>
            <a:ext cx="876240" cy="190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5543640"/>
            <a:ext cx="1028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331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MERCADO DE LEASING -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693800"/>
          <a:ext cx="8580240" cy="4965840"/>
        </p:xfrm>
        <a:graphic>
          <a:graphicData uri="http://schemas.openxmlformats.org/drawingml/2006/table">
            <a:tbl>
              <a:tblPr/>
              <a:tblGrid>
                <a:gridCol w="2163600"/>
                <a:gridCol w="2141640"/>
                <a:gridCol w="2135160"/>
                <a:gridCol w="2139840"/>
              </a:tblGrid>
              <a:tr h="13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° DE CONT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O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48.8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3.9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70.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8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9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uente: A.L.A. - Asociación de Leasing de Argen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7680" y="2557440"/>
            <a:ext cx="847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Regido por Ley 25.248 y Decreto 1.038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440" y="3529080"/>
            <a:ext cx="79502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dador conviene transferir al tomador la tenencia de un cierto y determinado bien para su uso y goce, contra el pago de un canon y le confiere una opción de comp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440" y="5529240"/>
            <a:ext cx="720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No diferencia distintos tipos de le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2600" y="40788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3009600"/>
            <a:ext cx="84582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52520" indent="-54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Cosas muebles o inmuebles, marcas,  patentes, modelos industriales y soft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52520" indent="-54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Pueden incluirse los servicios necesarios para el diseño, la instalación, puesta en marcha y puesta a dis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440" y="1832040"/>
            <a:ext cx="760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99"/>
              </a:spcBef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D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Cualquier sujeto capaz, sin lím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19:42:24Z</dcterms:created>
  <dc:creator>dmorreale</dc:creator>
  <dc:description/>
  <dc:language>en-US</dc:language>
  <cp:lastModifiedBy>C.P.C.E.C.A.B.A.</cp:lastModifiedBy>
  <cp:lastPrinted>2004-07-02T16:39:10Z</cp:lastPrinted>
  <dcterms:modified xsi:type="dcterms:W3CDTF">2004-09-24T15:31:49Z</dcterms:modified>
  <cp:revision>587</cp:revision>
  <dc:subject/>
  <dc:title>CIT:  The Synergy of “Old” and “New” Economy Franchises</dc:title>
</cp:coreProperties>
</file>