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C2A-F57E-40D9-AAB7-D3D7E752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E297-9B4B-48C9-8537-73DF3591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A07-279A-4830-A9F4-463E1BDE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9E6-489C-4A9B-9014-8D400E89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7334-AC56-49EC-B518-9D11D8E0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2E0-82F1-45E8-B1C5-FCA5ABFD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C10-7E61-4560-9A45-C05C1BA9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01DB-C8E3-4164-A641-0474B0BD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B4D6-86E8-4FBB-B67B-1D1956B7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24E-0CCF-4C94-A947-740D47D3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0880-22A8-48D7-ACC5-A166B543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76C6-1AA0-463B-AACE-A7C9F342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E067-CDB6-470E-8B0E-5536F4073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7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8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9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0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slideLayout" Target="../slideLayouts/slideLayout3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55120" y="3803400"/>
            <a:ext cx="209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ffcc00"/>
                </a:solidFill>
                <a:uFillTx/>
                <a:latin typeface="Arial"/>
              </a:rPr>
              <a:t>Lea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76600" y="5389200"/>
            <a:ext cx="735732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 u="sng">
                <a:solidFill>
                  <a:srgbClr val="ffcc00"/>
                </a:solidFill>
                <a:uFillTx/>
                <a:latin typeface="Arial"/>
              </a:rPr>
              <a:t>Congreso Nacional e Internacional de Finanzas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c00"/>
                </a:solidFill>
                <a:latin typeface="Arial"/>
              </a:rPr>
              <a:t>Consejo Profesional de Ciencias Econó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c00"/>
                </a:solidFill>
                <a:latin typeface="Arial"/>
              </a:rPr>
              <a:t>De la Ciudad Autónoma de Buenos 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c00"/>
                </a:solidFill>
                <a:latin typeface="Arial"/>
              </a:rPr>
              <a:t>1 a 3 de Setiembre de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5560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0000"/>
                </a:solidFill>
                <a:latin typeface="Arial"/>
              </a:rPr>
              <a:t>ASPECTOS LEG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1588680"/>
            <a:ext cx="8229600" cy="23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Arial"/>
              </a:rPr>
              <a:t>CANON / PLAZ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33cc"/>
                </a:solidFill>
                <a:latin typeface="Arial"/>
              </a:rPr>
              <a:t>El monto y la periodicidad se determinan convencionalmente. No hay plazo mínimo ni máxi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9040" y="4103640"/>
            <a:ext cx="822960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c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Arial"/>
              </a:rPr>
              <a:t>USO Y GOCE DEL B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6210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El tomador puede arrendar el bien, salvo pacto en contr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6210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Permite el traslado del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0000"/>
                </a:solidFill>
                <a:latin typeface="Arial"/>
              </a:rPr>
              <a:t>ASPECTOS LEG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52600" y="12574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Arial"/>
              </a:rPr>
              <a:t>BIEN OBJETO DEL CON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1360" y="2178000"/>
            <a:ext cx="807696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Bien comprado a persona indicada por el to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2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Bien comprado por el dador según especificaciones del tom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2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Sustituyendo al tomador en el contrato de comprav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2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Bien de propiedad del d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2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Bien adquirido por el dador al tomador por el mismo contrato (sale &amp; back) o con anterior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c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Arial"/>
              </a:rPr>
              <a:t>OPCION DE COMP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0000"/>
                </a:solidFill>
                <a:latin typeface="Arial"/>
              </a:rPr>
              <a:t>ASPECTOS LEG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720" y="2616120"/>
            <a:ext cx="82296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El precio debe fijarse en el contrato o ser determinable según procedimientos o pautas pac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La Opción puede ejecutarse cuando se hayan pagado ¾ partes del canon total estipulado, o antes si así lo convinieran l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El dador es propietario del bien hasta que el locatario ejerce la opción de comp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El tomador puede usar el bien pero no venderlo ni grav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0000"/>
                </a:solidFill>
                <a:latin typeface="Arial"/>
              </a:rPr>
              <a:t>ASPECTOS LEG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Arial"/>
              </a:rPr>
              <a:t>RESPONSABILIDADES Y GARANT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35000" y="2635200"/>
            <a:ext cx="779148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El dador puede liberarse inconvencionalmente de la responsabilidad de entregar y de las garantías de evicción y vicios redhibitorios (casos a, b y c anterior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Responde cuando sea el fabricante o </a:t>
            </a:r>
            <a:r>
              <a:rPr b="0" i="1" lang="es-AR" sz="2800" spc="-1" strike="noStrike">
                <a:solidFill>
                  <a:srgbClr val="0033cc"/>
                </a:solidFill>
                <a:latin typeface="Arial"/>
              </a:rPr>
              <a:t>importador</a:t>
            </a: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, vendedor o constructor, o en caso d) ant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CARACTERÍS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752480"/>
            <a:ext cx="777240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Dador adquiere el bien al Provee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Dador lo da en leasing al Tomador (Usua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Se establece el canon (la cuota) con periodicidad a convenir (habitualmente mensu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El dador calcula el canon teniendo en cuent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Tasa de retorno dese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Valor del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Valor Res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mpacto impositivo/otros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sto de fo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66720" y="399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COMO SE INSTRUMEN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7640" y="1714680"/>
            <a:ext cx="849636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El Usuario contacta al prove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Acuerdan equipo, precio, ent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roveedor incluye oferta de leasing/usuario contacta al d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Aprobación crediticia / resid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Usuario firma contrato de leasing con d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roveedor entrega equipamiento = Comienzo del l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428840" y="1743120"/>
          <a:ext cx="2057400" cy="69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1743120"/>
                    <a:ext cx="2057400" cy="6951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638680" y="3335400"/>
          <a:ext cx="2057400" cy="695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35400"/>
                    <a:ext cx="2057400" cy="6951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371600" y="5160960"/>
          <a:ext cx="2057400" cy="695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5160960"/>
                    <a:ext cx="2057400" cy="6951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 flipH="1">
            <a:off x="2419200" y="2647800"/>
            <a:ext cx="38160" cy="2305080"/>
          </a:xfrm>
          <a:prstGeom prst="line">
            <a:avLst/>
          </a:prstGeom>
          <a:ln w="1260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1924200"/>
            <a:ext cx="2667240" cy="1123920"/>
          </a:xfrm>
          <a:prstGeom prst="line">
            <a:avLst/>
          </a:prstGeom>
          <a:ln w="1260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962520" y="4343040"/>
            <a:ext cx="2514600" cy="1143000"/>
          </a:xfrm>
          <a:prstGeom prst="line">
            <a:avLst/>
          </a:prstGeom>
          <a:ln w="1260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2057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mpravent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del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29718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trato de L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5105520"/>
            <a:ext cx="4191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Acuerdo 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(especificaciones, precio, entreg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8200" y="503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TIPOS DE LEASING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038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23880" indent="-7999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True 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38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3880" indent="-7999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Leasing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38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3880" indent="-7999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Sale &amp; Lease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38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3880" indent="-7999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Cross Border Le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38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9960" y="36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TIPOS DE LEA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63800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 u="sng">
                <a:solidFill>
                  <a:srgbClr val="0033cc"/>
                </a:solidFill>
                <a:uFillTx/>
                <a:latin typeface="Arial"/>
              </a:rPr>
              <a:t>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Opción de compra “irrisoria”, obligatoria por precio v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Las dos partes están presuponiendo una compraventa al fi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 u="sng">
                <a:solidFill>
                  <a:srgbClr val="0033cc"/>
                </a:solidFill>
                <a:uFillTx/>
                <a:latin typeface="Arial"/>
              </a:rPr>
              <a:t>De residuales</a:t>
            </a: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 (leasing verdadero o “true lease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La opción de compra es, económicamente vál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La devolución es una posibilidad cier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Producto muy potente para las PY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96880" y="37296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TIPOS DE LEASING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695600"/>
            <a:ext cx="856296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33cc"/>
                </a:solidFill>
                <a:uFillTx/>
                <a:latin typeface="Arial"/>
              </a:rPr>
              <a:t>True Lease</a:t>
            </a:r>
            <a:r>
              <a:rPr b="0" lang="es-ES_tradnl" sz="1600" spc="-1" strike="noStrike">
                <a:solidFill>
                  <a:srgbClr val="0033cc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Es el auténtico leasing: el cliente paga cánones mensuales por el uso del bien. Es la mejor alternativa para la adquisición de bienes de capital de alta tecnología, puesto que el Dador </a:t>
            </a:r>
            <a:r>
              <a:rPr b="0" lang="es-ES_tradnl" sz="2400" spc="-1" strike="noStrike" u="sng">
                <a:solidFill>
                  <a:srgbClr val="0033cc"/>
                </a:solidFill>
                <a:uFillTx/>
                <a:latin typeface="Arial"/>
              </a:rPr>
              <a:t>toma Riesgo Residual</a:t>
            </a: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0033cc"/>
                </a:solidFill>
                <a:latin typeface="Arial"/>
              </a:rPr>
              <a:t>Opciones al finalizar el plazo contractual</a:t>
            </a: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Devolución del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Extensión del con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Adquisición del bien</a:t>
            </a:r>
            <a:r>
              <a:rPr b="0" lang="es-ES_tradnl" sz="1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a) FMV (Fair Market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                                  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b) KPO (Known Purchase Or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266760"/>
            <a:ext cx="7772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4880" y="161928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Es el instrumento más moderno y versátil para financiar la incorporación de equipamiento, pagando un canon periódico por el uso de un bien, con una opción de compra f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Es la herramienta de financiación a largo plazo más poderosa y utilizada a nivel mundial para acompañar inversiones en Bienes de Cap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0040" y="44604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TIPOS DE LEASING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95600"/>
            <a:ext cx="834408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Leasing Financiero</a:t>
            </a: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: </a:t>
            </a: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Se ofrece el uso del bien contra el pago de un canon mensual durante la vigencia del contrato, y una opción de compra mínima ya defini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Sale &amp; Lease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Cross Border Le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41292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TIPO DE BIENE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Según Ley de leas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Cosas Mue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Inmue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Bienes Inmateriales (marcas, patentes, modelos y diseños industri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Su utilización es más frecuente en maquinarias agrícolas, tornos, centros de mecanizado, servidores, PC´s, grúas, autolevadores, rodados, maquinarias específic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Equipos Nacionales o Impor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04880" y="2858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VENTAJAS USU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19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Financia adecuada y fácilmente la incorporación de equip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Las cuotas se adaptan a su cash-flow / presupuesto de ga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uede protegerse de obsolesc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Facilita el acceso a soluciones integrales y eficientes en cuanto a relación precio/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La administración del activo es un servicio del dad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Obtiene ventajas impositivas y con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Garantías simples/operatoria ágil/flex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43040" y="0"/>
            <a:ext cx="7772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VENTAJAS PROVEE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5840" y="971640"/>
            <a:ext cx="8610480" cy="56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Cobra al contado / Centraliza el circuito operativo de  ventas en un solo cliente (el Da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Incrementa y maximiza sus 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Genera fidelidad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Mantiene relación permanente, a largo plazo con el usu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Vende upgrades con mayor facilidad / Servicio contí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Se diferencia claramente de su competencia, por mayor Valor Agregado de su of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66760" y="266760"/>
            <a:ext cx="84009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Arial"/>
              </a:rPr>
              <a:t>ACUERDOS CON PROVEEDORES </a:t>
            </a:r>
            <a:br>
              <a:rPr sz="3200"/>
            </a:br>
            <a:r>
              <a:rPr b="1" i="1" lang="es-ES_tradnl" sz="3200" spc="-1" strike="noStrike">
                <a:solidFill>
                  <a:srgbClr val="ff0000"/>
                </a:solidFill>
                <a:latin typeface="Arial"/>
              </a:rPr>
              <a:t>(VENDOR PROGRA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381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</a:rPr>
              <a:t>Apuntan a que el dador tenga un profundo conocimiento de los produ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</a:rPr>
              <a:t>Descuentos/condiciones especiales para el d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</a:rPr>
              <a:t>Permite simplificar la operatoria administrativa del tom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</a:rPr>
              <a:t>El dador realiza un monitoreo de los equ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</a:rPr>
              <a:t>Persigue el reemplazo o upgrade de los equ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</a:rPr>
              <a:t>Puede incluir un pool de garantía del riesgo crediticio y/o de residu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8600" y="2286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¿COMO SON LAS COMPAÑÍAS INDEPENDIENTES DE LEAS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542960"/>
            <a:ext cx="7924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ntidades autónomas, altamente especializadas y mono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No toman fondos del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us accionistas son compañías internacionales y/o ban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n operatoria son similares a una empresa 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on la “división financiera” de los proveedores de equip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Análisis crediticio “a mitad de camino” entre banco y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Toman 2 riesgos: el crediticio y el de resid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Funciones específicas no bancar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Acuerdos con proveedores beneficioso para ambas p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l negocio de resid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76280" y="47484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VENTAJAS IMPOSITIVAS Y CONT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Tratamiento beneficioso en relación al IVA, Impuesto a las Ganancias e Impuesto a la Ganancia Mínima Presu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Financiación “Off Balance Shee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No se afectan los índices de endeud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No se afectan los indicadores de Retornos sobre Activos y sobra Capital (ROA y RO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1588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LEASING VS. OTRAS ALTERNATI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0360" y="1052280"/>
            <a:ext cx="8372520" cy="44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0640" indent="-3506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Permite financiar el 100% de la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000" indent="-1767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En el leasing no se requiere ningún tipo de antic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000" indent="-1767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Otras financiaciones exigen un desembolso in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000" indent="-1767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640" indent="-3506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Evita la obsolescencia tecn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000" indent="-1767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En el leasing el cliente puede devolver el bien al final del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000" indent="-1767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En otras financiaciones el cliente es propietario del bien,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corriendo el riesgo de quedarse con equipos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tecnológicamente obsol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" y="5764320"/>
            <a:ext cx="78710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Es una financiación “Off Balance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8640" y="531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0000"/>
                </a:solidFill>
                <a:latin typeface="Arial"/>
              </a:rPr>
              <a:t>LEASING VS. OTR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18680" y="1990800"/>
            <a:ext cx="823284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Permite una aceleración en la descarga de costos impositivos a los fines del Impuesto a las Ganancias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En el leasing el canon es 100% deduc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En la adquisición se deduce la amortización del  bien según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su vida ú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80960" y="24120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CONCLUS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2720" y="1055520"/>
            <a:ext cx="838188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Es la herramienta ideal y más moderna para financiar inversiones en bienes de capit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Se obtiene financiación a largo plazo por el 100% del valor, acompañando el uso y vida útil del equ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El análisis de riesgo es flexible y rea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Su operatoria es simple y ágil. Regido por la Ley de L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La garantía natural es el propio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ermite mantenerse actualizado tecnológicamente, creando un vínculo a largo plazo con los proveedores de equi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Obtiene ventajas impositivas y con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0000"/>
                </a:solidFill>
                <a:latin typeface="Arial"/>
              </a:rPr>
              <a:t>ESTADISTICAS MUNDIALES</a:t>
            </a:r>
            <a:r>
              <a:rPr b="0" lang="es-AR" sz="44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76280" y="140940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Durante 2002, se financiaron a través de Leasing inversiones en equipamiento por  U$S 498 Mil Millones a nivel mund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En EE.UU., el 32% de todas las inversiones en equipamiento se concretaron a través de Leasing, con contratos por US$ 260 Mil Millon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80% de las empresas estadounidenses adquiere parte o la totalidad de sus equipos vía L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Japón (US$ 69MM), Alemania (US$ 32MM), Reino Unido (US$ 19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Brasil (US$ 5.25MM), México (US$ 3.10MM), Chile (US$ 72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600" spc="-1" strike="noStrike">
                <a:solidFill>
                  <a:srgbClr val="0033cc"/>
                </a:solidFill>
                <a:latin typeface="Arial"/>
              </a:rPr>
              <a:t>Fuente: E.L.A. – Equipment Leas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90400" y="3723840"/>
            <a:ext cx="40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cc00"/>
                </a:solidFill>
                <a:latin typeface="Arial"/>
              </a:rPr>
              <a:t>Muchas 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3880" y="4593600"/>
            <a:ext cx="2952720" cy="8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99ccff"/>
                </a:solidFill>
                <a:latin typeface="Arial"/>
              </a:rPr>
              <a:t>Sergio E. Calder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99ccff"/>
                </a:solidFill>
                <a:latin typeface="Arial"/>
              </a:rPr>
              <a:t>Gerente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48200" y="6193800"/>
            <a:ext cx="329580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65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Av. Leandro N. Alem  712, piso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Tel.: 4316-2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Fax: 4316-28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3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762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¿POR QUÉ ES EL INSTRUMENTO PARA EQUIPAR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orque otorga plazos de pago considerando la vida útil del equ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orque se realiza un análisis crediticio 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orque no hay anticipos ni desag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orque tiene ventajas impositivas y con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orque financia adecuadamente la incorporación de equip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orque las cuotas se adaptan a cada cash-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0000"/>
                </a:solidFill>
                <a:latin typeface="Arial"/>
              </a:rPr>
              <a:t>EVOLUCIÓN DEL LEASING EN ARGEN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16192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Déc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50/70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Bancos públicos – Ban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80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Instituciones financieras internacionales de 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ayuda al desarrollo (IFC, FMO, DEG) 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90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Incipiente mercado de capitales impulsado 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por bancos privados, compañías de leasing, 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organismos de financiación de exportaciones 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(HERMES, COFACE, EXIMBANK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Fines 90: Desarrollo creciente, difusión más general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0000"/>
                </a:solidFill>
                <a:latin typeface="Arial"/>
              </a:rPr>
              <a:t>EVOLUCIÓN DE UN MERCADO DE L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828800" y="1752480"/>
          <a:ext cx="2076480" cy="70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52480"/>
                    <a:ext cx="20764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809720" y="2895480"/>
          <a:ext cx="2076480" cy="704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9720" y="2895480"/>
                    <a:ext cx="20764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809720" y="4038480"/>
          <a:ext cx="2076480" cy="704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9720" y="4038480"/>
                    <a:ext cx="20764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4629240" y="1809720"/>
            <a:ext cx="2286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771560" y="5238720"/>
          <a:ext cx="2076480" cy="7048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71560" y="5238720"/>
                    <a:ext cx="20764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991040" y="1771560"/>
          <a:ext cx="2076480" cy="7048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91040" y="1771560"/>
                    <a:ext cx="20764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952880" y="2971800"/>
          <a:ext cx="3657600" cy="4953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2971800"/>
                    <a:ext cx="36576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933800" y="3924360"/>
          <a:ext cx="3543480" cy="3999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33800" y="3924360"/>
                    <a:ext cx="35434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971960" y="5334120"/>
          <a:ext cx="2762280" cy="4381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71960" y="5334120"/>
                    <a:ext cx="276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921200" y="4444920"/>
          <a:ext cx="3543480" cy="3999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21200" y="4444920"/>
                    <a:ext cx="35434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2800440" y="2438280"/>
            <a:ext cx="0" cy="4572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00440" y="3562200"/>
            <a:ext cx="0" cy="4384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00440" y="4686480"/>
            <a:ext cx="0" cy="5522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2133720"/>
            <a:ext cx="10285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05280" y="3219480"/>
            <a:ext cx="10285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924360" y="4114800"/>
            <a:ext cx="952560" cy="2095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43440" y="4381560"/>
            <a:ext cx="876240" cy="1904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67120" y="5543640"/>
            <a:ext cx="102888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331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0000"/>
                </a:solidFill>
                <a:latin typeface="Arial"/>
              </a:rPr>
              <a:t>MERCADO DE LEASING - ARGEN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1693800"/>
          <a:ext cx="8580240" cy="4965840"/>
        </p:xfrm>
        <a:graphic>
          <a:graphicData uri="http://schemas.openxmlformats.org/drawingml/2006/table">
            <a:tbl>
              <a:tblPr/>
              <a:tblGrid>
                <a:gridCol w="2163600"/>
                <a:gridCol w="2141640"/>
                <a:gridCol w="2135160"/>
                <a:gridCol w="2139840"/>
              </a:tblGrid>
              <a:tr h="13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ENT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N° DE CONTRA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MO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.4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48.8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.6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3.9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.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70.3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.8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696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/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Fuente: A.L.A. - Asociación de Leasing de Argent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0000"/>
                </a:solidFill>
                <a:latin typeface="Arial"/>
              </a:rPr>
              <a:t>ASPECTOS LEG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360" y="1676520"/>
            <a:ext cx="822960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3399"/>
                </a:solidFill>
                <a:latin typeface="Arial"/>
              </a:rPr>
              <a:t>CONCEP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7680" y="2557440"/>
            <a:ext cx="8470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Regido por Ley 25.248 y Decreto 1.038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440" y="3529080"/>
            <a:ext cx="79502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El dador conviene transferir al tomador la tenencia de un cierto y determinado bien para su uso y goce, contra el pago de un canon y le confiere una opción de comp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440" y="5529240"/>
            <a:ext cx="7202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No diferencia distintos tipos de lea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52600" y="40788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0000"/>
                </a:solidFill>
                <a:latin typeface="Arial"/>
              </a:rPr>
              <a:t>ASPECTOS LEG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3009600"/>
            <a:ext cx="84582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333399"/>
                </a:solidFill>
                <a:latin typeface="Arial"/>
              </a:rPr>
              <a:t>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52520" indent="-54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Cosas muebles o inmuebles, marcas,  patentes, modelos industriales y softwa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52520" indent="-54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Pueden incluirse los servicios necesarios para el diseño, la instalación, puesta en marcha y puesta a disposi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0440" y="1832040"/>
            <a:ext cx="760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799"/>
              </a:spcBef>
              <a:buClr>
                <a:srgbClr val="0033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3399"/>
                </a:solidFill>
                <a:latin typeface="Arial"/>
              </a:rPr>
              <a:t>D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s-AR" sz="3200" spc="-1" strike="noStrike">
                <a:solidFill>
                  <a:srgbClr val="0033cc"/>
                </a:solidFill>
                <a:latin typeface="Arial"/>
              </a:rPr>
              <a:t>Cualquier sujeto capaz, sin lím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4T19:42:24Z</dcterms:created>
  <dc:creator>dmorreale</dc:creator>
  <dc:description/>
  <dc:language>en-US</dc:language>
  <cp:lastModifiedBy>C.P.C.E.C.A.B.A.</cp:lastModifiedBy>
  <cp:lastPrinted>2004-07-02T16:39:10Z</cp:lastPrinted>
  <dcterms:modified xsi:type="dcterms:W3CDTF">2004-09-24T15:31:49Z</dcterms:modified>
  <cp:revision>587</cp:revision>
  <dc:subject/>
  <dc:title>CIT:  The Synergy of “Old” and “New” Economy Franchises</dc:title>
</cp:coreProperties>
</file>