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9EE-3DDA-4426-A15C-EC119DAA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51B-E5B0-41B8-802F-C9C9B9FE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AE3-B75B-4ED3-ADF5-0069C27E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215-925C-4FD8-95E9-001379B7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7E0D-C4C0-4328-977C-6371A65A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3320-6378-44F3-ACEF-F389A40F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BC6E-56A8-4063-9DAE-EE9EA6A8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BFE4-8AD0-4370-AD26-9D8C6163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2D95-51BE-491C-B036-5BDC5B7B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4B90-60D3-4D32-8255-DE75A72D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200E-688E-4F45-939C-5EBBA416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4C6-4843-4411-BBC9-330E6900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A78B-8416-4ACF-8BCE-C72D95DF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8C1A-FB80-4378-B04F-5347FA6C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F216-C333-4548-89AF-5BC1A11F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081D-C5A1-4A34-9D12-80867979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C74F-C300-4EC6-845E-1110D0A2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62E-7E8C-4FED-9C7D-10132C58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5B7-1A17-4B8C-8F15-F3DA88AC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096-D127-43A1-8EF7-4FD5320A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83E-A01C-40E5-9850-A835F3FB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A5B-47D1-4B25-9A50-17515D0A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B4C-16D9-427F-B5DC-C2B4C3D8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9DE-0E1B-444C-92FA-3C30C912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83CE-D17D-4087-9B36-FFFFADFF50F1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19A9-1D70-4B41-A6C0-7A0088A8A9B5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893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b2b2b2"/>
                </a:solidFill>
                <a:latin typeface="Arial"/>
              </a:rPr>
              <a:t>Financiamiento e Información: factores de Valor y Volatilidad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b2b2b2"/>
                </a:solidFill>
                <a:latin typeface="Arial"/>
              </a:rPr>
              <a:t>Aldo H. Alon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ores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ales de demandas p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la prax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2b2b2"/>
                </a:solidFill>
                <a:latin typeface="Arial"/>
              </a:rPr>
              <a:t>IMPACTOS NOTORIOS</a:t>
            </a:r>
            <a:r>
              <a:rPr b="1" lang="es-E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b2b2b2"/>
                </a:solidFill>
                <a:latin typeface="Arial"/>
              </a:rPr>
              <a:t>(cont)</a:t>
            </a: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781360"/>
            <a:ext cx="842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esionales en Ciencias Económ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rrupción de una  incumbencia que enfatiza la necesidad d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860640"/>
            <a:ext cx="79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entificar fuentes valor recientemente reconocid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rear el procedimiento que traduzca performances diversas en información de naturaleza financiera, y de exponerla en los términos que el mercado entiende, esto es, medidas de rendimiento y riesg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conocer un nuevo campo decisional: el del mensaje financiero o comunicación con el inversor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misión Nacional de Valores (CNV)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necesidad de la intervención de profesionales en Ciencias Económicas en el suministro de información que acompaña emisiones de obligaciones y capital accionario (Decreto 677/2001 sobre Régimen de la Oferta Públic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2b2b2"/>
                </a:solidFill>
                <a:latin typeface="Arial"/>
              </a:rPr>
              <a:t>IMPACTOS NOTORIOS</a:t>
            </a:r>
            <a:r>
              <a:rPr b="1" lang="es-E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b2b2b2"/>
                </a:solidFill>
                <a:latin typeface="Arial"/>
              </a:rPr>
              <a:t>(cont)</a:t>
            </a: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686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7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Financiamiento y Va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Financiamiento como factor de éxito empresa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Información como factor de volat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Financiamiento como función de la información revel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Financiamiento y Va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763640" y="2532240"/>
                <a:ext cx="496908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N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/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Financiamiento: factor de éxito empresa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16000" y="2349360"/>
            <a:ext cx="7343640" cy="3240360"/>
            <a:chOff x="1116000" y="2349360"/>
            <a:chExt cx="7343640" cy="3240360"/>
          </a:xfrm>
        </p:grpSpPr>
        <p:sp>
          <p:nvSpPr>
            <p:cNvPr id="108" name=""/>
            <p:cNvSpPr/>
            <p:nvPr/>
          </p:nvSpPr>
          <p:spPr>
            <a:xfrm>
              <a:off x="5148360" y="3079800"/>
              <a:ext cx="874440" cy="358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52520" y="4311720"/>
              <a:ext cx="3078360" cy="309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48360" y="3110040"/>
              <a:ext cx="871560" cy="361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76720" y="3933720"/>
              <a:ext cx="908280" cy="30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77080" y="4724280"/>
              <a:ext cx="942840" cy="30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16000" y="2349360"/>
              <a:ext cx="7337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16000" y="2951280"/>
              <a:ext cx="73375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22480" y="5589720"/>
              <a:ext cx="733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16000" y="2349360"/>
              <a:ext cx="6480" cy="324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46880" y="2371680"/>
              <a:ext cx="0" cy="321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43800" y="2371680"/>
              <a:ext cx="0" cy="321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2080" y="2371680"/>
              <a:ext cx="0" cy="321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042920" y="2327400"/>
            <a:ext cx="78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croemprendimientos                      PyME                       Empres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(Variables Cualitativas)                   Regionales                  Cotiza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4680" y="317556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iderazgo basado en diferenciación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º 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 / AT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º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 / P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5480" y="2973240"/>
            <a:ext cx="92160" cy="36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6680" y="3560760"/>
            <a:ext cx="84391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ntecedentes empresarios previos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º     V / In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Innovación s/ productos preexistentes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2º   AI / AT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3º AC-Inv /  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inanciación con capital propio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4º   UAIT /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onderación del mercado existente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5º      AI /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xperiencia previa en la actividad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3º    V /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77336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Variables asociadas al destino de las organiz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Información como factor de volat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916360" y="2108160"/>
                <a:ext cx="280800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I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Financiamiento como función de la información revel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1320" y="4114800"/>
            <a:ext cx="13096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71640" y="1916280"/>
            <a:ext cx="6810120" cy="3276360"/>
            <a:chOff x="971640" y="1916280"/>
            <a:chExt cx="6810120" cy="3276360"/>
          </a:xfrm>
        </p:grpSpPr>
        <p:grpSp>
          <p:nvGrpSpPr>
            <p:cNvPr id="132" name=""/>
            <p:cNvGrpSpPr/>
            <p:nvPr/>
          </p:nvGrpSpPr>
          <p:grpSpPr>
            <a:xfrm>
              <a:off x="6080040" y="4049640"/>
              <a:ext cx="1701720" cy="446040"/>
              <a:chOff x="6080040" y="4049640"/>
              <a:chExt cx="1701720" cy="446040"/>
            </a:xfrm>
          </p:grpSpPr>
          <p:sp>
            <p:nvSpPr>
              <p:cNvPr id="133" name=""/>
              <p:cNvSpPr/>
              <p:nvPr/>
            </p:nvSpPr>
            <p:spPr>
              <a:xfrm>
                <a:off x="6080040" y="4198320"/>
                <a:ext cx="1701720" cy="29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Informació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21880" y="4049640"/>
                <a:ext cx="1418040" cy="29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Decisiones sobre 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1042920" y="4149720"/>
              <a:ext cx="13096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ecisiones de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inanciamien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9520" y="2179800"/>
              <a:ext cx="1833480" cy="4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esentación tradicio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51000" y="4114800"/>
              <a:ext cx="18334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olítica de dividend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27200" y="3370320"/>
              <a:ext cx="1047600" cy="596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2720" y="2625840"/>
              <a:ext cx="393840" cy="148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0360" y="2179800"/>
              <a:ext cx="22258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terpretación sugeri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94160" y="3370320"/>
              <a:ext cx="1047960" cy="596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91000" y="2476440"/>
              <a:ext cx="1106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5424480" y="2774880"/>
              <a:ext cx="1309680" cy="446040"/>
              <a:chOff x="5424480" y="2774880"/>
              <a:chExt cx="1309680" cy="446040"/>
            </a:xfrm>
          </p:grpSpPr>
          <p:sp>
            <p:nvSpPr>
              <p:cNvPr id="144" name=""/>
              <p:cNvSpPr/>
              <p:nvPr/>
            </p:nvSpPr>
            <p:spPr>
              <a:xfrm>
                <a:off x="5424480" y="2923560"/>
                <a:ext cx="1178640" cy="29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nversió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424480" y="2774880"/>
                <a:ext cx="1309680" cy="29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Decisiones de 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4140360" y="4005360"/>
              <a:ext cx="1441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ecisiones d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inanciamien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08640" y="4651200"/>
              <a:ext cx="183348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olíticas de dividend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43040" y="3817800"/>
              <a:ext cx="262080" cy="297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19240" y="3220920"/>
              <a:ext cx="262080" cy="298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86560" y="3220920"/>
              <a:ext cx="261720" cy="298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95440" y="3817800"/>
              <a:ext cx="262080" cy="297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10360" y="3817800"/>
              <a:ext cx="261720" cy="297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62400" y="3817800"/>
              <a:ext cx="262080" cy="2970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65120" y="2179800"/>
              <a:ext cx="19638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00680" y="2179800"/>
              <a:ext cx="2095560" cy="4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71640" y="1916280"/>
              <a:ext cx="6418080" cy="3276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2800" y="4584600"/>
              <a:ext cx="1965240" cy="4478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638600" y="4352400"/>
              <a:ext cx="131760" cy="29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35280" y="2852640"/>
              <a:ext cx="107928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ecisiones de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vers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559720" cy="48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erte competencia por fondo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yor y mejor información sobre resultados esperados y riesg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atilidad del contexto como evidencia glob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necesidad de crecimiento no obstante volatilidad crec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globalización de los mercado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mento de la competencia y la complejid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or demanda de confianza por exposiciones crec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rrollos en tecnología informática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liminación de barreras espaciales y tempor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icación de agentes e intermediarios entre deficitarios e invers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or complejidad de la relación empresa-inversore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nsajes más significativos, robustos, precisos, confiables y susceptibles de verif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actores que impulsan esta incumbenci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34800" y="1413000"/>
            <a:ext cx="8676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TO en el mercado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 (la que mejor invierte y mejor se financ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3357720"/>
            <a:ext cx="867564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ITO en el mercado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f (la más y mejor conocida, propiamente entendida y con     mejor trabajo en la creación de confianza para el inversor (Marcus y Wallace, 1997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4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SEC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a responsabilidad de los directivos con los inversores es una importante y decisiva misión (Securities Exchange Act Release Nº 46079, June 14, 200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MPACTOS NOTORIO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4292640"/>
            <a:ext cx="835164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ciones profesional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manda de safe harbor stat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Nacional e Internacional de Finanzas de la Empresa, Buenos Aires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23:28:20Z</dcterms:created>
  <dc:creator>A</dc:creator>
  <dc:description/>
  <dc:language>en-US</dc:language>
  <cp:lastModifiedBy>C.P.C.E.C.A.B.A.</cp:lastModifiedBy>
  <dcterms:modified xsi:type="dcterms:W3CDTF">2004-09-24T15:29:04Z</dcterms:modified>
  <cp:revision>15</cp:revision>
  <dc:subject/>
  <dc:title>Financiamiento e Información: factores de Valor y Volatilidad</dc:title>
</cp:coreProperties>
</file>