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251-C6D1-4BAC-8353-29361041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2BE-2F72-4DD2-95CC-6C64C2A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CF1-4447-45B4-B5E2-2B765F3A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554-9E8A-4496-8C1B-807776FE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F7F9-738F-4F82-B2DF-1230075B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C822-056D-42EC-A6A6-92EC841A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DC24-1C4C-49DE-B380-97FC24FA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3CA6-D591-4F08-81B6-09C049D2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F0E-8AD5-4F24-ABC7-9645773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6ACB-B424-422A-97D4-685D4A4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5382-7B09-4698-89F1-BBB0F9C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E4A-7171-4D7D-928A-3252C8C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1D0-0A30-4104-9BA1-C6CFC76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584-CC15-4F18-9460-28844EC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02F6-F1F5-4AA6-B02F-C8707EB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60A8-323E-46D7-9691-E6C7B5ED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EEFA-AA56-4B95-8698-00D90060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C8C-861C-43A5-98A8-F8AF3FF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90A-E066-496A-A228-9260A86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82B-1C1C-404F-895C-73C6DB5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611-370C-4BE1-8B72-9563EC6C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56E-FEE1-4926-99AD-698506B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9AA-3DFD-41F1-8537-D274673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35F-7C80-4DBB-8DFF-BE538051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457-9E25-4D4F-A616-9962278FDD0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667-77F7-48E3-9390-7471FD52CC0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b2b2b2"/>
                </a:solidFill>
                <a:latin typeface="Arial"/>
              </a:rPr>
              <a:t>Financiamiento e Información: factores de Valor y Volatilida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b2b2b2"/>
                </a:solidFill>
                <a:latin typeface="Arial"/>
              </a:rPr>
              <a:t>Aldo H. Alon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ore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ales de demandas p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la pr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78136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ionales en Ciencias Económ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rrupción de una  incumbencia que enfatiza la necesidad 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860640"/>
            <a:ext cx="79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fuentes valor recientemente reconocid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ar el procedimiento que traduzca performances diversas en información de naturaleza financiera, y de exponerla en los términos que el mercado entiende, esto es, medidas de rendimiento y ries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r un nuevo campo decisional: el del mensaje financiero o comunicación con el inverso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misión Nacional de Valores (CNV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ecesidad de la intervención de profesionales en Ciencias Económicas en el suministro de información que acompaña emisiones de obligaciones y capital accionario (Decreto 677/2001 sobre Régimen de la Oferta Públi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actor de éxito empresa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63640" y="2532240"/>
                <a:ext cx="49690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N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: factor de éxito empresa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16000" y="2349360"/>
            <a:ext cx="7343640" cy="3240360"/>
            <a:chOff x="1116000" y="2349360"/>
            <a:chExt cx="7343640" cy="3240360"/>
          </a:xfrm>
        </p:grpSpPr>
        <p:sp>
          <p:nvSpPr>
            <p:cNvPr id="108" name=""/>
            <p:cNvSpPr/>
            <p:nvPr/>
          </p:nvSpPr>
          <p:spPr>
            <a:xfrm>
              <a:off x="5148360" y="3079800"/>
              <a:ext cx="874440" cy="358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2520" y="4311720"/>
              <a:ext cx="3078360" cy="309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110040"/>
              <a:ext cx="871560" cy="361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76720" y="3933720"/>
              <a:ext cx="90828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7080" y="4724280"/>
              <a:ext cx="94284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6000" y="2349360"/>
              <a:ext cx="733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6000" y="2951280"/>
              <a:ext cx="7337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2480" y="5589720"/>
              <a:ext cx="733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6000" y="2349360"/>
              <a:ext cx="6480" cy="324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68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4380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20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42920" y="2327400"/>
            <a:ext cx="78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croemprendimientos                      PyME                       Empre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Variables Cualitativas)                   Regionales                  Cotiz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680" y="31755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iderazgo basado en diferenciación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AT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5480" y="2973240"/>
            <a:ext cx="92160" cy="36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680" y="3560760"/>
            <a:ext cx="84391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tecedentes empresarios previo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º     V / In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novación s/ productos preexistente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2º   AI / AT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3º AC-Inv / 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ción con capital propio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4º   UAIT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nderación del mercado existente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º      AI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periencia previa en la actividad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º    V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7336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ariables asociadas al destino de las 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16360" y="2108160"/>
                <a:ext cx="28080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I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1320" y="4114800"/>
            <a:ext cx="1309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71640" y="1916280"/>
            <a:ext cx="6810120" cy="3276360"/>
            <a:chOff x="971640" y="1916280"/>
            <a:chExt cx="6810120" cy="3276360"/>
          </a:xfrm>
        </p:grpSpPr>
        <p:grpSp>
          <p:nvGrpSpPr>
            <p:cNvPr id="132" name=""/>
            <p:cNvGrpSpPr/>
            <p:nvPr/>
          </p:nvGrpSpPr>
          <p:grpSpPr>
            <a:xfrm>
              <a:off x="6080040" y="4049640"/>
              <a:ext cx="1701720" cy="446040"/>
              <a:chOff x="6080040" y="4049640"/>
              <a:chExt cx="1701720" cy="446040"/>
            </a:xfrm>
          </p:grpSpPr>
          <p:sp>
            <p:nvSpPr>
              <p:cNvPr id="133" name=""/>
              <p:cNvSpPr/>
              <p:nvPr/>
            </p:nvSpPr>
            <p:spPr>
              <a:xfrm>
                <a:off x="6080040" y="4198320"/>
                <a:ext cx="170172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In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21880" y="4049640"/>
                <a:ext cx="14180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sobr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042920" y="4149720"/>
              <a:ext cx="1309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9520" y="2179800"/>
              <a:ext cx="183348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sentación tradicio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1000" y="4114800"/>
              <a:ext cx="18334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7200" y="3370320"/>
              <a:ext cx="104760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2720" y="2625840"/>
              <a:ext cx="393840" cy="148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0360" y="2179800"/>
              <a:ext cx="22258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rpretación sugeri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94160" y="3370320"/>
              <a:ext cx="104796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91000" y="2476440"/>
              <a:ext cx="110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424480" y="2774880"/>
              <a:ext cx="1309680" cy="446040"/>
              <a:chOff x="5424480" y="2774880"/>
              <a:chExt cx="1309680" cy="446040"/>
            </a:xfrm>
          </p:grpSpPr>
          <p:sp>
            <p:nvSpPr>
              <p:cNvPr id="144" name=""/>
              <p:cNvSpPr/>
              <p:nvPr/>
            </p:nvSpPr>
            <p:spPr>
              <a:xfrm>
                <a:off x="5424480" y="2923560"/>
                <a:ext cx="11786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vers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24480" y="2774880"/>
                <a:ext cx="130968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d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140360" y="4005360"/>
              <a:ext cx="1441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8640" y="4651200"/>
              <a:ext cx="18334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s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30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9240" y="3220920"/>
              <a:ext cx="26208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6560" y="3220920"/>
              <a:ext cx="26172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54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0360" y="3817800"/>
              <a:ext cx="26172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5120" y="2179800"/>
              <a:ext cx="196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00680" y="2179800"/>
              <a:ext cx="209556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1916280"/>
              <a:ext cx="6418080" cy="327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2800" y="4584600"/>
              <a:ext cx="1965240" cy="447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638600" y="4352400"/>
              <a:ext cx="131760" cy="29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35280" y="2852640"/>
              <a:ext cx="1079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vers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5972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rte competencia por fon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or y mejor información sobre resultados esperados y ries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atilidad del contexto como evidencia glob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necesidad de crecimiento no obstante volatilidad cre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globalización de los merca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mento de la competencia y la complej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demanda de confianza por exposiciones cre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s en tecnología informátic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liminación de barreras espaciales y tempor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icación de agentes e intermediarios entre deficitarios e inver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complejidad de la relación empresa-inversore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sajes más significativos, robustos, precisos, confiables y susceptibles de verif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actores que impulsan esta incumbenci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34800" y="1413000"/>
            <a:ext cx="867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 (la que mejor invierte y mejor se financ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57720"/>
            <a:ext cx="86756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f (la más y mejor conocida, propiamente entendida y con     mejor trabajo en la creación de confianza para el inversor (Marcus y Wallace, 1997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SEC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responsabilidad de los directivos con los inversores es una importante y decisiva misión (Securities Exchange Act Release Nº 46079, June 14, 200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292640"/>
            <a:ext cx="8351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ciones profesional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a de safe harbor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3:28:20Z</dcterms:created>
  <dc:creator>A</dc:creator>
  <dc:description/>
  <dc:language>en-US</dc:language>
  <cp:lastModifiedBy>C.P.C.E.C.A.B.A.</cp:lastModifiedBy>
  <dcterms:modified xsi:type="dcterms:W3CDTF">2004-09-24T15:29:04Z</dcterms:modified>
  <cp:revision>15</cp:revision>
  <dc:subject/>
  <dc:title>Financiamiento e Información: factores de Valor y Volatilidad</dc:title>
</cp:coreProperties>
</file>