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857F-D885-44C7-A455-E237A3566EF7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6615-DA8E-4B60-A59B-12F1CE0B08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6460B-39B0-46CD-8808-2DDF12CF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761EF-C5D7-4EEB-8417-7C824DDE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860ED-2159-481F-B7AC-7C6F5FE4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E6987-E071-4392-9860-E9AE5FDC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DC57-85AB-43B7-93AE-78DCC6AE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463A-280E-44E9-A58F-B32F42C2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D1E0-88AE-449A-A7DF-537384E7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8F26-6444-4BEB-8F2B-15FCD34B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7E3C-84EB-4C7D-BBE9-235F0111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015F-3ADB-4E5A-8141-E3194B3D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260A-AE51-4D26-98EF-FD86CCC2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D703-E5AE-4BAF-9FF3-521C5AE0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C764-A678-4C2D-A544-765AB3B3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C9FC-7245-4CD2-BE86-F3905D12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C4BB-5E42-4043-8865-94F04795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59E1-A5CE-43F5-9B01-054D6FF8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C205-A4D5-4610-9B0F-1EDB02E5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858BC-3910-4B02-93AC-26617D88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6360E-8BA5-4267-8482-593211B2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B792B-21CF-45D7-BEA5-B6C2B74A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1A71F-0BEA-4AB8-85B4-33F4DDDC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579D8-B8E9-43C0-A441-94CB03AD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3D55D-2079-402C-94D8-44DF5F33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AE675-6E09-4090-8CDC-A1A34562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47AD-26B2-4BF3-9458-1148B13B66E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4214-28CF-40DA-A755-26D72409C6E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5400" y="1886040"/>
            <a:ext cx="43812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33280" y="1141200"/>
            <a:ext cx="8785440" cy="54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dministración Financiera de Empresa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436760" y="2335320"/>
            <a:ext cx="65516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rmAutofit fontScale="82000"/>
          </a:bodyPr>
          <a:p>
            <a:pPr marL="281160" indent="-281160"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1818ff"/>
                </a:solidFill>
                <a:latin typeface="Arial"/>
              </a:rPr>
              <a:t>Decisiones de Invers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692360" y="4724280"/>
            <a:ext cx="604044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rmAutofit/>
          </a:bodyPr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Universidad Nacional de Sal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Fac. de Cs. Económicas, Jurídicas y Socia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809800" y="5921280"/>
            <a:ext cx="3632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rmAutofit fontScale="92000"/>
          </a:bodyPr>
          <a:p>
            <a:pPr marL="315360" indent="-3153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lan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Año 2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2320" y="2189160"/>
            <a:ext cx="4825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rmAutofit/>
          </a:bodyPr>
          <a:p>
            <a:pPr marL="343080" indent="-343080"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1818ff"/>
                </a:solidFill>
                <a:latin typeface="Arial"/>
              </a:rPr>
              <a:t>Capítulo V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212920" y="3154320"/>
            <a:ext cx="4826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565ff"/>
                </a:solidFill>
                <a:latin typeface="Arial"/>
              </a:rPr>
              <a:t>Formación Práctica – Solu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565ff"/>
                </a:solidFill>
                <a:latin typeface="Arial"/>
              </a:rPr>
              <a:t>Vinos Reg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NOS REGIONALES – CASO PRACTIC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56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NOS REGIONALES – CASO PRACTICO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136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NOS REGIONALES – CASO PRACTICO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NOS REGIONALES – CASO PRACTICO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5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NOS REGIONALES – CASO PRACTICO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51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NOS REGIONALES – CASO PRACTICO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NOS REGIONALES – CASO PRACTICO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IR PROYECTO PUR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1,3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IR 1º ALTERNATIV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5,7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IR 2º ALTERNATIV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5,77%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01:07:04Z</dcterms:created>
  <dc:creator>Miguel Isola</dc:creator>
  <dc:description/>
  <dc:language>en-US</dc:language>
  <cp:lastModifiedBy>Kari</cp:lastModifiedBy>
  <dcterms:modified xsi:type="dcterms:W3CDTF">2020-11-20T17:31:01Z</dcterms:modified>
  <cp:revision>8</cp:revision>
  <dc:subject/>
  <dc:title>VINOS REGIONALES – CASO PRACTICO</dc:title>
</cp:coreProperties>
</file>