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C19-835D-43BB-ACCD-07B21BB0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225-F575-4944-A436-08566E41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3C8-E44A-4606-AED9-ECCEEED7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D00-935A-4D3D-86BB-0D4C2D19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75D-5D13-4C0B-A974-AD885A6B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B7E-4D64-48A8-B303-F9E61E0D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4EB-8F33-4E9D-826B-6B2BB584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C02-8389-41AC-9039-74961677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AC1-B2BA-4BFD-8295-1EC35823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C47-D283-4858-AC24-AECAFDFF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370-4465-4B1A-A589-089089BD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758-32AF-41A7-897C-CC67688E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6318-0CAA-4E91-849A-0FE752400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so Prác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GEORGALOS H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tección del Prob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irectorio ( cinco diferentes Accionista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Unidades de Negocios no ren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Unidades de Producción descentraliza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ancamiento en el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lación Cmg / 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to costo de Fun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to nivel de endeud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s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0000"/>
                </a:solidFill>
                <a:latin typeface="Times New Roman"/>
              </a:rPr>
              <a:t>Resultado Operativo Neutro o Nega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¿ Como retornar a una razonable Ganancia Operativ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Elevar la Facturación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Reestructurar integralment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67080" y="380520"/>
            <a:ext cx="4572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estructur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evo Organigr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ificación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atég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omiso de la Gerencia con el mode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ión Inmedi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esupuesto a cinco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estructuración de Pas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estructuración de Gastos  y 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lanzamiento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api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trol Presupues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bjetivos por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.N.  (10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ducción de un 50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centración Fabril con acuerdos de 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cremento en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enta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3962520" y="304920"/>
            <a:ext cx="48765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estructur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4440" y="304560"/>
            <a:ext cx="4800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estructur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Valoración del Resultado Ope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Valoración de las GANA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E01832_" descr=""/>
          <p:cNvPicPr/>
          <p:nvPr/>
        </p:nvPicPr>
        <p:blipFill>
          <a:blip r:embed="rId1"/>
          <a:stretch/>
        </p:blipFill>
        <p:spPr>
          <a:xfrm>
            <a:off x="4648320" y="2297160"/>
            <a:ext cx="3809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01:44:49Z</dcterms:created>
  <dc:creator>GUILLERMO RIMOLDI</dc:creator>
  <dc:description/>
  <dc:language>en-US</dc:language>
  <cp:lastModifiedBy>GUILLERMO RIMOLDI</cp:lastModifiedBy>
  <dcterms:modified xsi:type="dcterms:W3CDTF">2001-08-22T03:32:04Z</dcterms:modified>
  <cp:revision>3</cp:revision>
  <dc:subject/>
  <dc:title>Caso Práctico</dc:title>
</cp:coreProperties>
</file>